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22B-2615-4EE3-AF81-8080C92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9FD-1BE2-4200-8BD8-6E420C0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417-8876-48C6-AC43-F7299E05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970-389E-4224-85BD-44C7D0E2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A9B-9E7D-477C-862A-C39263C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995-2613-45A3-93DD-A1547F4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EC8-0DF7-48DD-9950-F6AAEBFA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A4E-8F18-4630-8015-6BBF2B7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2F3-4A12-4AC7-8291-30C22ED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CC6-5667-4AE7-97A4-8430638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F28-EB4C-4D92-B12C-256603A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602-68B0-486D-B0A8-3D64BD2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3D0D-59EF-40FA-BA57-061D40BE1F2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71280" y="47149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Garamond"/>
              </a:rPr>
              <a:t>Hugues A. Akpona et Bienvenu M. Bos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Unité Focale de Gestion de la C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Direction Générale des Forêts et des Ressources Na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6286680"/>
            <a:ext cx="47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</a:rPr>
              <a:t>Atelier CHM, Bénin, 23-25 Av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044720" cy="1660680"/>
          </a:xfrm>
          <a:prstGeom prst="rect">
            <a:avLst/>
          </a:prstGeom>
          <a:ln w="0">
            <a:noFill/>
          </a:ln>
        </p:spPr>
      </p:pic>
      <p:pic>
        <p:nvPicPr>
          <p:cNvPr id="44" name="Image 1" descr="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1598760"/>
          </a:xfrm>
          <a:prstGeom prst="rect">
            <a:avLst/>
          </a:prstGeom>
          <a:ln w="0">
            <a:noFill/>
          </a:ln>
        </p:spPr>
      </p:pic>
      <p:grpSp>
        <p:nvGrpSpPr>
          <p:cNvPr id="45" name="Espace réservé du texte 4"/>
          <p:cNvGrpSpPr/>
          <p:nvPr/>
        </p:nvGrpSpPr>
        <p:grpSpPr>
          <a:xfrm>
            <a:off x="103320" y="2341440"/>
            <a:ext cx="9010440" cy="1584360"/>
            <a:chOff x="103320" y="2341440"/>
            <a:chExt cx="9010440" cy="1584360"/>
          </a:xfrm>
        </p:grpSpPr>
        <p:pic>
          <p:nvPicPr>
            <p:cNvPr id="46" name="Espace réservé du texte 4" descr=""/>
            <p:cNvPicPr/>
            <p:nvPr/>
          </p:nvPicPr>
          <p:blipFill>
            <a:blip r:embed="rId3"/>
            <a:stretch/>
          </p:blipFill>
          <p:spPr>
            <a:xfrm>
              <a:off x="103320" y="2341440"/>
              <a:ext cx="9010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8000" y="2349360"/>
              <a:ext cx="9001080" cy="15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Garamond"/>
                </a:rPr>
                <a:t>ACQUIS, OBSTACLES ET PERSPECTIVES DU CHM DE 2008 À NOS JOU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itannic Bold"/>
              </a:rPr>
              <a:t>AC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59040"/>
            <a:ext cx="8713800" cy="69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cquis en termes de sensi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ise en œuvre du Projet de sensibilisation des acteurs nationaux sur l’importance des pollinisateurs pour la sécurité alimentaire et la diversité biologique au Bén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cquis en terme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Renforcement de capacités du gestionnaire du CHM à Bruxelles e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ormation nationale des partenaires du CHM e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cquis en termes de renforcement du C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ise en œuvre du Projet de renforcement du site Web du CHM e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Elaboration de la Stratégie Nationale pour le CHM en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ritannic Bold"/>
              </a:rPr>
              <a:t>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294120"/>
            <a:ext cx="8532720" cy="66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Réticence et manque de motivation des acteurs à l’alimentation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Perception du CHM comme concurrent pour les autres sites Web intervenant dans le domaine de la biodiver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Insuffisance de ressources humaines et financières pour le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Communication limitée sur le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anque de renforcement continu de capacités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Difficulté d’accès à l’Internet pour le bon fonctionnement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anque de communication et de sensibilisation sur le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Inexistence d’une base de données sur la biodiversité existante sur le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itannic Bold"/>
              </a:rPr>
              <a:t>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4920" y="280080"/>
            <a:ext cx="896472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bsence de normes de gestion du CHM (Droit d’auteur, cadre institutionnel officiel, comité d’approb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Non désignation d’un point focal CHM entièrement dévolu à la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anque de synergie entre la Stratégie et Plan d’Action National de la CDB et le contenu et la structure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aiblesse de la fourniture d’informations par les partenaires pour l’alimentation du C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aiblesse de l’utilisation de l’information disponible sur le CHM pour la sensibilisation, l’élaboration de projets, plans, stratégies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bsence de règlementation des accords pour la gestion et l’alimentation du contenu par les partenaires conduirait au risque de désengagement en cas de changement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  <a:ea typeface="Times New Roman"/>
              </a:rPr>
              <a:t>Budget et ressources limités pour la gestion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0" y="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itannic Bold"/>
              </a:rPr>
              <a:t>APPROCHES E SOLUTIONS ET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468360" y="601560"/>
            <a:ext cx="835164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méliorer le cadre institutionnel et réglementaire de gestion du C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ssurer une gestion efficace et efficiente du contenu du CHM en conformité avec ses 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ssurer le financement durable du C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Renforcer la formation, la communication, l’éducation et la sensi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ssurer l’actualisation et la mise en œuvre  de la stratégie (avec l’objectif d’Aïchi, NBS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Renforcer la collaboration et la coopération Sud – 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-14400" y="-11160"/>
            <a:ext cx="9174240" cy="6888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476360" y="2276640"/>
            <a:ext cx="6697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0" spc="-1" strike="noStrike">
                <a:solidFill>
                  <a:srgbClr val="ffff00"/>
                </a:solidFill>
                <a:latin typeface="Castellar"/>
              </a:rPr>
              <a:t>MERC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0" y="0"/>
            <a:ext cx="1798920" cy="1007280"/>
            <a:chOff x="0" y="0"/>
            <a:chExt cx="1798920" cy="1007280"/>
          </a:xfrm>
        </p:grpSpPr>
        <p:grpSp>
          <p:nvGrpSpPr>
            <p:cNvPr id="59" name="Group 12"/>
            <p:cNvGrpSpPr/>
            <p:nvPr/>
          </p:nvGrpSpPr>
          <p:grpSpPr>
            <a:xfrm>
              <a:off x="0" y="0"/>
              <a:ext cx="1798920" cy="1007280"/>
              <a:chOff x="0" y="0"/>
              <a:chExt cx="1798920" cy="1007280"/>
            </a:xfrm>
          </p:grpSpPr>
          <p:sp>
            <p:nvSpPr>
              <p:cNvPr id="60" name="Oval 13"/>
              <p:cNvSpPr/>
              <p:nvPr/>
            </p:nvSpPr>
            <p:spPr>
              <a:xfrm>
                <a:off x="0" y="0"/>
                <a:ext cx="1798920" cy="1007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4"/>
              <p:cNvSpPr/>
              <p:nvPr/>
            </p:nvSpPr>
            <p:spPr>
              <a:xfrm>
                <a:off x="448920" y="274320"/>
                <a:ext cx="149040" cy="9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5"/>
              <p:cNvSpPr/>
              <p:nvPr/>
            </p:nvSpPr>
            <p:spPr>
              <a:xfrm>
                <a:off x="1199880" y="274320"/>
                <a:ext cx="149040" cy="9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Arc 16"/>
            <p:cNvSpPr/>
            <p:nvPr/>
          </p:nvSpPr>
          <p:spPr>
            <a:xfrm flipV="1" rot="1081200">
              <a:off x="449280" y="273960"/>
              <a:ext cx="982800" cy="54936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360 h 549360"/>
                <a:gd name="textAreaBottom" fmla="*/ 550080 h 549360"/>
              </a:gdLst>
              <a:ahLst/>
              <a:rect l="textAreaLeft" t="textAreaTop" r="textAreaRight" b="textAreaBottom"/>
              <a:pathLst>
                <a:path fill="none" w="23069" h="21600">
                  <a:moveTo>
                    <a:pt x="0" y="693"/>
                  </a:moveTo>
                  <a:cubicBezTo>
                    <a:pt x="1772" y="232"/>
                    <a:pt x="3596" y="-1"/>
                    <a:pt x="5428" y="0"/>
                  </a:cubicBezTo>
                  <a:cubicBezTo>
                    <a:pt x="12442" y="0"/>
                    <a:pt x="19020" y="3406"/>
                    <a:pt x="23068" y="9135"/>
                  </a:cubicBezTo>
                </a:path>
                <a:path stroke="0" w="23069" h="21600">
                  <a:moveTo>
                    <a:pt x="0" y="693"/>
                  </a:moveTo>
                  <a:cubicBezTo>
                    <a:pt x="1772" y="232"/>
                    <a:pt x="3596" y="-1"/>
                    <a:pt x="5428" y="0"/>
                  </a:cubicBezTo>
                  <a:cubicBezTo>
                    <a:pt x="12442" y="0"/>
                    <a:pt x="19020" y="3406"/>
                    <a:pt x="23068" y="9135"/>
                  </a:cubicBezTo>
                  <a:lnTo>
                    <a:pt x="542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0" y="4656240"/>
            <a:ext cx="2849400" cy="22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3"/>
          <a:stretch/>
        </p:blipFill>
        <p:spPr>
          <a:xfrm>
            <a:off x="7551720" y="4808520"/>
            <a:ext cx="15922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5:20:52Z</dcterms:created>
  <dc:creator>Rachel</dc:creator>
  <dc:description/>
  <dc:language>en-US</dc:language>
  <cp:lastModifiedBy>akpona hugues</cp:lastModifiedBy>
  <dcterms:modified xsi:type="dcterms:W3CDTF">2012-04-23T11:38:39Z</dcterms:modified>
  <cp:revision>101</cp:revision>
  <dc:subject/>
  <dc:title>Diapositive 1</dc:title>
</cp:coreProperties>
</file>