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A555-1E4C-44EA-B83C-1973D7DCFC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DDBE-037F-4D56-8111-38AD26FC4B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78B-5862-44F7-83D0-FB216B7C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CE8-1AA6-4DDB-B92A-7134EC2E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6A6-AF22-4120-9E32-4B508F3C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508-0138-4364-9589-4BEA5C21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8982-A454-4236-865D-EBA40F09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7F54-A095-4A52-9E6A-9FD2E001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CC06-3838-46FC-97A4-965BE405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42BE-35E3-4E0C-87A5-355E22BA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D5AB-BF54-466B-A3F2-7B2C2AC7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B674-3CBA-4716-B695-E5BFEDA9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EA2F-A335-42C7-BA7D-0C53FB14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EFA-DFFB-465D-943E-46812ACB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A160-5D57-4E2B-8DF7-EB7AC300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0E1D-E736-462D-AAEB-B86E27F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8369-2D2C-4F02-A478-1E21A5BA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E485-6213-4679-987B-AD049797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8A6F-12DE-4D28-86DF-7C955FA9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D609-0D02-4377-911D-2BD0B603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9D3D-34D9-4BD8-974E-AC7EA7D9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D567-0E3E-4630-A6D0-8DA9E8AD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BC43-550F-4A51-93DF-C4E2F8A4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7C38-903F-4110-9D6E-5B543FC1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19D-9504-4353-9881-8384DAA2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9976-DA3F-4302-A130-3384C516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0B1E-FDCD-4681-BD09-4DD256B3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9345-68C8-4A42-B998-6D68FE7E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A5DC-41E0-48E4-9E80-3B8FE561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E2CE-B2E2-46E0-85F4-B3E19D93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F1B8-9AFE-45A7-BC76-A01F1517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E4CC-A8D2-4C61-B512-F62094F8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E753-4CEA-4828-AE41-D64F0AF7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0DAF4-D33B-430B-B8E0-4216F4D0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2969-D433-424F-ADD3-9DC8AB8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E97-776A-4C65-8571-93A1A5D9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368F-9AB8-442B-86B8-D5C98BF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6EB9-F27B-4B61-A9D8-1637055F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142A-BFFF-4969-AB3B-85C9A36E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D300-5169-4576-B0C2-5D9B6D8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CBCF-C95E-421C-8CEB-ABF91EF3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568C5-06C1-4530-B113-5EF8CC7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30B0-9A45-4474-9334-A0A21CDA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90D1D-E574-4E31-B32B-C65E468C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DE921-E08C-459A-894B-3B5D702F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C8646-EC75-4201-B892-67ACDC6B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000-0BA6-455C-A592-DAACE55C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6938B-3CBA-42C7-AB78-535924C0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3CEBF-3259-40C2-8CF7-70723025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1930-EB11-40F1-9A8E-D1EC468F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16957-1EAE-4405-BF26-EB2CBD2A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9874-3B6F-4474-ACF6-AA12EE82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876C-7D74-4C93-8291-F6F3FC6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8A04-955A-4813-8CA1-321B8DE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0737-4A8E-49EF-BABA-2B4F8A45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29E0F-FDE5-4F4F-97B4-D898FDB3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1D49B-47F7-4B84-A21B-5B548104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6CC-01AA-4903-AFC5-CBD7F219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CFF75-83CB-40AD-BA5F-C888B218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A8DC-5BE2-414E-9D3C-1D00315D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47480-C5AF-441B-9319-B15AC98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82DC9-6694-4579-BFE4-BA78D6BD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44E67-116E-4D36-A008-21ED2093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4944-1E45-4132-81D8-CAC22987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64DB-06B4-4C45-A61B-4C7709D0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590A-95C1-4951-9EBA-0ED64EBF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F2F59-E5F2-40EE-90BE-7904FBE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B161A-D8C8-426B-833D-244E6C83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FAE-099C-4C4F-8857-DCA0115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B5E3D-81EE-42DF-9A8E-85310897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97915-49E2-4C60-9E6D-BD8D0DA5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675DB-6902-4327-97C0-18784E18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AD9B-A2A7-4F40-8AD5-1D123CCD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CA28E-CA4C-4463-BA7D-71EAC2B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C488-F878-42CF-8420-AB2C4896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43D5-0225-4941-8DA2-D677C395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60D04-2993-44B8-AA1F-DAF5733C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FA9A8-CD3B-44AB-B876-83C304B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CA4D-A902-4C80-AE6D-9869EDAD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F02-C76E-42F1-B5A5-9B27992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42BB5-2244-4418-9DE4-4B5E317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39545-5665-4FE1-BB45-9AC5A6D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1D025-DD7A-4DE2-8CB9-3C5793CA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743B-F88E-44DE-8A11-734A190D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C96F0-C611-45C6-A9D5-472887F5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360-D5AE-4D8E-A408-408D18E9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ecteurs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Bouée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Bouée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25E-C49D-47BB-8146-E9D0603F1E80}" type="slidenum"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cteurs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Bouée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Bouée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lipse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lipse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lips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99FD-5B9E-4433-A5CB-88321BAF582F}" type="slidenum"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lipse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lipse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lips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3385-F723-4A40-B12B-D8637C6E94D1}" type="slidenum"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4004-8E6B-4E61-ACE6-00BDC6EC3D92}" type="slidenum"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F751-EFCE-40CE-A43D-D09F4F1660CE}" type="slidenum"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232-C9E8-421E-9EC2-D001F4DCE3C3}" type="slidenum"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Organigramme : Processu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rganigramme : Processu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4C1A-A753-4B72-8F35-6A17A31584E3}" type="slidenum">
              <a:rPr b="0" lang="fr-FR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785880" y="142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8"/>
          <p:cNvSpPr/>
          <p:nvPr/>
        </p:nvSpPr>
        <p:spPr>
          <a:xfrm>
            <a:off x="1143000" y="519912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Book Antiqua"/>
              </a:rPr>
              <a:t>Presenté Boureima Boubacar (M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Book Antiqua"/>
              </a:rPr>
              <a:t>Secrétariat Executif du Conseil National de l’Environnement pour un Développement Durable (SE/CNEDD), Ni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2143080" y="278676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résentation sur le CHM N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6" descr=""/>
          <p:cNvPicPr/>
          <p:nvPr/>
        </p:nvPicPr>
        <p:blipFill>
          <a:blip r:embed="rId1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330" name="Image 1" descr="CNEDD Nouveau"/>
          <p:cNvPicPr/>
          <p:nvPr/>
        </p:nvPicPr>
        <p:blipFill>
          <a:blip r:embed="rId2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:\Users\Mounjo\Desktop\JIB-2012\Logo-Plan-strategique.png"/>
          <p:cNvPicPr/>
          <p:nvPr/>
        </p:nvPicPr>
        <p:blipFill>
          <a:blip r:embed="rId3"/>
          <a:stretch/>
        </p:blipFill>
        <p:spPr>
          <a:xfrm>
            <a:off x="210960" y="2143080"/>
            <a:ext cx="646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ZoneTexte 10"/>
          <p:cNvSpPr/>
          <p:nvPr/>
        </p:nvSpPr>
        <p:spPr>
          <a:xfrm>
            <a:off x="2500200" y="214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tivités en 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Image 1" descr="CNEDD Nouveau"/>
          <p:cNvPicPr/>
          <p:nvPr/>
        </p:nvPicPr>
        <p:blipFill>
          <a:blip r:embed="rId1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sp>
        <p:nvSpPr>
          <p:cNvPr id="334" name="ZoneTexte 6"/>
          <p:cNvSpPr/>
          <p:nvPr/>
        </p:nvSpPr>
        <p:spPr>
          <a:xfrm>
            <a:off x="1285920" y="1000080"/>
            <a:ext cx="671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dynamisation du CHM à travers la révision des documents mis en lig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aboration d’un plan de travail pour la période 2012-2013 pour appuyer la révision de la NBSA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llecte des données auprès des partenaires afin d’alimenter le si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’un comité national CHM, afin d’assurer le suivi de l’évolution du si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arrangement des documents mis en ligne (corrections des erreu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p load des i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C:\Users\Mounjo\Desktop\JIB-2012\Logo-Plan-strategique.png"/>
          <p:cNvPicPr/>
          <p:nvPr/>
        </p:nvPicPr>
        <p:blipFill>
          <a:blip r:embed="rId2"/>
          <a:stretch/>
        </p:blipFill>
        <p:spPr>
          <a:xfrm>
            <a:off x="210960" y="2286000"/>
            <a:ext cx="646200" cy="2536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"/>
          <p:cNvPicPr/>
          <p:nvPr/>
        </p:nvPicPr>
        <p:blipFill>
          <a:blip r:embed="rId3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0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Un sommaire des résultats depuis 2008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9284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site Internet national CHM a été réactualisé et mis à jour grâce à l’appui de la  coopération belge au développement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site est passé de la page classique au PTK (ne.cmh-cbd.net) (Aussi, les informations  contenues dans le premier site ont transféré sur le PTK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e cadre de la sensibilisation du public en vue de la promotion du Centre  d’Echange d’informations CHM, le Niger a bénéficié d’un appui de 5.000 Euro pour son projet « Femmes, connaissances traditionnelles et conservation de la diversité biologique dans le Parc du W »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Arial"/>
              </a:rPr>
              <a:t>Appui à l’élaboration d’une brochure de sensibilisation à l’intention des jeunes scolair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Arial"/>
              </a:rPr>
              <a:t>Session de formation des contributeurs nationaux en 2009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Arial"/>
              </a:rPr>
              <a:t>Session de formation des administrateurs des CHM à Bruxelles, novembre 201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10" descr="C:\Users\Mounjo\Desktop\JIB-2012\Logo-Plan-strategique.png"/>
          <p:cNvPicPr/>
          <p:nvPr/>
        </p:nvPicPr>
        <p:blipFill>
          <a:blip r:embed="rId1"/>
          <a:stretch/>
        </p:blipFill>
        <p:spPr>
          <a:xfrm>
            <a:off x="214200" y="2286000"/>
            <a:ext cx="646200" cy="2536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6" descr=""/>
          <p:cNvPicPr/>
          <p:nvPr/>
        </p:nvPicPr>
        <p:blipFill>
          <a:blip r:embed="rId2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341" name="Image 1" descr="CNEDD Nouveau"/>
          <p:cNvPicPr/>
          <p:nvPr/>
        </p:nvPicPr>
        <p:blipFill>
          <a:blip r:embed="rId3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Image 1" descr="CNEDD Nouveau"/>
          <p:cNvPicPr/>
          <p:nvPr/>
        </p:nvPicPr>
        <p:blipFill>
          <a:blip r:embed="rId1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4"/>
          <p:cNvSpPr/>
          <p:nvPr/>
        </p:nvSpPr>
        <p:spPr>
          <a:xfrm>
            <a:off x="3729240" y="14292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réus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oneTexte 15"/>
          <p:cNvSpPr/>
          <p:nvPr/>
        </p:nvSpPr>
        <p:spPr>
          <a:xfrm>
            <a:off x="1214280" y="41403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sits on the range of time: 23 Mar 2012 - 22 Ap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0" descr="C:\Users\Mounjo\Desktop\JIB-2012\Logo-Plan-strategique.png"/>
          <p:cNvPicPr/>
          <p:nvPr/>
        </p:nvPicPr>
        <p:blipFill>
          <a:blip r:embed="rId2"/>
          <a:stretch/>
        </p:blipFill>
        <p:spPr>
          <a:xfrm>
            <a:off x="142920" y="2286000"/>
            <a:ext cx="646200" cy="2536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"/>
          <p:cNvPicPr/>
          <p:nvPr/>
        </p:nvPicPr>
        <p:blipFill>
          <a:blip r:embed="rId3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"/>
          <p:cNvGraphicFramePr/>
          <p:nvPr/>
        </p:nvGraphicFramePr>
        <p:xfrm>
          <a:off x="1523880" y="4449600"/>
          <a:ext cx="6096240" cy="2194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isi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geview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,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ges/Visi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ounce Rat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4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vg. Time on Sit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0:02: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New Visi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.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ZoneTexte 15"/>
          <p:cNvSpPr/>
          <p:nvPr/>
        </p:nvSpPr>
        <p:spPr>
          <a:xfrm>
            <a:off x="1366920" y="928800"/>
            <a:ext cx="757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agent est recruté pour s’occuper spécifiquement du CH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rise du CHM dans la révision de la NBSAP du Ni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aboration d’une brochure de sensibilisation à l’intention des jeunes scolaires (pas édité), le conservateur du parc W a recommandé que cette sensibilisation soit élargie à d’autres villages autour du par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aboration d’une brochure explicative de la CBD à l’intention des élus locaux grâce à l’appui du Programme d’Actions Communautaires (PA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 1" descr="CNEDD Nouveau"/>
          <p:cNvPicPr/>
          <p:nvPr/>
        </p:nvPicPr>
        <p:blipFill>
          <a:blip r:embed="rId1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5"/>
          <p:cNvSpPr/>
          <p:nvPr/>
        </p:nvSpPr>
        <p:spPr>
          <a:xfrm>
            <a:off x="2928960" y="42876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blèmes rencon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6"/>
          <p:cNvSpPr/>
          <p:nvPr/>
        </p:nvSpPr>
        <p:spPr>
          <a:xfrm>
            <a:off x="1285920" y="142884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 de temps était consacré au CHM (le PF était sollicité par d’autres activité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rdeur administrative (Difficultés à obtenir les informations à temps réel afin de les mettre en lig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bsence de mise en ligne par les contributeurs formé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icultés logistiques (bureautique, connexion internet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uffisance de sensibilisation des acteurs sur l’existence et l’importance du C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0" descr="C:\Users\Mounjo\Desktop\JIB-2012\Logo-Plan-strategique.png"/>
          <p:cNvPicPr/>
          <p:nvPr/>
        </p:nvPicPr>
        <p:blipFill>
          <a:blip r:embed="rId2"/>
          <a:stretch/>
        </p:blipFill>
        <p:spPr>
          <a:xfrm>
            <a:off x="214200" y="2357280"/>
            <a:ext cx="646200" cy="2536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"/>
          <p:cNvPicPr/>
          <p:nvPr/>
        </p:nvPicPr>
        <p:blipFill>
          <a:blip r:embed="rId3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28600" y="0"/>
            <a:ext cx="3429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72314"/>
                </a:solidFill>
                <a:latin typeface="Arial"/>
                <a:ea typeface="Arial"/>
              </a:rPr>
              <a:t>Recommandations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714240"/>
            <a:ext cx="7499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ise en place d’une Comité Nationale CHM (composé des membres de la CTDB), en vue de suivi la mise en œuvre  de activités planifiées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tion d’une stratégie  et un plan d’action CHM afin de mieux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rienter  les activités incluant des mécanismes pour une meilleur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é du site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d’un réseau de contributeurs actifs CHM et leur initiation au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ortail  PTK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cherche de plus de fonds pour la mise en œuvre des activités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ccroitre la visibilité du CHM à traver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 un mailing list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 Recherche d’information sur la biodiversité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 Un newslette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Picture 10" descr="C:\Users\Mounjo\Desktop\JIB-2012\Logo-Plan-strategique.png"/>
          <p:cNvPicPr/>
          <p:nvPr/>
        </p:nvPicPr>
        <p:blipFill>
          <a:blip r:embed="rId1"/>
          <a:stretch/>
        </p:blipFill>
        <p:spPr>
          <a:xfrm>
            <a:off x="214200" y="2357280"/>
            <a:ext cx="646200" cy="2536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"/>
          <p:cNvPicPr/>
          <p:nvPr/>
        </p:nvPicPr>
        <p:blipFill>
          <a:blip r:embed="rId2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360" name="Image 1" descr="CNEDD Nouveau"/>
          <p:cNvPicPr/>
          <p:nvPr/>
        </p:nvPicPr>
        <p:blipFill>
          <a:blip r:embed="rId3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Buts/objectifs à atteindre pour 2020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révu dans la révision de la NBSAP: (un group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’expert déjà mis en pla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laboration d’une stratégie du CHM avec son Plan d’Action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tribution du CHM pour l’atteinte des objectifs du Plan Stratégique 2011-2020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10" descr="C:\Users\Mounjo\Desktop\JIB-2012\Logo-Plan-strategique.png"/>
          <p:cNvPicPr/>
          <p:nvPr/>
        </p:nvPicPr>
        <p:blipFill>
          <a:blip r:embed="rId1"/>
          <a:stretch/>
        </p:blipFill>
        <p:spPr>
          <a:xfrm>
            <a:off x="214200" y="2428920"/>
            <a:ext cx="646200" cy="2536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"/>
          <p:cNvPicPr/>
          <p:nvPr/>
        </p:nvPicPr>
        <p:blipFill>
          <a:blip r:embed="rId2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365" name="Image 1" descr="CNEDD Nouveau"/>
          <p:cNvPicPr/>
          <p:nvPr/>
        </p:nvPicPr>
        <p:blipFill>
          <a:blip r:embed="rId3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rrangements institutionnels à mettre en place afin de garantir la pérennisation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2090520"/>
            <a:ext cx="7499520" cy="36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F Opérationnel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ssistan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stitutionnalisation du PF afin qu’il puisse assurer le flux d’information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Moyen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10" descr="C:\Users\Mounjo\Desktop\JIB-2012\Logo-Plan-strategique.png"/>
          <p:cNvPicPr/>
          <p:nvPr/>
        </p:nvPicPr>
        <p:blipFill>
          <a:blip r:embed="rId1"/>
          <a:stretch/>
        </p:blipFill>
        <p:spPr>
          <a:xfrm>
            <a:off x="214200" y="2357280"/>
            <a:ext cx="646200" cy="2536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6" descr=""/>
          <p:cNvPicPr/>
          <p:nvPr/>
        </p:nvPicPr>
        <p:blipFill>
          <a:blip r:embed="rId2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  <p:pic>
        <p:nvPicPr>
          <p:cNvPr id="370" name="Image 1" descr="CNEDD Nouveau"/>
          <p:cNvPicPr/>
          <p:nvPr/>
        </p:nvPicPr>
        <p:blipFill>
          <a:blip r:embed="rId3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Image 1" descr="CNEDD Nouveau"/>
          <p:cNvPicPr/>
          <p:nvPr/>
        </p:nvPicPr>
        <p:blipFill>
          <a:blip r:embed="rId1"/>
          <a:stretch/>
        </p:blipFill>
        <p:spPr>
          <a:xfrm>
            <a:off x="0" y="0"/>
            <a:ext cx="878040" cy="8557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6"/>
          <p:cNvSpPr/>
          <p:nvPr/>
        </p:nvSpPr>
        <p:spPr>
          <a:xfrm>
            <a:off x="853920" y="5556240"/>
            <a:ext cx="84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b050"/>
                </a:solidFill>
                <a:latin typeface="Book Antiqua"/>
              </a:rPr>
              <a:t>Merci de votre attentio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C:\Users\Mounjo\Desktop\Mise à jour CHM\cuviers-3.jpg"/>
          <p:cNvPicPr/>
          <p:nvPr/>
        </p:nvPicPr>
        <p:blipFill>
          <a:blip r:embed="rId2"/>
          <a:stretch/>
        </p:blipFill>
        <p:spPr>
          <a:xfrm>
            <a:off x="1463760" y="214200"/>
            <a:ext cx="6966000" cy="4643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C:\Users\Mounjo\Desktop\JIB-2012\Logo-Plan-strategique.png"/>
          <p:cNvPicPr/>
          <p:nvPr/>
        </p:nvPicPr>
        <p:blipFill>
          <a:blip r:embed="rId3"/>
          <a:stretch/>
        </p:blipFill>
        <p:spPr>
          <a:xfrm>
            <a:off x="142920" y="2286000"/>
            <a:ext cx="646200" cy="2536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"/>
          <p:cNvPicPr/>
          <p:nvPr/>
        </p:nvPicPr>
        <p:blipFill>
          <a:blip r:embed="rId4"/>
          <a:stretch/>
        </p:blipFill>
        <p:spPr>
          <a:xfrm>
            <a:off x="14400" y="5081760"/>
            <a:ext cx="971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21:28:20Z</dcterms:created>
  <dc:creator>UTILISATEUR</dc:creator>
  <dc:description/>
  <dc:language>en-US</dc:language>
  <cp:lastModifiedBy>Mounjo</cp:lastModifiedBy>
  <dcterms:modified xsi:type="dcterms:W3CDTF">2012-04-23T07:54:59Z</dcterms:modified>
  <cp:revision>217</cp:revision>
  <dc:subject/>
  <dc:title>Diapositive 1</dc:title>
</cp:coreProperties>
</file>