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948D-4A4C-4984-8BF3-3A2D0305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1E4-781B-45CB-A656-BA3F364F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646-5A7A-4E5C-AA13-6BB258AE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A08-EA29-413B-953D-013023B9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D9B-B304-412A-AC40-2A4F7031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5F0-B405-490D-8400-5CE00935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F455-826E-42A0-9211-99CAB388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5D7-13F2-4156-B353-1D104813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3E19-8DA2-4FA9-8D3B-8BC5846D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D96-1DC9-43CE-869F-DF3B1926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E68-00F2-4E17-A0B7-5F316A11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F98-EFAA-47C0-8742-BFF6C7FF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70DB-15E7-4058-98CD-77F5BCD4BFA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ch-cbd.naturalsciences.be/burundi.htm" TargetMode="External"/><Relationship Id="rId2" Type="http://schemas.openxmlformats.org/officeDocument/2006/relationships/hyperlink" Target="http://www.bch-cbd.naturalsciences.be/burundi.htm" TargetMode="External"/><Relationship Id="rId3" Type="http://schemas.openxmlformats.org/officeDocument/2006/relationships/hyperlink" Target="http://bi.chm-cbd.net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360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cc00"/>
                </a:solidFill>
                <a:latin typeface="Arial"/>
              </a:rPr>
              <a:t>Le Centre d’Echange d’Information en matière de Diversité Biologique  au Burundi </a:t>
            </a:r>
            <a:br>
              <a:rPr sz="4000"/>
            </a:br>
            <a:r>
              <a:rPr b="1" i="1" lang="fr-FR" sz="4000" spc="-1" strike="noStrike">
                <a:solidFill>
                  <a:srgbClr val="00cc00"/>
                </a:solidFill>
                <a:latin typeface="Arial"/>
              </a:rPr>
              <a:t>CHM-Burundais:</a:t>
            </a:r>
            <a:br>
              <a:rPr sz="4000"/>
            </a:br>
            <a:r>
              <a:rPr b="1" i="1" lang="fr-FR" sz="4000" spc="-1" strike="noStrike">
                <a:solidFill>
                  <a:srgbClr val="000000"/>
                </a:solidFill>
                <a:latin typeface="Arial"/>
              </a:rPr>
              <a:t>Des réalisations, des contraintes et facteurs de changem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5084280"/>
            <a:ext cx="72741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 Nzigidahera Benoî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FN du C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0000"/>
                </a:solidFill>
                <a:latin typeface="Arial"/>
              </a:rPr>
              <a:t>3. Renforcement des capacités du CHM-Burundais</a:t>
            </a:r>
            <a:r>
              <a:rPr b="0" lang="af-Z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41300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Foncti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le site web du CHM-Burundais est hébergé à titre gratuit par l’IRScNB en Belgiq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ns le but d’assurer cette connexion permanente, projets annuels de renforcement de la connex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 outils de maintenance ont été fournis: Stabilisateurs, Gorilla (batterie solai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3200" spc="-1" strike="noStrike">
                <a:solidFill>
                  <a:srgbClr val="000000"/>
                </a:solidFill>
                <a:latin typeface="Arial"/>
              </a:rPr>
              <a:t>Stratégie Nationale et Plan d’action pour le C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000000"/>
                </a:solidFill>
                <a:latin typeface="Arial"/>
              </a:rPr>
              <a:t>Septembre 2011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projet «  Stratégie Nationale et Plan d’Action en matière d’échange d’informations sur la biodiversité et renforcement du CHM 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2637000"/>
            <a:ext cx="4859280" cy="364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3200" spc="-1" strike="noStrike">
                <a:solidFill>
                  <a:srgbClr val="000000"/>
                </a:solidFill>
                <a:latin typeface="Arial"/>
              </a:rPr>
              <a:t>Formations à la collecte et la diffusion de l’inform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000000"/>
                </a:solidFill>
                <a:latin typeface="Arial"/>
              </a:rPr>
              <a:t>En juin 2006, formation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s gestionnaires web en PTK en Belgique 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f-ZA" sz="2800" spc="-1" strike="noStrike">
                <a:solidFill>
                  <a:srgbClr val="000000"/>
                </a:solidFill>
                <a:latin typeface="Arial"/>
              </a:rPr>
              <a:t>n Juillet 2007,  formation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s PFI web en PTK à Bujumbura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000000"/>
                </a:solidFill>
                <a:latin typeface="Arial"/>
              </a:rPr>
              <a:t>D’autres formations complémentaires des PFI en 2009, 2012 à Bujumb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SC01366"/>
          <p:cNvPicPr/>
          <p:nvPr/>
        </p:nvPicPr>
        <p:blipFill>
          <a:blip r:embed="rId1"/>
          <a:stretch/>
        </p:blipFill>
        <p:spPr>
          <a:xfrm>
            <a:off x="0" y="3867120"/>
            <a:ext cx="40100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79280" y="131760"/>
          <a:ext cx="8712360" cy="6781680"/>
        </p:xfrm>
        <a:graphic>
          <a:graphicData uri="http://schemas.openxmlformats.org/drawingml/2006/table">
            <a:tbl>
              <a:tblPr/>
              <a:tblGrid>
                <a:gridCol w="3468960"/>
                <a:gridCol w="2795400"/>
                <a:gridCol w="1268280"/>
                <a:gridCol w="1179720"/>
              </a:tblGrid>
              <a:tr h="407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Times New Roman Gras"/>
                          <a:ea typeface="Times New Roman"/>
                        </a:rPr>
                        <a:t>Institu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Times New Roman Gras"/>
                          <a:ea typeface="Times New Roman"/>
                        </a:rPr>
                        <a:t>Ressources huma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Times New Roman Gras"/>
                          <a:ea typeface="Times New Roman"/>
                        </a:rPr>
                        <a:t>Formations su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Times New Roman Gras"/>
                          <a:ea typeface="Times New Roman"/>
                        </a:rPr>
                        <a:t>la gestion we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Times New Roman Gras"/>
                          <a:ea typeface="Times New Roman"/>
                        </a:rPr>
                        <a:t>Observ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itutions éta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1000">
                <a:tc rowSpan="3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itut National pour l’Environnement et la Conservation de la N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Biologiste PFN-C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4 f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Act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Biologiste PFI-C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2 f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Act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Ingénieur Agronome PFI-C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1 f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Act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Ingénieur Agronome PFI-C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2 f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Non act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ion Général des Forêts et 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vironnement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Ingénieur Agronome PFI-C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3 f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Non act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ion Générale de l’Elév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Ingénieur Agronome PFI-C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3 f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Non Act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ion Générale de l’Agricul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Ingénieur Agronome PFI-C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3 f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Non Act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 row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itut des Sciences Agronomiques 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run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Docteur Ingénieur PFI-C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2 f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Non act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Ingénieur Agronome PFI-C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1 f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Non act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e National de Technologie Alimentai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Biologiste PFI-C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3 f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Act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064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ité du Burun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Prof. Biologiste PFI-C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1 f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Non act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Assistant  Biologiste PFI-C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1 f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Non act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sations non gouvernement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f-Z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ociation Burundaise pour les Oisea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Biologiste PFI-C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1 f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Act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f-Z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ociation Protection des Resssources Naturelles pour le Bien-Etre de la Population au Burun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Biologiste PFI-C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1 f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Act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f-Z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ociation Burundaise pour les Etudes d’Impacts Environnementa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Biologiste PFI-C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1 f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 Gras"/>
                          <a:ea typeface="Times New Roman"/>
                        </a:rPr>
                        <a:t>Act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3000" spc="-1" strike="noStrike">
                <a:solidFill>
                  <a:srgbClr val="ff0000"/>
                </a:solidFill>
                <a:latin typeface="Arial"/>
              </a:rPr>
              <a:t>4. Développement des activités de sensibilisation à la mise en oeuvre de la CD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n 2007-2008: </a:t>
            </a: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Projet «Valorisons les connaissances traditionnelles en matière de diversité biologique au Burundi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rois lexiques des noms kirundi sur les oiseaux, les mammifères, les poissons, le lexique des termes environnementaux, le livre sur les ressources biologiques du Burun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5056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telier national de sensibilisation en faveur des institutions nationales, des ONGs, des médias et du secteur privé: «</a:t>
            </a:r>
            <a:r>
              <a:rPr b="0" i="1" lang="fr-BE" sz="3200" spc="-1" strike="noStrike">
                <a:solidFill>
                  <a:srgbClr val="000000"/>
                </a:solidFill>
                <a:latin typeface="Arial"/>
              </a:rPr>
              <a:t>la protection et la valorisation des connaissances traditionnelles associées à la biodiversité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telier écorégional en faveur des représentants des communautés locales de toutes les zones écologiques du pays: </a:t>
            </a:r>
            <a:r>
              <a:rPr b="0" i="1" lang="fr-BE" sz="3200" spc="-1" strike="noStrike">
                <a:solidFill>
                  <a:srgbClr val="000000"/>
                </a:solidFill>
                <a:latin typeface="Arial"/>
              </a:rPr>
              <a:t>Dukingire kandi duteze imbere ubumenyi kavukire ku binyabuz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7928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n 2009, </a:t>
            </a: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projet «</a:t>
            </a:r>
            <a:r>
              <a:rPr b="0" i="1" lang="fr-BE" sz="3200" spc="-1" strike="noStrike">
                <a:solidFill>
                  <a:srgbClr val="0000cc"/>
                </a:solidFill>
                <a:latin typeface="Arial"/>
              </a:rPr>
              <a:t>Amélioration des connaissances sur l’importance des pollinisateurs sauvages aux agroécosystèmes</a:t>
            </a: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»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Trois documents d’études (Memoires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ivret de sensibilisation à la sauvegarde des pollinisateurs sauvages (en kirundi et en françai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n documentaire de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s posters  sur les pollinisateurs sauvages et agricoles au Burun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ux ateliers national et local ont été organisés en faveur respectivement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 institutions  étatiques et  non étatiques et des communautés locales des toutes les zones écologiques du Burundi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af-ZA" sz="2000" spc="-1" strike="noStrike">
                <a:solidFill>
                  <a:srgbClr val="000000"/>
                </a:solidFill>
                <a:latin typeface="Arial"/>
              </a:rPr>
              <a:t>Protégeons les pollinisateurs des écosystèmes forestiers en faveurs des écosystèmes agricoles au Burund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» (</a:t>
            </a:r>
            <a:r>
              <a:rPr b="0" i="1" lang="af-ZA" sz="2000" spc="-1" strike="noStrike">
                <a:solidFill>
                  <a:srgbClr val="000000"/>
                </a:solidFill>
                <a:latin typeface="Arial"/>
              </a:rPr>
              <a:t>Dukingire ibikoko bifasha mw’irondoka ry’ibiterwa vyo mu mashamba cimeza bikagira inkurikizi nziza ku ndimo mu Burundi</a:t>
            </a:r>
            <a:r>
              <a:rPr b="1" lang="af-ZA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4668840" y="3500280"/>
            <a:ext cx="4475160" cy="3357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IMG_0280"/>
          <p:cNvPicPr/>
          <p:nvPr/>
        </p:nvPicPr>
        <p:blipFill>
          <a:blip r:embed="rId2"/>
          <a:stretch/>
        </p:blipFill>
        <p:spPr>
          <a:xfrm>
            <a:off x="0" y="3484440"/>
            <a:ext cx="450072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79280" y="189000"/>
            <a:ext cx="8569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En 2012, </a:t>
            </a:r>
            <a:r>
              <a:rPr b="0" lang="af-ZA" sz="3200" spc="-1" strike="noStrike">
                <a:solidFill>
                  <a:srgbClr val="0000cc"/>
                </a:solidFill>
                <a:latin typeface="Arial"/>
              </a:rPr>
              <a:t>projet </a:t>
            </a:r>
            <a:r>
              <a:rPr b="0" i="1" lang="af-ZA" sz="3200" spc="-1" strike="noStrike">
                <a:solidFill>
                  <a:srgbClr val="0000cc"/>
                </a:solidFill>
                <a:latin typeface="Arial"/>
              </a:rPr>
              <a:t>«Sensibilisation des communautés locales sur la conservation et l’utilisation durable des pollinisateurs des écosystèmes forestiers et agricoles au Burundi: cas des parcs nationaux de la Kibira et de la Ruvubu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f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af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af-ZA" sz="3200" spc="-1" strike="noStrike">
                <a:solidFill>
                  <a:srgbClr val="000000"/>
                </a:solidFill>
                <a:latin typeface="Arial"/>
              </a:rPr>
              <a:t>En cours d’exé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f-ZA" sz="3200" spc="-1" strike="noStrike">
                <a:solidFill>
                  <a:srgbClr val="ff0000"/>
                </a:solidFill>
                <a:latin typeface="Arial"/>
              </a:rPr>
              <a:t>5. Développement des activités de recherche</a:t>
            </a:r>
            <a:br>
              <a:rPr sz="3200"/>
            </a:b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- En 2009 </a:t>
            </a:r>
            <a:r>
              <a:rPr b="0" lang="fr-BE" sz="3200" spc="-1" strike="noStrike">
                <a:solidFill>
                  <a:srgbClr val="0000cc"/>
                </a:solidFill>
                <a:latin typeface="Arial"/>
              </a:rPr>
              <a:t>Projet : Amélioration des connaissances sur l’importance des pollinisateurs sauvages aux agroécosystème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reptilia 146"/>
          <p:cNvPicPr/>
          <p:nvPr/>
        </p:nvPicPr>
        <p:blipFill>
          <a:blip r:embed="rId1"/>
          <a:stretch/>
        </p:blipFill>
        <p:spPr>
          <a:xfrm>
            <a:off x="324000" y="2276640"/>
            <a:ext cx="4176720" cy="3133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Plantes pollinisées2 110"/>
          <p:cNvPicPr/>
          <p:nvPr/>
        </p:nvPicPr>
        <p:blipFill>
          <a:blip r:embed="rId2"/>
          <a:stretch/>
        </p:blipFill>
        <p:spPr>
          <a:xfrm>
            <a:off x="4572000" y="3500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920" y="188640"/>
            <a:ext cx="8029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3200" spc="-1" strike="noStrike">
                <a:solidFill>
                  <a:srgbClr val="00cc00"/>
                </a:solidFill>
                <a:latin typeface="Arial"/>
              </a:rPr>
              <a:t>HISTORIQUE DU CHM-BURUND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360" y="69228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700" spc="-1" strike="noStrike">
                <a:solidFill>
                  <a:srgbClr val="000000"/>
                </a:solidFill>
                <a:latin typeface="Arial"/>
              </a:rPr>
              <a:t>1998, nomination du Point Focal National du CHM 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700" spc="-1" strike="noStrike">
                <a:solidFill>
                  <a:srgbClr val="000000"/>
                </a:solidFill>
                <a:latin typeface="Arial"/>
              </a:rPr>
              <a:t>2001, lettre au Royaume de Belgique pour le partenariat bel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700" spc="-1" strike="noStrike">
                <a:solidFill>
                  <a:srgbClr val="000000"/>
                </a:solidFill>
                <a:latin typeface="Arial"/>
              </a:rPr>
              <a:t>2002, création du </a:t>
            </a:r>
            <a:r>
              <a:rPr b="0" lang="fr-BE" sz="2700" spc="-1" strike="noStrike">
                <a:solidFill>
                  <a:srgbClr val="000000"/>
                </a:solidFill>
                <a:latin typeface="Arial"/>
              </a:rPr>
              <a:t>Site Web burundais : </a:t>
            </a:r>
            <a:r>
              <a:rPr b="0" lang="af-ZA" sz="2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ch-cbd.naturalsciences.be/burundi.htm</a:t>
            </a:r>
            <a:r>
              <a:rPr b="0" lang="af-ZA" sz="27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700" spc="-1" strike="noStrike">
                <a:solidFill>
                  <a:srgbClr val="000000"/>
                </a:solidFill>
                <a:latin typeface="Arial"/>
              </a:rPr>
              <a:t>2003, </a:t>
            </a:r>
            <a:r>
              <a:rPr b="0" lang="fr-BE" sz="2700" spc="-1" strike="noStrike">
                <a:solidFill>
                  <a:srgbClr val="000000"/>
                </a:solidFill>
                <a:latin typeface="Arial"/>
              </a:rPr>
              <a:t>mise en place du Comité de 10 Points Focaux Interinstitutionnels (PFI)  et la formation des PFI sur la création et la gestion des sites sous le Partenariat belg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700" spc="-1" strike="noStrike">
                <a:solidFill>
                  <a:srgbClr val="000000"/>
                </a:solidFill>
                <a:latin typeface="Arial"/>
              </a:rPr>
              <a:t>2005, Atelier régional au Burundi et recommandations pour un moyen de travail performa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f-ZA" sz="2700" spc="-1" strike="noStrike">
                <a:solidFill>
                  <a:srgbClr val="000000"/>
                </a:solidFill>
                <a:latin typeface="Arial"/>
              </a:rPr>
              <a:t>2006, la convention du site web du Burundi depuis </a:t>
            </a:r>
            <a:r>
              <a:rPr b="0" lang="af-ZA" sz="2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ch-cbd.naturalsciences.be/burundi.htm</a:t>
            </a:r>
            <a:r>
              <a:rPr b="0" lang="af-Z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700" spc="-1" strike="noStrike">
                <a:solidFill>
                  <a:srgbClr val="000000"/>
                </a:solidFill>
                <a:latin typeface="Arial"/>
              </a:rPr>
              <a:t>vers</a:t>
            </a:r>
            <a:r>
              <a:rPr b="1" lang="fr-BE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f-ZA" sz="27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.chm-cbd.net</a:t>
            </a:r>
            <a:r>
              <a:rPr b="0" lang="af-ZA" sz="2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BE" sz="3000" spc="-1" strike="noStrike">
                <a:solidFill>
                  <a:srgbClr val="0000cc"/>
                </a:solidFill>
                <a:latin typeface="Arial"/>
              </a:rPr>
              <a:t>En 2011, Projet Renforcement des connaissances taxonomiques sur les pollinisateurs des écosystèmes forestiers et agricoles au Burundi</a:t>
            </a:r>
            <a:r>
              <a:rPr b="0" lang="af-Z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55450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Trois niveaux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renforcement des capacit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cc00"/>
                </a:solidFill>
                <a:latin typeface="Arial"/>
              </a:rPr>
              <a:t>Capacités en matière d’inventaire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f-ZA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i="1" lang="af-ZA" sz="2800" spc="-1" strike="noStrike">
                <a:solidFill>
                  <a:srgbClr val="00cc00"/>
                </a:solidFill>
                <a:latin typeface="Arial"/>
              </a:rPr>
              <a:t>en utilisant plusi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f-ZA" sz="2800" spc="-1" strike="noStrike">
                <a:solidFill>
                  <a:srgbClr val="00cc00"/>
                </a:solidFill>
                <a:latin typeface="Arial"/>
              </a:rPr>
              <a:t>méth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GP3377"/>
          <p:cNvPicPr/>
          <p:nvPr/>
        </p:nvPicPr>
        <p:blipFill>
          <a:blip r:embed="rId1"/>
          <a:stretch/>
        </p:blipFill>
        <p:spPr>
          <a:xfrm>
            <a:off x="5148360" y="1844640"/>
            <a:ext cx="3995640" cy="294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IMGP3382"/>
          <p:cNvPicPr/>
          <p:nvPr/>
        </p:nvPicPr>
        <p:blipFill>
          <a:blip r:embed="rId2"/>
          <a:stretch/>
        </p:blipFill>
        <p:spPr>
          <a:xfrm>
            <a:off x="7410600" y="2205000"/>
            <a:ext cx="1733400" cy="2314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IMGP3438"/>
          <p:cNvPicPr/>
          <p:nvPr/>
        </p:nvPicPr>
        <p:blipFill>
          <a:blip r:embed="rId3"/>
          <a:stretch/>
        </p:blipFill>
        <p:spPr>
          <a:xfrm>
            <a:off x="5148360" y="4524480"/>
            <a:ext cx="3105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3600" spc="-1" strike="noStrike">
                <a:solidFill>
                  <a:srgbClr val="00cc00"/>
                </a:solidFill>
                <a:latin typeface="Arial"/>
              </a:rPr>
              <a:t>Capacités en matière d’identification </a:t>
            </a:r>
            <a:br>
              <a:rPr sz="3600"/>
            </a:br>
            <a:r>
              <a:rPr b="1" i="1" lang="fr-FR" sz="3600" spc="-1" strike="noStrike">
                <a:solidFill>
                  <a:srgbClr val="00cc00"/>
                </a:solidFill>
                <a:latin typeface="Arial"/>
              </a:rPr>
              <a:t>biolo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89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dentification des espèces avec des clés ordinaires d’identification  et des clés itératives informatisé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s méthodes modernes de taxonomie notamment la taxonomie génétique avec l’analyse de l’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Connal pollinisateurs 004"/>
          <p:cNvPicPr/>
          <p:nvPr/>
        </p:nvPicPr>
        <p:blipFill>
          <a:blip r:embed="rId1"/>
          <a:stretch/>
        </p:blipFill>
        <p:spPr>
          <a:xfrm>
            <a:off x="5105520" y="1557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00"/>
                </a:solidFill>
                <a:latin typeface="Arial"/>
              </a:rPr>
              <a:t>Capacités dans les méthodes de conservation des spécime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427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s systèmes de conservation des collections pour les études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dification d’une banque de données sur les pollinisateurs au Buru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IMGP3408"/>
          <p:cNvPicPr/>
          <p:nvPr/>
        </p:nvPicPr>
        <p:blipFill>
          <a:blip r:embed="rId1"/>
          <a:stretch/>
        </p:blipFill>
        <p:spPr>
          <a:xfrm>
            <a:off x="4211640" y="1125360"/>
            <a:ext cx="4500720" cy="3375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P201210_14"/>
          <p:cNvPicPr/>
          <p:nvPr/>
        </p:nvPicPr>
        <p:blipFill>
          <a:blip r:embed="rId2"/>
          <a:stretch/>
        </p:blipFill>
        <p:spPr>
          <a:xfrm>
            <a:off x="5003640" y="3751200"/>
            <a:ext cx="414036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cc"/>
                </a:solidFill>
                <a:latin typeface="Arial"/>
              </a:rPr>
              <a:t>En 2010: Memorandum entre l’INECN et IRSc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ui aux activités de l’INECN axées sur la recherche, l’échange d’information et la conservation de la biodiversité des aires protégées au Burundi (Période 2010-20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3200" spc="-1" strike="noStrike">
                <a:solidFill>
                  <a:srgbClr val="000000"/>
                </a:solidFill>
                <a:latin typeface="Arial"/>
              </a:rPr>
              <a:t>Renforcement des capacités dans la conservation de la biodiversité des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Arial"/>
              </a:rPr>
              <a:t>les inventaires, le suivi et l’évaluation de la  biodiversité des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a formation du personnel de terrain de l’INECN à la collecte standardisée d’informations sur les habitats et les populations faunistiques et à l’intégration de ces connaissances dans les activités de surveillance de la biodivers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- La recherche sur la dynamique des habitats: encadrement de jeunes chercheurs burund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- l’élaboration d’outils de reconnaissance rapide et de suivi de la faune et de la fl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8508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af-ZA" sz="3000" spc="-1" strike="noStrike">
                <a:solidFill>
                  <a:srgbClr val="000000"/>
                </a:solidFill>
                <a:latin typeface="Arial"/>
              </a:rPr>
              <a:t>En 2012, Projet 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Etablissement de la situation de référence pour le suivi de la dynamique des habitats des parcs nationaux de la Rusizi, Ruvubu et Kibira »</a:t>
            </a:r>
            <a:br>
              <a:rPr sz="3000"/>
            </a:b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Trois étudiants font des études de référence pour le suivi de la dynamiques des habita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Benoit\Documents\Bulletin\Flore de l'Est et du Sud du Burundi\Ruvubu Avril 2012\IMG_0224.JPG"/>
          <p:cNvPicPr/>
          <p:nvPr/>
        </p:nvPicPr>
        <p:blipFill>
          <a:blip r:embed="rId1"/>
          <a:stretch/>
        </p:blipFill>
        <p:spPr>
          <a:xfrm>
            <a:off x="0" y="3068640"/>
            <a:ext cx="50529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0000"/>
                </a:solidFill>
                <a:latin typeface="Arial"/>
              </a:rPr>
              <a:t>6. Rapatriement des 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9280" y="1484280"/>
            <a:ext cx="8569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En 2007,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stagiaire Burundais de l’Ecole Normale Supérieure en stage en Belgique a développé une base de données sur les Lépidoptères du Burun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 2011, le CHM-Belge a procédé à la collecte des documents d’études scientifiques sur la biodiversité du Burundi et de la sous région, surtout du Rift Albertin, qui ont été acheminés au Burun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000"/>
                </a:solidFill>
                <a:latin typeface="Arial"/>
              </a:rPr>
              <a:t>7. Renforcement de la Bibliothèque de l’INECN en bibliothèque de référence en </a:t>
            </a:r>
            <a:br>
              <a:rPr sz="3200"/>
            </a:br>
            <a:r>
              <a:rPr b="1" lang="fr-BE" sz="3200" spc="-1" strike="noStrike">
                <a:solidFill>
                  <a:srgbClr val="ff0000"/>
                </a:solidFill>
                <a:latin typeface="Arial"/>
              </a:rPr>
              <a:t>biodivers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Arial"/>
              </a:rPr>
              <a:t>En 2009, le CHM-Burundais a pris l’option d’en faire une bibliothèque de référence en matière de diversité biologique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Arial"/>
              </a:rPr>
              <a:t>plus de 1500 documents déjà collecté gardées dans cette bibliothèque. De plus, avec l’appui du CHM-Belge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Arial"/>
              </a:rPr>
              <a:t>Des livres en rapport avec la biodiversité nationale et régionale ont été recensés en Belgique et envoyés au Burundi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Arial"/>
              </a:rPr>
              <a:t>multiplication et impression des documents produits à l’INECN pour les déposer à la bibliothèqu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8. Promotion de la coopération technique et scientifique, ainsi que le partage des </a:t>
            </a:r>
            <a:br>
              <a:rPr sz="2800"/>
            </a:b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connaissances auprès des Parties contractantes de la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000" spc="-1" strike="noStrike">
                <a:solidFill>
                  <a:srgbClr val="000000"/>
                </a:solidFill>
                <a:latin typeface="Arial"/>
              </a:rPr>
              <a:t>Cadre de partenariat avec la Belg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000" spc="-1" strike="noStrike">
                <a:solidFill>
                  <a:srgbClr val="000000"/>
                </a:solidFill>
                <a:latin typeface="Arial"/>
              </a:rPr>
              <a:t>Institut de Protection des plantes (Plant Agricultural Research Council) de Pretoria en Afrique du Sud pour appuyer le Burundi dans la recherche sur les pollinisateu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000" spc="-1" strike="noStrike">
                <a:solidFill>
                  <a:srgbClr val="000000"/>
                </a:solidFill>
                <a:latin typeface="Arial"/>
              </a:rPr>
              <a:t>l’Institut International pour la physiologie et l’Ecologie de l’Insecte (ICIPE) de Nairob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000" spc="-1" strike="noStrike">
                <a:solidFill>
                  <a:srgbClr val="000000"/>
                </a:solidFill>
                <a:latin typeface="Arial"/>
              </a:rPr>
              <a:t>Musée de Recherche Zoologique de Koenig (ZFMK) d’Allemagne dans le domaine d’herpetologi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07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3200" spc="-1" strike="noStrike">
                <a:solidFill>
                  <a:srgbClr val="00b050"/>
                </a:solidFill>
                <a:latin typeface="Arial"/>
              </a:rPr>
              <a:t>Leçons tirées des interventions du C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56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700" spc="-1" strike="noStrike">
                <a:solidFill>
                  <a:srgbClr val="000000"/>
                </a:solidFill>
                <a:latin typeface="Arial"/>
              </a:rPr>
              <a:t>Points forts du fonctionnemen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7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e CHM-Burundais qui dure déjà 10 ans et ayant acquis une expérience et des outils devant servir de base pour sa progression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Existence d’un site web </a:t>
            </a:r>
            <a:r>
              <a:rPr b="0" lang="fr-BE" sz="2700" spc="-1" strike="noStrike">
                <a:solidFill>
                  <a:srgbClr val="000000"/>
                </a:solidFill>
                <a:latin typeface="Arial"/>
              </a:rPr>
              <a:t>opérationnel et hébergé en sécurité à l’IRScNB et sans engagement des fonds du Burundi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700" spc="-1" strike="noStrike">
                <a:solidFill>
                  <a:srgbClr val="000000"/>
                </a:solidFill>
                <a:latin typeface="Arial"/>
              </a:rPr>
              <a:t>Existence du PFN et des PFI formés et capables de collecter et poster les informations sur le site web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700" spc="-1" strike="noStrike">
                <a:solidFill>
                  <a:srgbClr val="000000"/>
                </a:solidFill>
                <a:latin typeface="Arial"/>
              </a:rPr>
              <a:t>Existence d’autres outils déjà développés et d’autres mécanismes d’échange d’information dans le CHM servant à relayer les informations vers différents groupes cibles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700" spc="-1" strike="noStrike">
                <a:solidFill>
                  <a:srgbClr val="000000"/>
                </a:solidFill>
                <a:latin typeface="Arial"/>
              </a:rPr>
              <a:t>Un cadre de coopération déjà entammé et en consolid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2007, lancement officiel de cette deuxième version du Site web et adhésion aux projets de sensibilisation mis en place par le CHM-be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n 2010, un mémorandum entre le Burundi et la Belgique, « </a:t>
            </a:r>
            <a:r>
              <a:rPr b="0" i="1" lang="fr-BE" sz="3200" spc="-1" strike="noStrike">
                <a:solidFill>
                  <a:srgbClr val="000000"/>
                </a:solidFill>
                <a:latin typeface="Arial"/>
              </a:rPr>
              <a:t>Appui aux activités </a:t>
            </a:r>
            <a:r>
              <a:rPr b="0" i="1" lang="af-ZA" sz="3200" spc="-1" strike="noStrike">
                <a:solidFill>
                  <a:srgbClr val="000000"/>
                </a:solidFill>
                <a:latin typeface="Arial"/>
              </a:rPr>
              <a:t>de l’INECN axées sur la recherche, l’échange d’information et la conservation de la biodiversité des aires protégées au Burundi (Période 2010-2012)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Février 2012, extension des Points Focaux interinstitutionn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Avril 2012, SNPA-CH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4000" spc="-1" strike="noStrike">
                <a:solidFill>
                  <a:srgbClr val="000000"/>
                </a:solidFill>
                <a:latin typeface="Arial"/>
              </a:rPr>
              <a:t>Points faibles du CHM-Burund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125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a faible publicité du CHM-Burunda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suffisance des informations diffus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Faible information sur la mise en œuvre de la Convention sur la Diversité Biolo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Faible niveau de coopération ex C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suffisance des canaux de diffusion d’informations (groupes ci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anque d’engagement financier par le gouver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23640" y="404640"/>
            <a:ext cx="8569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000"/>
                </a:solidFill>
                <a:latin typeface="Arial"/>
              </a:rPr>
              <a:t>Facteurs de changement du CHM-Burund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Arial"/>
              </a:rPr>
              <a:t>Evolution de la convention sur la diversité biologique et ses liens avec les autres traités de 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volution des technologies d’échange d’information et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volution des conditions socio-économiques et technologiques du Burun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9280" y="333360"/>
            <a:ext cx="8785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b050"/>
                </a:solidFill>
                <a:latin typeface="Arial"/>
              </a:rPr>
              <a:t>CHM-Burundais attendu en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Arial"/>
              </a:rPr>
              <a:t>un outil pour la mise en œuvre renforcée de la Convention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Arial"/>
              </a:rPr>
              <a:t>un outil d’aide à la décision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Arial"/>
              </a:rPr>
              <a:t>un outil de communication, d’éducation et de sensib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800" spc="-1" strike="noStrike">
                <a:solidFill>
                  <a:srgbClr val="000000"/>
                </a:solidFill>
                <a:latin typeface="Arial"/>
              </a:rPr>
              <a:t>Merci beauco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4000" spc="-1" strike="noStrike">
                <a:solidFill>
                  <a:srgbClr val="00cc00"/>
                </a:solidFill>
                <a:latin typeface="Arial"/>
              </a:rPr>
              <a:t>Interventions du CHM au Burun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Publicité du CHM-Burunda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Collecte et diffusion des information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Renforcement des capacités du CHM-Burunda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000" spc="-1" strike="noStrike">
                <a:solidFill>
                  <a:srgbClr val="000000"/>
                </a:solidFill>
                <a:latin typeface="Arial"/>
              </a:rPr>
              <a:t>Développement des activités de sensibilisa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000" spc="-1" strike="noStrike">
                <a:solidFill>
                  <a:srgbClr val="000000"/>
                </a:solidFill>
                <a:latin typeface="Arial"/>
              </a:rPr>
              <a:t>Développement des activités de recherch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Rapatriement des informations</a:t>
            </a:r>
            <a:r>
              <a:rPr b="0" lang="af-ZA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Création d’une bibliothèque de référence en biodiversité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omotion de la coopération technique et scientifique, ainsi que le partage des connaissances auprès des Parties contractantes de la Conven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425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0000"/>
                </a:solidFill>
                <a:latin typeface="Arial"/>
              </a:rPr>
              <a:t>1. Publicité du CHM-Burund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n 2003, Diffusion d’un</a:t>
            </a:r>
            <a:r>
              <a:rPr b="1" i="1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D-rom original sur le site web du CH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En juillet 2004: réunion de sensibilisation arganisée entre le Burundi, Rwanda et la Belgiq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Plusieurs ateliers sur des thèmes non spécifiques à la public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0000"/>
                </a:solidFill>
                <a:latin typeface="Arial"/>
              </a:rPr>
              <a:t>2. Collecte et diffusion des informatio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Diffusion des informations sur le site du CHM-Burund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Multiplication d’autres canaux de diffusion d’informations sur la biodivers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- Diffusion des informations en imprimé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Publication des informations à travers le bulletin scientifique de l’INEC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Publication des informations </a:t>
            </a: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sur CD-ro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- Diffusion des informations à travers les méd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cc"/>
                </a:solidFill>
                <a:latin typeface="Arial"/>
              </a:rPr>
              <a:t>Diffusion des informations en imprim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1052640"/>
            <a:ext cx="8569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Arial"/>
              </a:rPr>
              <a:t>Documents d’ordre scientifique, politique et pratique diffusés dans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es bibliothèques nation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EEATU,INECN, UB, ENS, Département de la Recherche Scientifique, Archives nat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c00000"/>
                </a:solidFill>
                <a:latin typeface="Arial"/>
              </a:rPr>
              <a:t>Institutions de reche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00364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cc"/>
                </a:solidFill>
                <a:latin typeface="Arial"/>
              </a:rPr>
              <a:t>Création et publication du bulletin édité par le CHM-Burund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000" spc="-1" strike="noStrike">
                <a:solidFill>
                  <a:srgbClr val="000000"/>
                </a:solidFill>
                <a:latin typeface="Arial"/>
              </a:rPr>
              <a:t>En 2006, Bulletin “</a:t>
            </a:r>
            <a:r>
              <a:rPr b="0" i="1" lang="af-ZA" sz="3000" spc="-1" strike="noStrike">
                <a:solidFill>
                  <a:srgbClr val="000000"/>
                </a:solidFill>
                <a:latin typeface="Arial"/>
              </a:rPr>
              <a:t>Bulletin scientifique de l'Institut national pour l'environnement et la conservation de la nature”</a:t>
            </a:r>
            <a:r>
              <a:rPr b="0" lang="af-ZA" sz="3000" spc="-1" strike="noStrike">
                <a:solidFill>
                  <a:srgbClr val="000000"/>
                </a:solidFill>
                <a:latin typeface="Arial"/>
              </a:rPr>
              <a:t>et le titre clé abrégé “</a:t>
            </a:r>
            <a:r>
              <a:rPr b="0" i="1" lang="fr-FR" sz="3000" spc="-1" strike="noStrike">
                <a:solidFill>
                  <a:srgbClr val="000000"/>
                </a:solidFill>
                <a:latin typeface="Arial"/>
              </a:rPr>
              <a:t>Bull. sci. </a:t>
            </a:r>
            <a:r>
              <a:rPr b="0" i="1" lang="af-ZA" sz="3000" spc="-1" strike="noStrike">
                <a:solidFill>
                  <a:srgbClr val="000000"/>
                </a:solidFill>
                <a:latin typeface="Arial"/>
              </a:rPr>
              <a:t>Inst. natl. environ. conserv. nat.” </a:t>
            </a:r>
            <a:r>
              <a:rPr b="0" lang="af-ZA" sz="3000" spc="-1" strike="noStrike">
                <a:solidFill>
                  <a:srgbClr val="000000"/>
                </a:solidFill>
                <a:latin typeface="Arial"/>
              </a:rPr>
              <a:t>Ce bulletin  est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édité par le CHM-Burundais sous l’appui financier de l’INECN et de l’IRScNB. Publié annuellement en imprimé sous </a:t>
            </a:r>
            <a:r>
              <a:rPr b="0" lang="af-ZA" sz="3000" spc="-1" strike="noStrike">
                <a:solidFill>
                  <a:srgbClr val="000000"/>
                </a:solidFill>
                <a:latin typeface="Arial"/>
              </a:rPr>
              <a:t>ISSN 2220-6973  et en ligne sous ISSN 2220-6981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et diffusé dans les bibliothèques nat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 10</a:t>
            </a:r>
            <a:r>
              <a:rPr b="0" lang="fr-FR" sz="3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Numéro va sortir en juin et sera dédié à l’anniversaire de 10 ans d’existence du CHM-Burund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f-ZA" sz="3200" spc="-1" strike="noStrike">
                <a:solidFill>
                  <a:srgbClr val="0000cc"/>
                </a:solidFill>
                <a:latin typeface="Arial"/>
              </a:rPr>
              <a:t>Diffusion des informations sur CD-ro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836640"/>
            <a:ext cx="8569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Arial"/>
              </a:rPr>
              <a:t>En 2008, un CD-rom des Lépidoptères du Burundi a été produit en Belgique sur base des collections de l’IRScNB et du MRAC et a été diffusé dans toutes les institutions de recherche au Burundi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900" spc="-1" strike="noStrike">
                <a:solidFill>
                  <a:srgbClr val="000000"/>
                </a:solidFill>
                <a:latin typeface="Arial"/>
              </a:rPr>
              <a:t>En 2010, un CD-rom de sensibilisation sur l’importance des pollinisateurs a été produit à l’issue des études dans ce domaine au Burundi et a subi également une large distribution lors de la célébration de l’année internationale de la Biodiversité</a:t>
            </a:r>
            <a:r>
              <a:rPr b="0" lang="af-ZA" sz="29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900" spc="-1" strike="noStrike">
                <a:solidFill>
                  <a:srgbClr val="0000cc"/>
                </a:solidFill>
                <a:latin typeface="Arial"/>
              </a:rPr>
              <a:t>Diffusion des informations à travers les médi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4:32:49Z</dcterms:created>
  <dc:creator>chm-pfn</dc:creator>
  <dc:description/>
  <dc:language>en-US</dc:language>
  <cp:lastModifiedBy>Benoit</cp:lastModifiedBy>
  <dcterms:modified xsi:type="dcterms:W3CDTF">2012-04-23T08:21:08Z</dcterms:modified>
  <cp:revision>58</cp:revision>
  <dc:subject/>
  <dc:title>Projet gestion rationnelle des ressources naturelles du milieu riverain du Parc National de la Ruvubu, en Commune Mutumba Diffusion des foyers améliorés</dc:title>
</cp:coreProperties>
</file>