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856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D2FD23E-605A-4EE9-A8C4-73DC171E3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1D89C-7647-4DE8-B95E-8D4F2D54B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0" y="1038600"/>
            <a:ext cx="91440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D09FB-42C2-4571-9808-7311EF58C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0" y="103860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760" y="103860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1AFB8-CDE5-45CE-973E-D80FFF113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91680" y="-36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83360" y="-36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0" y="103860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91680" y="103860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83360" y="103860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FA3EC-B047-41AF-8360-4D8F80A8B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116575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103860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61600-03C8-4DCF-B579-55A5D92FF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5760" y="103860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0" y="1038600"/>
            <a:ext cx="91440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0" y="1038600"/>
            <a:ext cx="91440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0" y="103860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5760" y="103860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91680" y="-36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83360" y="-36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0" y="103860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91680" y="103860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83360" y="1038600"/>
            <a:ext cx="294408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47838-5DF8-4905-B5C4-70D190470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0F114-49AB-47A5-B5F9-531684C75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A6E21-6851-423E-BCD2-1E0F3BB7E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116575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D4884-B6DD-4F4F-85F2-C470304BF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103860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C2CBB-3869-4FDE-8653-BDC6097CA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760" y="103860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5F2F1-C689-4855-B411-D6EDD2DA3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1038600"/>
            <a:ext cx="9144000" cy="9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84E6F-9D4E-48EE-9FCF-A222E2F2B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916360" y="762120"/>
            <a:ext cx="622764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Click to edit the title text format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437920" y="914040"/>
            <a:ext cx="6705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00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00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484000" y="6400800"/>
            <a:ext cx="6659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FR" sz="1400" spc="-1" strike="noStrike">
                <a:solidFill>
                  <a:srgbClr val="0033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3300"/>
                </a:solidFill>
                <a:latin typeface="Arial Narrow"/>
              </a:rPr>
              <a:t>Stratégies pour le Développement des Centres d'Échange Nation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237360"/>
            <a:ext cx="22096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Antananarivo, Madagascar</a:t>
            </a:r>
            <a:br>
              <a:rPr sz="1200"/>
            </a:b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Novembre 2006 – Diapo </a:t>
            </a:r>
            <a:fld id="{FF77132C-94B9-4AB9-BDC1-46DB423F6748}" type="slidenum">
              <a:rPr b="0" i="1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21150000">
            <a:off x="106200" y="218880"/>
            <a:ext cx="2105280" cy="9903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3300"/>
                </a:solidFill>
                <a:latin typeface="Arial Narrow"/>
              </a:rPr>
              <a:t>Stratégies pour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00"/>
                </a:solidFill>
                <a:latin typeface="Arial"/>
              </a:rPr>
              <a:t>CHM Nationaux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8000" y="198900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1. Introduc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2. Historiqu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3. Situ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4. Stratégi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5. Conclus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1981080"/>
            <a:ext cx="2057400" cy="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1522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ff99"/>
                </a:solidFill>
                <a:latin typeface="Arial"/>
              </a:rPr>
              <a:t>Contenu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5589000"/>
            <a:ext cx="205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Centre </a:t>
            </a:r>
            <a:br>
              <a:rPr sz="1200"/>
            </a:b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d'Échang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684360" y="4581360"/>
            <a:ext cx="691920" cy="12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cc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onvention sur la Diversité Biologiqu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entre d'Échang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8000" y="5661000"/>
            <a:ext cx="731880" cy="1339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00"/>
              </a:spcBef>
              <a:buClr>
                <a:srgbClr val="00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00"/>
              </a:spcBef>
              <a:buClr>
                <a:srgbClr val="00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bch-cbd.naturalsciences.be/" TargetMode="External"/><Relationship Id="rId2" Type="http://schemas.openxmlformats.org/officeDocument/2006/relationships/hyperlink" Target="http://www.chm.ma/" TargetMode="External"/><Relationship Id="rId3" Type="http://schemas.openxmlformats.org/officeDocument/2006/relationships/hyperlink" Target="http://www.dea.met.gov.na/programmes/biodiversity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iodiv-chm.de/" TargetMode="External"/><Relationship Id="rId2" Type="http://schemas.openxmlformats.org/officeDocument/2006/relationships/hyperlink" Target="http://www.biodiv-chm.de/Documents/40_Shades_of_TT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biodiv.org/financial/sources.shtml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biodiv.org/rss/headlines.aspx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biodiv.org/services/conventions.asmx" TargetMode="External"/><Relationship Id="rId2" Type="http://schemas.openxmlformats.org/officeDocument/2006/relationships/hyperlink" Target="http://maindb.unfccc.int/public/soap/client_nfp.pl" TargetMode="Externa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cc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2491920"/>
            <a:ext cx="7993080" cy="25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"/>
              </a:rPr>
              <a:t>Stratégies pour le Développement</a:t>
            </a:r>
            <a:br>
              <a:rPr sz="2800"/>
            </a:br>
            <a:r>
              <a:rPr b="1" lang="fr-FR" sz="2800" spc="-1" strike="noStrike">
                <a:solidFill>
                  <a:srgbClr val="003300"/>
                </a:solidFill>
                <a:latin typeface="Arial"/>
              </a:rPr>
              <a:t> des </a:t>
            </a:r>
            <a:r>
              <a:rPr b="1" i="1" lang="fr-FR" sz="2800" spc="-1" strike="noStrike">
                <a:solidFill>
                  <a:srgbClr val="003300"/>
                </a:solidFill>
                <a:latin typeface="Arial"/>
              </a:rPr>
              <a:t>Centres d'Échanges Nationaux</a:t>
            </a:r>
            <a:br>
              <a:rPr sz="2800"/>
            </a:br>
            <a:br>
              <a:rPr sz="1400"/>
            </a:br>
            <a:r>
              <a:rPr b="1" i="1" lang="fr-FR" sz="2000" spc="-1" strike="noStrike">
                <a:solidFill>
                  <a:srgbClr val="003300"/>
                </a:solidFill>
                <a:latin typeface="Arial"/>
              </a:rPr>
              <a:t>13 Novembre 2006 - Antananarivo, Madagascar</a:t>
            </a:r>
            <a:br>
              <a:rPr sz="2000"/>
            </a:br>
            <a:br>
              <a:rPr sz="2000"/>
            </a:br>
            <a:r>
              <a:rPr b="0" i="1" lang="fr-FR" sz="2000" spc="-1" strike="noStrike">
                <a:solidFill>
                  <a:srgbClr val="003300"/>
                </a:solidFill>
                <a:latin typeface="Arial"/>
              </a:rPr>
              <a:t>Olivier de Munck - SCBD</a:t>
            </a:r>
            <a:endParaRPr b="1" i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154800" bIns="46080" anchor="t">
            <a:noAutofit/>
          </a:bodyPr>
          <a:p>
            <a:pPr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Atelier de formation sous-régionale 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 sur la mise en oeuvre du Centre d'Échange CHM 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de la Convention sur  la Diversité Biologiqu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6-17 Novembre 2006                                   Antananarivo, Madagascar</a:t>
            </a:r>
            <a:endParaRPr b="1" i="1" lang="en-US" sz="20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Mission du CHM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44360" y="1557000"/>
            <a:ext cx="6048360" cy="331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ontribuer significativement à l'implémentation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e la Convention sur la diversité biologique, 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à ses champs thématiques et questions multisectorielles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t spécialement à la cible 2010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ar la promotion et facilitation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e la coopération technique and scientifique,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ntre les Parties, et les autres Gouvernements et acteurs.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-57600" y="236700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2E018-C5AC-4F83-B04F-A8F5813C8F41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Objectif 1 - Coop. Scientifique et Techniqu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10920" y="980640"/>
            <a:ext cx="658836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e CHM promeut et facilite la coopération technique &amp; scientifiq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1.1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he CHM contribue à l'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implémentation de la Convention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et particulièrement pour atteindre la cible 2010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1.2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he CHM facilite le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transfert de technologi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et la coopération technologique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1.3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he CHM facilite la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coopération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entre les 3 conventions de Rio et les autres accords environnementaux, organisations et initiatives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-57600" y="236700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D2C8A-3158-43E1-BA9B-52B46F51B5B6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Objectif 2 - Échange d'Information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11280" y="764640"/>
            <a:ext cx="6804000" cy="602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e CHM promeut et facilite l'échange d'informations entre les Parties et les autres Gouvernements et acteurs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2.1.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 CHM rend disponible l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information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relatives à la Convention et à ses processus via des moyens électroniques et traditionnels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2.2.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n collaboration avec d'autres initiatives, organisations and partenaires, le CHM facilite l'accès et le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rapatriement d'information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sur la biodiversité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2.3.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 CHM assiste les Parties et les autres Gouvernements à rendre d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données disponibles en support aux activité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relatives à l'implémentation de la Convention et pour atteindre la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cible 2010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2.4.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 CHM contribue aux futur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développements du BCH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établi par le paragraphe 1 de l'Article 20 du Protocole de Cartagène sur la prévention des risques biotechnologiques.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2.5.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s Parties ont établi des mécanismes effectifs pour faciliter l'échange d'information, incluant si approprié, les sites web CHM adhérant aux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formats, protocoles et standards commun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incluant les standards de metadonnées, tels que recommandés par le CHM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-57600" y="236700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8176A-365C-434F-ACC4-C5CB3CD9B528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Objectif 3 - Réseautag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56000" y="980640"/>
            <a:ext cx="658800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e CHM est pleinement opérationnel avec la participation de toutes les Parties et un réseau étendu de partenaires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3.1.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outes les Parties ont établi et continuent de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développer leur centre d'échang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3.2.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s partenaires concernés participent au 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réseau étendu de centres d'échang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3.3.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s Parties ont établi et utilisent des mécanismes adéquats pour faciliter la coopération scientifique and technique, incluant si appropriés l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réseaux thématique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en support à l'implémentation de la Convention, et pour atteindre la cible 2010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3.4.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 CHM contribues au développement d'un réseau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global de communication, d'éducation et de sensibilisation du public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-57600" y="236700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C7BE9-320A-409C-AF72-69DEC0A2FA3F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1" i="1" lang="fr-FR" sz="2800" spc="-1" strike="noStrike" baseline="30000">
                <a:solidFill>
                  <a:srgbClr val="003300"/>
                </a:solidFill>
                <a:latin typeface="Arial Narrow"/>
              </a:rPr>
              <a:t>ère</a:t>
            </a: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 Revue Indépendante du CHM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43280" y="980640"/>
            <a:ext cx="612144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ouvrant la Phase Pilote 1996-1998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apport (Octobre 1999 - 50 page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r Cullbridge Marketing &amp; Communication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t LURA Consulting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UNEP/CBD/COP/5/INF/2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ecommandations principa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larifier le rôle du CH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isséminer plus d'informa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ndre les informations plus accessib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épondre aux besoins en infrastructur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éparer un plan stratégique pour assurer la durabilité à long term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-57600" y="264312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C76BC-43A6-4519-ADD2-CB05BC39F3D0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1" i="1" lang="fr-FR" sz="2800" spc="-1" strike="noStrike" baseline="30000">
                <a:solidFill>
                  <a:srgbClr val="003300"/>
                </a:solidFill>
                <a:latin typeface="Arial Narrow"/>
              </a:rPr>
              <a:t>ème</a:t>
            </a: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 Revue Indépendante du CHM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84360" y="981000"/>
            <a:ext cx="640872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ntre Octobre 2002 et Juillet 2003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apport détaillé (July 2003 - 118 page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r UNEP-WCMC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UNEP/CBD/COP/7/INF/12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ecommandations principa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ccroître la sensibilis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évelopper le réseautage avec des partenaires spécialisés en biodiversité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méliorer la gestion et l'organisation des structures du CH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méliorer les contenus de site web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évelopper des mécanismes d'interopérabilité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aciliter la coopér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ssurer le financement à long term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-57600" y="264312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57639-D485-45B8-A412-89DAE9D0E6C7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Situation Actuell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56000" y="980640"/>
            <a:ext cx="658800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tatut des CHM Nationaux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189 Partie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imor-Leste en 2007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157 PFN CHM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32 PFN CHM manquant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 5 PFN CHM depuis ma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77 CHM web site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10 PFN CHM sans e-mai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Brève analyse par groupe de pay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fr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sie-Pacifique &amp; Moyen-Orie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urope Centrale &amp; Orienta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mérique Latine &amp; Caraïb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urope Occidentale &amp; autr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-57600" y="264312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14CDD-05BB-40ED-A290-AE662874EAFE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Situation Actuell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56000" y="836640"/>
            <a:ext cx="65880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friq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556000" y="1268280"/>
          <a:ext cx="6337080" cy="1675080"/>
        </p:xfrm>
        <a:graphic>
          <a:graphicData uri="http://schemas.openxmlformats.org/drawingml/2006/table">
            <a:tbl>
              <a:tblPr/>
              <a:tblGrid>
                <a:gridCol w="647640"/>
                <a:gridCol w="1728720"/>
                <a:gridCol w="39607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Existant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Manquant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tie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malie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M NFP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8 Parties sans PFN CHM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 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M e-mail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4 CHM NFP sans e-mail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M web site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7 CHM NFP sans sites web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 rot="5400000">
            <a:off x="-57600" y="264312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9280" y="3068640"/>
            <a:ext cx="6732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emarqu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16 des 18 sites CHM nationaux hébergés par le CHM Belg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cc"/>
                </a:solidFill>
                <a:uFillTx/>
                <a:latin typeface="Arial Narrow"/>
                <a:hlinkClick r:id="rId1"/>
              </a:rPr>
              <a:t>http://bch-cbd.naturalsciences.b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ésultat d'un effort à long-terme de renforcement des capacité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xcellente initiative qui peut servir de modèl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ésultats variant avec la capacité du CHM  National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2 autres pays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aroc: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 u="sng">
                <a:solidFill>
                  <a:srgbClr val="0000cc"/>
                </a:solidFill>
                <a:uFillTx/>
                <a:latin typeface="Arial Narrow"/>
                <a:hlinkClick r:id="rId2"/>
              </a:rPr>
              <a:t>www.chm.ma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amibie :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 u="sng">
                <a:solidFill>
                  <a:srgbClr val="0000cc"/>
                </a:solidFill>
                <a:uFillTx/>
                <a:latin typeface="Arial Narrow"/>
                <a:hlinkClick r:id="rId3"/>
              </a:rPr>
              <a:t>www.dea.met.gov.na/programmes/biodiversité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es autres pays ont besoin de direction et de suppor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CC2BB-84C5-409F-B91F-EDEEBA76CBF6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Situation Actuell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56000" y="981000"/>
            <a:ext cx="65880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sie-Pacifique et Moyen-Ori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627280" y="1484280"/>
          <a:ext cx="6337080" cy="1674720"/>
        </p:xfrm>
        <a:graphic>
          <a:graphicData uri="http://schemas.openxmlformats.org/drawingml/2006/table">
            <a:tbl>
              <a:tblPr/>
              <a:tblGrid>
                <a:gridCol w="647640"/>
                <a:gridCol w="1728720"/>
                <a:gridCol w="39607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Existant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Manquant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tie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runei, Iraq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M NFP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 Parties sans PFN CHM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 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M e-mail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5 CHM NFP sans e-mail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M sites web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9 CHM NFP sans site web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 rot="5400000">
            <a:off x="-57600" y="264312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3284640"/>
            <a:ext cx="658800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emarqu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a plupart des CHM nationaux sont situés dans des grands pays: Chine, Inde, Indonésie, Iran, Malaisie, Philippines, Rep. de Corée, ..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sie-Pacifique peut mieux fair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apacité disponibl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mportance de la biodiversité dans ces pay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anque de sensibilisation / Plan stratégiqu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omouvoir le CHM dans ces pay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ncourager la coopération Sud-Sud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E2CDF-F710-438D-B060-DCA1E9DF27AA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Situation Actuell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56000" y="1050840"/>
            <a:ext cx="65880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urope Centrale et Orienta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56000" y="1628640"/>
          <a:ext cx="6337080" cy="1675080"/>
        </p:xfrm>
        <a:graphic>
          <a:graphicData uri="http://schemas.openxmlformats.org/drawingml/2006/table">
            <a:tbl>
              <a:tblPr/>
              <a:tblGrid>
                <a:gridCol w="647640"/>
                <a:gridCol w="1728720"/>
                <a:gridCol w="39607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Existant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Manquant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tie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M NFP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6 Parties sans PFN CHM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 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M e-mail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M sites web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4 PFN CHM sans site web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 rot="5400000">
            <a:off x="-57600" y="264312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56000" y="3429000"/>
            <a:ext cx="6588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emarqu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égion la plus activ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essources limité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apacité disponibl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otentiel de développemen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101F7-DF8F-401D-88AA-09206296901F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Contenu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3456000" y="1411200"/>
            <a:ext cx="457200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1. Introduc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56000" y="2179800"/>
            <a:ext cx="457200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2. Historiqu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56000" y="2971800"/>
            <a:ext cx="457200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3. Situ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56000" y="3763800"/>
            <a:ext cx="457200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4. Stratégi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56000" y="4556160"/>
            <a:ext cx="457200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5. Conclus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89E87-4813-44C6-A3C3-5B0F9AEFC9E7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Situation Actuell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56000" y="1050840"/>
            <a:ext cx="65880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mérique Latine &amp; Caraïb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56000" y="1628640"/>
          <a:ext cx="6337080" cy="1675080"/>
        </p:xfrm>
        <a:graphic>
          <a:graphicData uri="http://schemas.openxmlformats.org/drawingml/2006/table">
            <a:tbl>
              <a:tblPr/>
              <a:tblGrid>
                <a:gridCol w="647640"/>
                <a:gridCol w="1728720"/>
                <a:gridCol w="39607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Existant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Manquant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tie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M NFP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4 Parties sans PFN CHM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 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M e-mail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1 CHM NFP sans e-mail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M web site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 CHM NFP sans sites web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 rot="5400000">
            <a:off x="-57600" y="264312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3429000"/>
            <a:ext cx="6588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emarqu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Bon développement du CHM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l faudrait plus de sites web CHM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e CHM Colombien a beaucoup d'expertise techniqu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romouvoir la coopération Sud-Sud entre pays hispanophon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531E2-0384-4C4C-ABA8-FB550DC9B745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Situation Actuell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56000" y="1050840"/>
            <a:ext cx="65880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urope Occidentale &amp; Autr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556000" y="1628640"/>
          <a:ext cx="6337080" cy="1675080"/>
        </p:xfrm>
        <a:graphic>
          <a:graphicData uri="http://schemas.openxmlformats.org/drawingml/2006/table">
            <a:tbl>
              <a:tblPr/>
              <a:tblGrid>
                <a:gridCol w="647640"/>
                <a:gridCol w="2232000"/>
                <a:gridCol w="345744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Existant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Manquant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tie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dorre, Vatican &amp; USA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FN CHM + 1 (USA)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4 Parties sans PFN CHM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 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M e-mail + 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M sites web + 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4 PFN CHM sans site web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 rot="5400000">
            <a:off x="-57600" y="264312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3429000"/>
            <a:ext cx="6588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emarqu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essources et capacités disponibl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e CHM Européen est très actif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cc"/>
                </a:solidFill>
                <a:uFillTx/>
                <a:latin typeface="Arial Narrow"/>
              </a:rPr>
              <a:t>http://biodiversité-chm.eea.eu.in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xcellents outils pour démarrer un nouveau site web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HM Allemand actif en transfert de  technologi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cc"/>
                </a:solidFill>
                <a:uFillTx/>
                <a:latin typeface="Arial Narrow"/>
                <a:hlinkClick r:id="rId1"/>
              </a:rPr>
              <a:t>http://www.biodiv-chm.d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cc"/>
                </a:solidFill>
                <a:uFillTx/>
                <a:latin typeface="Arial Narrow"/>
                <a:hlinkClick r:id="rId2"/>
              </a:rPr>
              <a:t>http://www.biodiv-chm.de/Documents/40_Shades_of_T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C69A5-71D4-4267-ABD7-299B86D22753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Situation Actuelle - Résumé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56000" y="981000"/>
            <a:ext cx="658800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Bonne situation d'ensem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Beaucoup de CHM Nationaux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Quelques excellentes initiatives de coopér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lusieurs grands défi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ssources financières limité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urabilité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s assez de prise de conscience du rôle du CH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méliorer les sites CHM nationaux (impact, contenu, ...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anque de capacité dans certains pay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nforcer la coopération technique and scientif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ncore beaucoup à fair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À tous les niveaux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   Plan stratégique du CH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u niveau national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   Stratégie nationale pour le CH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-57600" y="264312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EAA21-84F3-4823-8C97-05C382CAFCFA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Stratégies CHM - Lignes Directrice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27280" y="1052640"/>
            <a:ext cx="651672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romouvoir the CH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nvaincre les Parties que le CHM est utile et importa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tégrer le CHM dans la stratégie nationale de biodiversité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lanifier en gardant le durabilité à l'espri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enforcer la coopération &amp; le réseautag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ffort conjoint de collaboration (Secrétariat + Parties + autre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ncourager le partage de ressources &amp; d'expérienc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opération Sud-Sud / Noeuds régionaux du CH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 re-focaliser sur la coopération technique et scientif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dapter le renforcement des capacités aux besoins des Parti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s d'approche unique pour tous (pas de "one-size-fit-all"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ifférents besoins 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Différentes approch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-57600" y="290988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73EF5-0F49-4B60-A1D8-B5958D25DFFB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Stratégies CHM - Vue d'ensembl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7920" y="1050840"/>
            <a:ext cx="670572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dapter le renforcement des capacités aux besoi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-57600" y="290988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411280" y="1628640"/>
          <a:ext cx="6481800" cy="3811680"/>
        </p:xfrm>
        <a:graphic>
          <a:graphicData uri="http://schemas.openxmlformats.org/drawingml/2006/table">
            <a:tbl>
              <a:tblPr/>
              <a:tblGrid>
                <a:gridCol w="736560"/>
                <a:gridCol w="2062440"/>
                <a:gridCol w="3682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Niveau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Situatio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 de PFN CHM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vaincre le pays de désigner un PFN CHM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FN CHM sous-équipé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ouver des solutions afin d'avoir une  infrastructure de base pour communiquer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 de site web CHM national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urnir la formation et les outils requis pour établir une présence sur le web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M national présent sur le web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méliorer le contenu web pour disséminer de l'information supportant la cible 2010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M national complet et opérationnel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ncourager le partage d'expériences pour développer d'autres CHM nationaux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M avancé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Établir des mécanismes d'interopérabilité avec des réseaux sur la biodiversité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E7F9-F0F9-47C4-9353-42AE73DE0268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Niveau 0 - Pas de CHM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27280" y="1052640"/>
            <a:ext cx="651672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onvaincre le pays de désigner un PFN CH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pliquer le rôle important du CHM (3 objectif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acilitateur de coopération scientifique &amp; techn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oyen de communication national pour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'éducation et la sensibilisation du public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our augmenter la visibilité international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mage du pays, promotion de l'éco-tourisme, ..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dentifier la personne ou institution adéqu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ventaire des acteurs nationaux en biodiversité (institution scientifiques, musées, universités, ...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l se peut qu'il existe une institution nationale durable et forte qui soit intéressée par le rôle du PFN CH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ituation "Win-Win"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ôle de PFN CHM NFP très différent de celui de PFN CBD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-57600" y="290988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18CE7-B0E8-450D-89BA-89358DC814B6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Niveau 0 - PFN CBD et PFN CHM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19280" y="1203480"/>
            <a:ext cx="3276720" cy="32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FN CB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ôle polit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présentant du gouverneme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ofil de diplomat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ise de décision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- Négociation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- Politique national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689080" y="1203120"/>
            <a:ext cx="3635640" cy="35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FN CH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ôle techn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Gestionnaire de proje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ofil d'entrepreneu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ocessus d'implémentation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- Coop. scientifique &amp; techniqu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- Gestion d'information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compilation, dissémination)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- Webmast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"/>
          <p:cNvSpPr/>
          <p:nvPr/>
        </p:nvSpPr>
        <p:spPr>
          <a:xfrm rot="5400000">
            <a:off x="-57600" y="290988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2360" y="1701720"/>
            <a:ext cx="622764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51640" y="1197000"/>
            <a:ext cx="0" cy="360036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876920"/>
            <a:ext cx="6337440" cy="18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es 2 rôles sont importants et demandent du temp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onseillé de ne pas surcharger une seule personn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Un PFN CBD+CHM peut déléguer à 1 ou plusieurs assistant(s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26EA8-B9D3-48AA-9C1A-C1994D19DB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Niveau 0 - Planifier un nouveau CHM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08360" y="836280"/>
            <a:ext cx="608472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réparer un plan d'affaire pour le nouveau CH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rrangements institutionn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sponsabilités &amp; termes de référenc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rtenari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llocation des ressources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space de bureau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frastructure pour le site web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oduction et gestion de contenu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ctivité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évelopper un réseau de contacts nationaux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ventaire national sur la coopération scientifique and techn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mpilation et dissémination d'Informa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éveloppement du site web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ctivités d'éducation et de sensibilis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-57600" y="290988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C0FE0-9A6D-4ADD-B3D0-BD64B083DC35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Niveau 1 - PFN CHM non équipé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27280" y="836640"/>
            <a:ext cx="651672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Fournir l'infrastructure de base pour communiqu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as toujours simp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s financements FEM (GEF) sont limité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s bailleurs de fonds insistent sur la durabilité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 pays doit souvent être créatif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xplorer toutes les options de partenari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réparer une proposition de projet réalis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mmencer par estimer le potentiel de durabilité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- Si trop faible, alors trouver une meilleure option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 (financement, partenariat, ...)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- Si bon potentiel, feu vert pour démarr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ournir une description détaillée/justification des besoi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 Secrétariat peut conseiller et supporter la proposi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ntacter les partenaires potentiels dans le pay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atalogue de sources de financements à:</a:t>
            </a:r>
            <a:br>
              <a:rPr sz="1800"/>
            </a:br>
            <a:r>
              <a:rPr b="1" lang="fr-FR" sz="1800" spc="-1" strike="noStrike" u="sng">
                <a:solidFill>
                  <a:srgbClr val="0000cc"/>
                </a:solidFill>
                <a:uFillTx/>
                <a:latin typeface="Arial Narrow"/>
                <a:hlinkClick r:id="rId1"/>
              </a:rPr>
              <a:t>http://www.biodiv.org/financial/sources.shtm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-57600" y="290988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6BD9D-8C7D-4A36-BA43-A7B303B7C0A3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Niveau 2 - Pas de Site Web CHM National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771280" y="836280"/>
            <a:ext cx="648036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Établir une présence sur le web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lusieurs options sont possib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ouveau site ou site exista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Hébergé soi-même ou par d'autr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Utilisation d'outils ou construction de pag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écision importan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Basée sur les ressources et l'expertise disponib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haque option a ses avantages et inconvénien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mpact important sur la maintenanc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spect polit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hoisir l'approche la plus sûre et la plus simp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e pas entreprendre un gros projet sans ressources adéquat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-57600" y="290988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525C4-3F2A-4320-8CEE-CD07AE01BCB4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Objectif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58920" y="1700280"/>
            <a:ext cx="5762520" cy="252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0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Fournir des conseils aux Parti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qui souhaitent développer leur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Centre d'Échange Nationa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-57600" y="211788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4724280"/>
            <a:ext cx="630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16EEA-BF17-4FB9-9BCC-8F9A8B84CCF3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Niveau 2 - Pas de Site CHM National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484000" y="764640"/>
            <a:ext cx="676764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Options pour établir une présence web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Héberger son propre site web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écessite une infrastructure solide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rveur Web + Pare-feu + Internet haute-vitesse + Support 24/7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e pas se lancer sans une bonne équip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Bénéficier d'un espace sur un site exista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ccord avec partenaire importa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ption technique simple (utilisée par plusieurs pays africain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quiert la connaissance d'HTML 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Renforcement de capacité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écessite une procédure de mise à jour (ex. FTP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i nécessaire SCBD peut héberger un site nationa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Nouveau site avec gestion de contenu (PTK européen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ckage complet avec beaucoup de fonctions intégré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s besoin d'HTML mais formation spécifique requis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s aussi flexible qu'un site norma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xcellente solution pour pays qui démarre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cc"/>
                </a:solidFill>
                <a:uFillTx/>
                <a:latin typeface="Arial Narrow"/>
              </a:rPr>
              <a:t>http://biodiversité-chm.eea.eu.int/ptk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-57600" y="290988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427BA-8571-4D5B-BE43-D50E59E66A23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Niveau 3 - Présence Web du CHM National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27280" y="836280"/>
            <a:ext cx="651672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méliorer le contenu pour augmenter la dissémination d'informa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Facteur clé de succè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emande un effort perman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e contenu Web doit être attractif, convivial, actuel et uti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ection d'information généra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Qui sommes nous?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formations fournies par le sit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ernières nouvelles / événemen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ntactez-nou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Outils commu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oteur de recherche (Google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ormulaire de commentaires (feedback form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iste de distribu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anaux </a:t>
            </a:r>
            <a:r>
              <a:rPr b="1" lang="fr-FR" sz="1800" spc="-1" strike="noStrike" u="sng">
                <a:solidFill>
                  <a:srgbClr val="0000cc"/>
                </a:solidFill>
                <a:uFillTx/>
                <a:latin typeface="Arial Narrow"/>
                <a:hlinkClick r:id="rId1"/>
              </a:rPr>
              <a:t>RS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 pour l'échange d'information (RSS Feed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ges web dynamiques et bases de donné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mptes d'utilisateurs avec accès sécurisé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57600" y="290988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0CA02-7177-44B9-B8AA-8EED6E01470F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Niveau 3 - Présence Web du CHM National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27280" y="836280"/>
            <a:ext cx="651672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méliorer le contenu pour augmenter la dissémination d'informa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isséminer des informations liées à la biodiversité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Biodiversité du pay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tratégie, plan d'actions et rapports nationaux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utres documents nationaux liés à la biodiversité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formation par programmes concernant le pay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Faciliter la coopération scientifique &amp; techniq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ncontrer les acteurs nationaux et catalyser la coopération scientifique and techn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ffectuer des liens vers les agences de coopération du pay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ONU, UE, coopération bilatérale, ONG, ...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aire un inventaire des projets et/ou initiatives de coopér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ublier les demandes d'appui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omouvoir le transfert de technologi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-57600" y="290988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6E3E6-C55B-424D-B7B0-F0DE51BB0A10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Niveau 4 - Site Web du CHM National Complet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84000" y="980640"/>
            <a:ext cx="665964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ncourager le partage d'expériences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ar le support d'autres CHM nationaux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ans négliger son propre CHM nationa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n s'assurant que l'information reste à jou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n assurant la durabilité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n s'adaptant aux nouvelles situa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upport aux autres CHM nationaux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ans la même région / parlant la même lang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Établissement de contac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éparation de modules de formation pour partager les connaissanc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rganisation d'ateliers de form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upport du Secrétari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-57600" y="290988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025B3-2E40-4B8E-94E1-7ED0385A9EFD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Niveau 5 - CHM National Avancé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27280" y="981000"/>
            <a:ext cx="651672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évelopper l'interopérabilité avec d'autres réseaux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eropérabilité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utomatisation des échanges d'informations entre systèmes informatiqu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Grace aux standards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XML, XML Schema, SOAP, …)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emande de l'expertise en informat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utur du réseau CH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emp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BCH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CBD </a:t>
            </a:r>
            <a:r>
              <a:rPr b="1" lang="fr-FR" sz="1800" spc="-1" strike="noStrike" u="sng">
                <a:solidFill>
                  <a:srgbClr val="0000cc"/>
                </a:solidFill>
                <a:uFillTx/>
                <a:latin typeface="Arial Narrow"/>
                <a:hlinkClick r:id="rId1"/>
              </a:rPr>
              <a:t>Interopérabilité entre Convention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1800" spc="-1" strike="noStrike" u="sng">
                <a:solidFill>
                  <a:srgbClr val="0000cc"/>
                </a:solidFill>
                <a:uFillTx/>
                <a:latin typeface="Arial Narrow"/>
                <a:hlinkClick r:id="rId2"/>
              </a:rPr>
              <a:t>Page UNFCCC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GBIF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pecies2000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-57600" y="290988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36627-33A5-4978-BF72-0F1C52C83E3F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Conclusion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11280" y="836280"/>
            <a:ext cx="673272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oints clés du développement d'un CHM nationa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s de solution unique pour tous, mais des situations similair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ôle important du CHM nationa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tégrer le CHM dans la stratégie nationa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oujours difficile d'obtenir des ressources financièr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s partenariats peuvent être des solu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ncourager l'esprit d'initiativ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e Secrétariat appuiera le renforcement des CHM nationaux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r de l'assistance technique et des lignes directric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n promouvant le réseau CH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Ne pas hésiter à nous contacter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fficiel: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cretariat@biodiv.org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formel: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livier.demunck@biodiv.org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Questions, commentaires ou suggestions?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-57600" y="321948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ACA07-1C1A-4121-BE43-CD105B8C6585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cc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2420640"/>
            <a:ext cx="7993080" cy="28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"/>
              </a:rPr>
              <a:t>Stratégies pour le Développement</a:t>
            </a:r>
            <a:br>
              <a:rPr sz="2800"/>
            </a:br>
            <a:r>
              <a:rPr b="1" lang="fr-FR" sz="2800" spc="-1" strike="noStrike">
                <a:solidFill>
                  <a:srgbClr val="003300"/>
                </a:solidFill>
                <a:latin typeface="Arial"/>
              </a:rPr>
              <a:t> des </a:t>
            </a:r>
            <a:r>
              <a:rPr b="1" i="1" lang="fr-FR" sz="2800" spc="-1" strike="noStrike">
                <a:solidFill>
                  <a:srgbClr val="003300"/>
                </a:solidFill>
                <a:latin typeface="Arial"/>
              </a:rPr>
              <a:t>Centres d'Échanges Nationaux</a:t>
            </a:r>
            <a:br>
              <a:rPr sz="2800"/>
            </a:br>
            <a:br>
              <a:rPr sz="1400"/>
            </a:br>
            <a:r>
              <a:rPr b="1" i="1" lang="fr-FR" sz="2000" spc="-1" strike="noStrike">
                <a:solidFill>
                  <a:srgbClr val="003300"/>
                </a:solidFill>
                <a:latin typeface="Arial"/>
              </a:rPr>
              <a:t>13 Novembre 2006 - Antananarivo, Madagascar</a:t>
            </a:r>
            <a:br>
              <a:rPr sz="2000"/>
            </a:br>
            <a:br>
              <a:rPr sz="2000"/>
            </a:br>
            <a:r>
              <a:rPr b="0" i="1" lang="fr-FR" sz="2000" spc="-1" strike="noStrike">
                <a:solidFill>
                  <a:srgbClr val="003300"/>
                </a:solidFill>
                <a:latin typeface="Arial"/>
              </a:rPr>
              <a:t>Olivier de Munck - SCBD</a:t>
            </a:r>
            <a:r>
              <a:rPr b="1" i="1" lang="fr-FR" sz="2000" spc="-1" strike="noStrike">
                <a:solidFill>
                  <a:srgbClr val="003300"/>
                </a:solidFill>
                <a:latin typeface="Arial"/>
              </a:rPr>
              <a:t> </a:t>
            </a:r>
            <a:br>
              <a:rPr sz="2000"/>
            </a:br>
            <a:r>
              <a:rPr b="0" i="1" lang="fr-FR" sz="2000" spc="-1" strike="noStrike">
                <a:solidFill>
                  <a:srgbClr val="003300"/>
                </a:solidFill>
                <a:latin typeface="Arial"/>
              </a:rPr>
              <a:t>olivier.demunck@biodiv.org</a:t>
            </a:r>
            <a:endParaRPr b="1" i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154800" bIns="46080" anchor="t">
            <a:noAutofit/>
          </a:bodyPr>
          <a:p>
            <a:pPr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Atelier de formation sous-régionale 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 sur la mise en oeuvre du Centre d'Échange CHM 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de la Convention sur  la Diversité Biologiqu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6-17 Novembre 2006                                   Antananarivo, Madagascar</a:t>
            </a:r>
            <a:endParaRPr b="1" i="1" lang="en-US" sz="20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Objectif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84000" y="1628280"/>
            <a:ext cx="65883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omment renforcer l'efficacité du CHM?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ccent sur le renforcement de capacités et la coopération techniq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Quelles activités ou initiatives aux niveaux national et/ou international?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ropositions dans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UNEP/CBD/COP/8/18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lan stratégique du CHM pour 2005-2010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écision COP VIII/11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UNEP/CBD/COP/8/28/Add.1 Section III. 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ddendum au budget proposé pour 2007-2008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Vision du Secrétaire Exécutif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ction III. E - Services fournis par le CH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981000"/>
            <a:ext cx="6120000" cy="429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00"/>
                </a:solidFill>
                <a:latin typeface="Arial Narrow"/>
              </a:rPr>
              <a:t>Comment le CHM peut contribuer à la cible 2010 ?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-57600" y="211788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88AD9-F51D-42D7-9919-31FC6D819280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La Cible Biodiversité 2010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71640" y="1267920"/>
            <a:ext cx="6121440" cy="3529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txBody>
          <a:bodyPr lIns="92160" rIns="129600" tIns="46080" bIns="460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Atteindre d'ici 2010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une réduction significativ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du taux actuel de perte de biodiversité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aux niveaux global, régional et national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en tant que contributio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à la lutte contre la pauvreté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et en faveur de la vie sur terr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-57600" y="236700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0F81B-0AEC-4E51-9E64-28B8C590E431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La Cible Biodiversité 2010 - Objectif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11280" y="836280"/>
            <a:ext cx="673272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omouvoir la conservation de la diversité biologique d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écosystèmes, habitats and biom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omouvoir la conservation de la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diversité des espèc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omouvoir la conservation de la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diversité génét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omouvoir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l'utilisation et la consommation durab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éduction des pressions dues à la perte d'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habitat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, à l'utilisation de la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terr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, à la consommation d'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eau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ntrôle des menaces provenant d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espèces envahissant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lève des défis posés à la biodiversité dus au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changement climatiqu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et à la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pollution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aintenir la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capacité des écosystème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à fournir les biens et services de support à la vi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aintenir la diversité socio-culturelle d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communautés indigènes et locale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ssurer le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partage juste et équitable des bénéfice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provenant de l'utilisation des ressources génétiqu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mélioration par les Parties d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capacité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financières, humaines, scientifiques, techniques and technologiques pour implémenter la Conven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-57600" y="237024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5805360"/>
            <a:ext cx="6335640" cy="863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CA78C-6E35-4CA7-987D-81A8DB019F14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Centre d'Échange (CHM)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40000" y="1052280"/>
            <a:ext cx="68040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Établi part l'Art. 18.3  - Coopération technique &amp; scientifiq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fr-FR" sz="2000" spc="-1" strike="noStrike">
                <a:solidFill>
                  <a:srgbClr val="000000"/>
                </a:solidFill>
                <a:latin typeface="Arial Narrow"/>
              </a:rPr>
              <a:t>La </a:t>
            </a:r>
            <a:r>
              <a:rPr b="1" i="1" lang="fr-FR" sz="1800" spc="-1" strike="noStrike">
                <a:solidFill>
                  <a:srgbClr val="000000"/>
                </a:solidFill>
                <a:latin typeface="Arial Narrow"/>
              </a:rPr>
              <a:t>COP, lors de sa  première réunion, déterminera </a:t>
            </a:r>
            <a:br>
              <a:rPr sz="1800"/>
            </a:br>
            <a:r>
              <a:rPr b="1" i="1" lang="fr-FR" sz="1800" spc="-1" strike="noStrike">
                <a:solidFill>
                  <a:srgbClr val="000000"/>
                </a:solidFill>
                <a:latin typeface="Arial Narrow"/>
              </a:rPr>
              <a:t>comment établir un centre d'échange pour promouvoir </a:t>
            </a:r>
            <a:br>
              <a:rPr sz="1800"/>
            </a:br>
            <a:r>
              <a:rPr b="1" i="1" lang="fr-FR" sz="1800" spc="-1" strike="noStrike">
                <a:solidFill>
                  <a:srgbClr val="000000"/>
                </a:solidFill>
                <a:latin typeface="Arial Narrow"/>
              </a:rPr>
              <a:t>et faciliter la coopération technique et scientif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mplémentation guidée par les Décisions de la CO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/3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Établissement du CH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I/3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hase pilote &amp; PFN CHM (avant Fév. 1996!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II/4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irectives techniques, financières &amp; CHM-IAC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V/2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irectives techniques, financières et rev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V/14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lan stratégique CHM &amp; Prog. de travail à long-term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VI/18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irectives techniques &amp; demande de 2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Rev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VII/23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irectives techniques &amp; Procédures CHM-IAC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VIII/11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lan stratégique 2005-2010 et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ogramme de travai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-57600" y="236700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1413000"/>
            <a:ext cx="5760720" cy="1008000"/>
          </a:xfrm>
          <a:prstGeom prst="rect">
            <a:avLst/>
          </a:pr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65A3D-8CC4-4092-83BF-60385053815F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Décision VII/23 &amp; VIII/11 - Activités CHM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43280" y="980640"/>
            <a:ext cx="612144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our implémenter les Décisions VII/23 &amp; VIII/1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ise à jour du Plan stratégiq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Organisation d'ateliers régionaux / de form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ise à jour de la boîte à outi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éveloppement de portai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éveloppement de l'interopérabilité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mélioration du site web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upport aux champs thématiques &amp; aux questions multisectoriel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-57600" y="236700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E2410-53F2-4E1E-9997-9078D2856E4B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Décision VIII/11 - Plan Stratégique du CHM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56000" y="980640"/>
            <a:ext cx="6588000" cy="547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Groupe de travail sur la revue de l'implémentation (Sept. 2005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écision VIII/1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ise à jour du Plan stratégique (2005-2010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iss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3 objectifs stratégiq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aciliter la coopération technique and scientif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omouvoir l'échange d'inform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évelopper un réseau de partenair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rogramme de travai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-57600" y="236700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00882-E167-4974-8A0A-FEEFCA7E7FEA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Olivier de Munck (SCBD)</dc:creator>
  <dc:description>CHM Side Event, 27 March 2006, Curitiba, Brazil</dc:description>
  <cp:keywords>UNEP SCBD Biodiversity CHM</cp:keywords>
  <dc:language>en-US</dc:language>
  <cp:lastModifiedBy>Olivier de Munck</cp:lastModifiedBy>
  <cp:lastPrinted>1999-06-04T16:09:15Z</cp:lastPrinted>
  <dcterms:modified xsi:type="dcterms:W3CDTF">2006-11-13T13:47:52Z</dcterms:modified>
  <cp:revision>1189</cp:revision>
  <dc:subject>CHM</dc:subject>
  <dc:title>Strategies for Developing National CHM</dc:title>
</cp:coreProperties>
</file>