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4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5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B474-E936-4411-A3C5-37F7C8A9B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E8AC-2BD0-4F7E-8FDD-CA71BB019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886200" y="7920"/>
            <a:ext cx="29718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886200" y="8850240"/>
            <a:ext cx="29718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33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0" y="8850240"/>
            <a:ext cx="29718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0" y="7920"/>
            <a:ext cx="29718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847800" y="471600"/>
            <a:ext cx="5164200" cy="3873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417920"/>
            <a:ext cx="502920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55D9-8473-4F84-AAF1-AE2081CF4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886200" y="7920"/>
            <a:ext cx="29718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886200" y="8850240"/>
            <a:ext cx="29718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33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0" y="8850240"/>
            <a:ext cx="29718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0" y="7920"/>
            <a:ext cx="29718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847800" y="471600"/>
            <a:ext cx="5164200" cy="387324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417920"/>
            <a:ext cx="502920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D9077-33CA-4ECD-975E-61777D560B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0" y="795960"/>
            <a:ext cx="91440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68D1A-B596-4085-817D-92046D3C36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0" y="795960"/>
            <a:ext cx="4462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5760" y="795960"/>
            <a:ext cx="4462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E6C64-477A-4512-AEA7-300B95B6CB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29440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091680" y="-360"/>
            <a:ext cx="29440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83360" y="-360"/>
            <a:ext cx="29440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0" y="795960"/>
            <a:ext cx="29440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091680" y="795960"/>
            <a:ext cx="29440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83360" y="795960"/>
            <a:ext cx="29440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37D8C-E0B3-4857-8771-2D882A51FF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0" y="2057040"/>
            <a:ext cx="9144000" cy="116575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0" y="795960"/>
            <a:ext cx="4462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1E953-AF40-407E-98E5-2FA4E7D4F3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5760" y="795960"/>
            <a:ext cx="4462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0" y="795960"/>
            <a:ext cx="91440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0" y="795960"/>
            <a:ext cx="91440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0" y="795960"/>
            <a:ext cx="4462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5760" y="795960"/>
            <a:ext cx="4462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29440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91680" y="-360"/>
            <a:ext cx="29440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83360" y="-360"/>
            <a:ext cx="29440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0" y="795960"/>
            <a:ext cx="29440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91680" y="795960"/>
            <a:ext cx="29440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83360" y="795960"/>
            <a:ext cx="29440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19575-B26F-4E4D-9806-E5870E7E90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DCF01-88B9-4FD8-ACAA-B24EC73151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D419E-C2B4-46E5-9F87-151FB92E40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0" y="2057040"/>
            <a:ext cx="9144000" cy="116575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B6E8D-0810-4350-9FB4-B95D9CAF49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795960"/>
            <a:ext cx="4462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08B2D-B3D0-463C-B03D-76F02BE07C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5760" y="795960"/>
            <a:ext cx="4462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BDFDB-E012-4F5F-9D33-8CD0F7C91A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795960"/>
            <a:ext cx="91440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7ED5F-4452-4C2F-86E4-4491513CF6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971800" y="762120"/>
            <a:ext cx="6172200" cy="0"/>
          </a:xfrm>
          <a:prstGeom prst="line">
            <a:avLst/>
          </a:prstGeom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 Narrow"/>
              </a:rPr>
              <a:t>Click to edit the title text format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437920" y="914040"/>
            <a:ext cx="67057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499"/>
              </a:spcBef>
              <a:buClr>
                <a:srgbClr val="00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499"/>
              </a:spcBef>
              <a:buClr>
                <a:srgbClr val="00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2484000" y="6400800"/>
            <a:ext cx="6659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fr-FR" sz="14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3300"/>
                </a:solidFill>
                <a:latin typeface="Arial"/>
              </a:rPr>
              <a:t>Atelier sous-régional de 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237360"/>
            <a:ext cx="22096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ffffff"/>
                </a:solidFill>
                <a:latin typeface="Arial"/>
              </a:rPr>
              <a:t>Antananarivo, Madagascar</a:t>
            </a:r>
            <a:br>
              <a:rPr sz="1200"/>
            </a:br>
            <a:r>
              <a:rPr b="0" i="1" lang="fr-FR" sz="1200" spc="-1" strike="noStrike">
                <a:solidFill>
                  <a:srgbClr val="ffffff"/>
                </a:solidFill>
                <a:latin typeface="Arial"/>
              </a:rPr>
              <a:t>Novembre 2006 – Diapo </a:t>
            </a:r>
            <a:fld id="{157E32F5-1350-4734-A868-8AE50CAD9696}" type="slidenum">
              <a:rPr b="0" i="1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21150000">
            <a:off x="20160" y="225000"/>
            <a:ext cx="2200320" cy="11145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3300"/>
                </a:solidFill>
                <a:latin typeface="Arial Rounded MT Bold"/>
              </a:rPr>
              <a:t>Introduction </a:t>
            </a:r>
            <a:br>
              <a:rPr sz="2000"/>
            </a:br>
            <a:r>
              <a:rPr b="1" i="1" lang="fr-FR" sz="2000" spc="-1" strike="noStrike">
                <a:solidFill>
                  <a:srgbClr val="003300"/>
                </a:solidFill>
                <a:latin typeface="Arial Rounded MT Bold"/>
              </a:rPr>
              <a:t>aux Bases de </a:t>
            </a:r>
            <a:br>
              <a:rPr sz="2000"/>
            </a:br>
            <a:r>
              <a:rPr b="1" i="1" lang="fr-FR" sz="2000" spc="-1" strike="noStrike">
                <a:solidFill>
                  <a:srgbClr val="003300"/>
                </a:solidFill>
                <a:latin typeface="Arial Rounded MT Bold"/>
              </a:rPr>
              <a:t>Donné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8000" y="2071800"/>
            <a:ext cx="217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1. Aperçu général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2. BD relationnelle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3. Conception de BD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4. Opérations SQL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5. BD sur Interne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6. Conclusio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1981080"/>
            <a:ext cx="2057400" cy="0"/>
          </a:xfrm>
          <a:prstGeom prst="line">
            <a:avLst/>
          </a:prstGeom>
          <a:ln w="255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1522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ff99"/>
                </a:solidFill>
                <a:latin typeface="Arial Rounded MT Bold"/>
              </a:rPr>
              <a:t>Contenu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24000" y="5635080"/>
            <a:ext cx="188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ffffff"/>
                </a:solidFill>
                <a:latin typeface="Arial"/>
              </a:rPr>
              <a:t>Centre d'Échange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ffffff"/>
                </a:solidFill>
                <a:latin typeface="Arial"/>
              </a:rPr>
              <a:t>de la Convention sur la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ffffff"/>
                </a:solidFill>
                <a:latin typeface="Arial"/>
              </a:rPr>
              <a:t>Diversité Biologique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0" y="4869000"/>
            <a:ext cx="692280" cy="1266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ccff99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Convention sur la Diversité Biologiqu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Centre d'Echang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08000" y="5661000"/>
            <a:ext cx="731880" cy="1339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 Narrow"/>
              </a:rPr>
              <a:t>Click to edit the outline text format</a:t>
            </a: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00"/>
              </a:spcBef>
              <a:buClr>
                <a:srgbClr val="00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00"/>
              </a:spcBef>
              <a:buClr>
                <a:srgbClr val="00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olivier.demunck@biodiv.org" TargetMode="External"/><Relationship Id="rId2" Type="http://schemas.openxmlformats.org/officeDocument/2006/relationships/hyperlink" Target="mailto:marcos.silva@biodiv.org" TargetMode="Externa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hyperlink" Target="http://www.commentcamarche.net/" TargetMode="External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hyperlink" Target="http://www.microsoft.com/" TargetMode="External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hyperlink" Target="http://www.phpinfo.net/" TargetMode="External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hyperlink" Target="http://cerig.efpg.inpg.fr/tutoriel/bases-de-donnees" TargetMode="External"/><Relationship Id="rId2" Type="http://schemas.openxmlformats.org/officeDocument/2006/relationships/hyperlink" Target="http://www.microsoft.com/" TargetMode="External"/><Relationship Id="rId3" Type="http://schemas.openxmlformats.org/officeDocument/2006/relationships/hyperlink" Target="http://www.oracle.com/" TargetMode="External"/><Relationship Id="rId4" Type="http://schemas.openxmlformats.org/officeDocument/2006/relationships/hyperlink" Target="http://www.commentcamarche.com/" TargetMode="External"/><Relationship Id="rId5" Type="http://schemas.openxmlformats.org/officeDocument/2006/relationships/hyperlink" Target="http://www.developpez.com/" TargetMode="External"/><Relationship Id="rId6" Type="http://schemas.openxmlformats.org/officeDocument/2006/relationships/hyperlink" Target="http://www.asp-php.net/" TargetMode="External"/><Relationship Id="rId7" Type="http://schemas.openxmlformats.org/officeDocument/2006/relationships/hyperlink" Target="http://www.phpinfo.net/" TargetMode="External"/><Relationship Id="rId8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ccff99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491920"/>
            <a:ext cx="9144000" cy="23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i="1" lang="fr-FR" sz="3600" spc="-1" strike="noStrike">
                <a:solidFill>
                  <a:srgbClr val="003300"/>
                </a:solidFill>
                <a:latin typeface="Arial Rounded MT Bold"/>
              </a:rPr>
              <a:t>Introduction aux Bases de Données</a:t>
            </a:r>
            <a:br>
              <a:rPr sz="3200"/>
            </a:b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Arial Narrow"/>
              </a:rPr>
              <a:t>Atelier de formation sous-régional </a:t>
            </a:r>
            <a:br>
              <a:rPr sz="2800"/>
            </a:br>
            <a:r>
              <a:rPr b="1" i="1" lang="fr-FR" sz="2800" spc="-1" strike="noStrike">
                <a:solidFill>
                  <a:srgbClr val="ffffff"/>
                </a:solidFill>
                <a:latin typeface="Arial Narrow"/>
              </a:rPr>
              <a:t> sur la mise en oeuvre du Centre d'Échange CHM </a:t>
            </a:r>
            <a:br>
              <a:rPr sz="2800"/>
            </a:br>
            <a:r>
              <a:rPr b="1" i="1" lang="fr-FR" sz="2800" spc="-1" strike="noStrike">
                <a:solidFill>
                  <a:srgbClr val="ffffff"/>
                </a:solidFill>
                <a:latin typeface="Arial Narrow"/>
              </a:rPr>
              <a:t>de la Convention sur  la Diversité Biologique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 Narrow"/>
              </a:rPr>
              <a:t>6-17 Novembre 2006                                   Antananarivo, Madagascar</a:t>
            </a:r>
            <a:endParaRPr b="1" i="1" lang="en-US" sz="20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7" name=""/>
          <p:cNvSpPr/>
          <p:nvPr/>
        </p:nvSpPr>
        <p:spPr>
          <a:xfrm>
            <a:off x="1258920" y="4149720"/>
            <a:ext cx="6613560" cy="0"/>
          </a:xfrm>
          <a:prstGeom prst="line">
            <a:avLst/>
          </a:prstGeom>
          <a:ln w="507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Étape 1 - Entrer dans le SGBD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771280" y="981000"/>
            <a:ext cx="6372360" cy="526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Spécifique à chaque SGB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Suppose l'installation préalable du SGB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Deux grandes catégories de SGB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Entreprises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Serveurs dédiés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(vrais SGBD)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ex.: Oracle, SQL Server, MySQL, DB2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ersonnels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Application PC   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(mini SGBD)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ex. MS-Access, dBase, Paradox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61DDD-C695-4491-B3EF-277B01868D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Étape 2 - Créer une base de données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27280" y="980640"/>
            <a:ext cx="6516720" cy="554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Nouvelle base de données MS-Acc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Nouveau fichier MDB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exercice7_db.mdb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Objets MS-Access - Niveau base de donné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Tables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our contenir les donné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equêtes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our manipuler les donné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ouverts par cette format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Objets MS-Access - Niveau applic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Formulaires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our les saisies de donné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États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our imprimer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ages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(Pour des pages spéciales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Macros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our effectuer certaines opération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Modules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our programmer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Non-couverts par cette format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3B191-9AA0-4CFE-9B11-5D0F8ECDDF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Étape 3 - Créer une table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7920" y="914040"/>
            <a:ext cx="6705720" cy="546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Table de Personn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Définir les champs d'informations sur les personn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No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réno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ay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Définir une CLÉ PRIMAIR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Très importan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Identificateur unique (ID en jargon informatique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ppelons cette clé PersID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31410-AD29-4731-AA46-C708165912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Étape 4 - Saisir quelques données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700000" y="1052280"/>
            <a:ext cx="644364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Ouvrir la table des Personn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ntrer quelques personn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haque LIGNE est un ENREGISTREMEN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haque COLONNE est un CHAMP D'INFORMAT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A9C03-B55F-45A0-851A-7CE7FBFE37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Étape 5 - Effectuer une recherche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00000" y="1125000"/>
            <a:ext cx="6443640" cy="512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Basée sur des critères de recherch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xemple:  PAYS = "BURUNDI"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Méthode Graphique (MS-Acces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Méthode SQ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(sélectionner)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SELECT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Nom, Préno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(de)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FROM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ersonn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(où)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WHERE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ays="Burundi"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BC016-8DC9-4ED7-907F-CD058CE013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Récapitulation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484000" y="981000"/>
            <a:ext cx="6659640" cy="56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Une base de données relationnell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ontient des informations structurées (tables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qui peuvent être actualisé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qui  peuvent être recherché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3 sections suivan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oncepts fondamentaux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2. BD relationnell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tructurer les données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3. Conception de BD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ctualisation et recherche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4. Opérations SQ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Nombreuses utilisa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ersonnell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Entrepris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Internet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5. BD sur Interne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Questions?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7A4CB-2498-4668-9AD2-084EFD1540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ccff99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4920" y="2924280"/>
            <a:ext cx="8209080" cy="151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3300"/>
                </a:solidFill>
                <a:latin typeface="Arial Rounded MT Bold"/>
              </a:rPr>
              <a:t>2. Bases de Données Relationnelles</a:t>
            </a: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Arial Narrow"/>
              </a:rPr>
              <a:t>Atelier de formation sous-régional </a:t>
            </a:r>
            <a:br>
              <a:rPr sz="2800"/>
            </a:br>
            <a:r>
              <a:rPr b="1" i="1" lang="fr-FR" sz="2800" spc="-1" strike="noStrike">
                <a:solidFill>
                  <a:srgbClr val="ffffff"/>
                </a:solidFill>
                <a:latin typeface="Arial Narrow"/>
              </a:rPr>
              <a:t> sur la mise en oeuvre du Centre d'Échange CHM </a:t>
            </a:r>
            <a:br>
              <a:rPr sz="2800"/>
            </a:br>
            <a:r>
              <a:rPr b="1" i="1" lang="fr-FR" sz="2800" spc="-1" strike="noStrike">
                <a:solidFill>
                  <a:srgbClr val="ffffff"/>
                </a:solidFill>
                <a:latin typeface="Arial Narrow"/>
              </a:rPr>
              <a:t>de la Convention sur  la Diversité Biologique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 Narrow"/>
              </a:rPr>
              <a:t>6-17 Novembre 2006                                   Antananarivo, Madagascar</a:t>
            </a:r>
            <a:endParaRPr b="1" i="1" lang="en-US" sz="2000" spc="-1" strike="noStrike">
              <a:solidFill>
                <a:srgbClr val="0033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Introduction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987280" y="907560"/>
            <a:ext cx="6156360" cy="40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Concepts relationn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Tabl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olonn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elation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Notions d'intégrité référentiell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Remarq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Théorie très simplifié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as d'algèbre relationnell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pproche intuitive et pragmatiqu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77915-AA04-49A5-99DE-CB83AA5DBD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Tables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56000" y="980640"/>
            <a:ext cx="658800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nformations organisées en TAB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1 LIGNE par enregistrement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         (entité de la réalité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1 COLONNE par champ d'information  (attribut d'une entité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xemple: table de Personn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771640" y="4149720"/>
          <a:ext cx="3529080" cy="2040120"/>
        </p:xfrm>
        <a:graphic>
          <a:graphicData uri="http://schemas.openxmlformats.org/drawingml/2006/table">
            <a:tbl>
              <a:tblPr/>
              <a:tblGrid>
                <a:gridCol w="939960"/>
                <a:gridCol w="1165320"/>
                <a:gridCol w="1423800"/>
              </a:tblGrid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PersID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93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Prénom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93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Nom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93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an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 Koeijer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lain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wakunda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livier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 Munck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rco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lva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.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93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…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..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93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93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 flipH="1">
            <a:off x="2843280" y="2924280"/>
            <a:ext cx="2520720" cy="666720"/>
          </a:xfrm>
          <a:prstGeom prst="wedgeRoundRectCallout">
            <a:avLst>
              <a:gd name="adj1" fmla="val -10898"/>
              <a:gd name="adj2" fmla="val 130000"/>
              <a:gd name="adj3" fmla="val 1666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00"/>
                </a:solidFill>
                <a:latin typeface="Arial Narrow"/>
              </a:rPr>
              <a:t>Colonne, attribut ou</a:t>
            </a:r>
            <a:br>
              <a:rPr sz="1800"/>
            </a:br>
            <a:r>
              <a:rPr b="1" lang="fr-FR" sz="1800" spc="-1" strike="noStrike">
                <a:solidFill>
                  <a:srgbClr val="003300"/>
                </a:solidFill>
                <a:latin typeface="Arial Narrow"/>
              </a:rPr>
              <a:t>champ d'informatio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227640" y="3284640"/>
            <a:ext cx="2594160" cy="666720"/>
          </a:xfrm>
          <a:prstGeom prst="wedgeRoundRectCallout">
            <a:avLst>
              <a:gd name="adj1" fmla="val 46939"/>
              <a:gd name="adj2" fmla="val 216189"/>
              <a:gd name="adj3" fmla="val 1666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00"/>
                </a:solidFill>
                <a:latin typeface="Arial Narrow"/>
              </a:rPr>
              <a:t>Ligne, entité ou</a:t>
            </a:r>
            <a:br>
              <a:rPr sz="1800"/>
            </a:br>
            <a:r>
              <a:rPr b="1" lang="fr-FR" sz="1800" spc="-1" strike="noStrike">
                <a:solidFill>
                  <a:srgbClr val="003300"/>
                </a:solidFill>
                <a:latin typeface="Arial Narrow"/>
              </a:rPr>
              <a:t>enregistremen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7AEA9-56EE-499D-AD34-A0C14E5962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Colonnes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56000" y="907560"/>
            <a:ext cx="6588000" cy="57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Chaque colonne a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Un NOM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 Pour identifier la colonn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Un TYPE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 Pour indiquer le domaine de valeurs permis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4 grands types génériq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Texte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"abcdef"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Nombre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12345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Date/Heure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20/01/2005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ogique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0 ou 1, Vrai ou Faux, Oui ou N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Nombreux types spécifiques (variantes selon les SGBD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Texte: longueur fixe ou variable, encodage (Unicode, ASCII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Nombres: entiers, réels, décimaux, monnai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Date/Heure: précision variable (milliseconde), Intervall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D9F8F-BE3E-488A-8BB0-A746DD1DB8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Objectifs de la formation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987640" y="1413000"/>
            <a:ext cx="5616720" cy="3240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Comprendre les bases de donnée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Concevoir une base de données simp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S'adapter à toute base de donné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-57600" y="219096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7A62A-CE7D-449E-96A5-440B456701A3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77880" y="6230880"/>
            <a:ext cx="1913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37040" y="6230880"/>
            <a:ext cx="28699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30320" y="1582560"/>
            <a:ext cx="6702480" cy="39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Clé Primaire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7920" y="914040"/>
            <a:ext cx="6705720" cy="568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Chaque table doit avoir une CLÉ PRIMAIR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La clé primaire porte souvent le nom ID (Identifiant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La clé peut prendre plusieurs formes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Numéro automatique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e plus pratiqu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Un code (numérique ou textuel)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(ex. code de pays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Une combinaison d'attributs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Déconseillé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Le numéro automatique est fortement recommandé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ucune maintenance nécessair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Invariable et stable (ne peut pas être modifié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Indépendant de la valeur des donné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erforman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Quelques inconvénients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- Aucun contrôle des valeurs par l'utilisateur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- Valeur interne au SGBD (non-interopérable)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une autre colonne peut toujours être ajouté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>
            <a:off x="2843280" y="1413000"/>
            <a:ext cx="5689440" cy="70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Une CLE PRIMAIRE est un identificateur UNIQUE</a:t>
            </a:r>
            <a:br>
              <a:rPr sz="2000"/>
            </a:b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de chaque ligne de la tabl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6374C-0E99-4AFE-8075-88A693F063E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Valeur NULL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56000" y="907920"/>
            <a:ext cx="6588000" cy="28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Valeur spécia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ignifie AUCUNE VALEUR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'applique à tous les typ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xemple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ersonnes sans adresse e-mai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lusieurs raisons possibles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(sans e-mail, inconnues, non saisies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771640" y="4149720"/>
          <a:ext cx="6048360" cy="2040120"/>
        </p:xfrm>
        <a:graphic>
          <a:graphicData uri="http://schemas.openxmlformats.org/drawingml/2006/table">
            <a:tbl>
              <a:tblPr/>
              <a:tblGrid>
                <a:gridCol w="863640"/>
                <a:gridCol w="1297080"/>
                <a:gridCol w="1295280"/>
                <a:gridCol w="2592360"/>
              </a:tblGrid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PersID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93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Prénom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93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Nom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93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Email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93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an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 Koeijer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ULL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lain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wakunda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ULL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livier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 Munck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 u="sng">
                          <a:solidFill>
                            <a:srgbClr val="0000cc"/>
                          </a:solidFill>
                          <a:uFillTx/>
                          <a:latin typeface="Arial Narrow"/>
                          <a:hlinkClick r:id="rId1"/>
                        </a:rPr>
                        <a:t>olivier.demunck@biodiv.org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rco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lva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 u="sng">
                          <a:solidFill>
                            <a:srgbClr val="0000cc"/>
                          </a:solidFill>
                          <a:uFillTx/>
                          <a:latin typeface="Arial Narrow"/>
                          <a:hlinkClick r:id="rId2"/>
                        </a:rPr>
                        <a:t>marcos.silva@biodiv.org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.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93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…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..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93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93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93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65190-3A33-47F5-97B3-C8FC0FEA8F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Notion de Relation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438280" y="914040"/>
            <a:ext cx="6166080" cy="424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xemple de RELATION entre 2 ENTITÉS du monde ré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Graphe de la rel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Table de la rel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"/>
          <p:cNvSpPr/>
          <p:nvPr/>
        </p:nvSpPr>
        <p:spPr>
          <a:xfrm>
            <a:off x="2843280" y="1484280"/>
            <a:ext cx="568944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Une Personne est MEMBRE d'une Organisa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43280" y="2421000"/>
            <a:ext cx="1800000" cy="194472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 Narrow"/>
              </a:rPr>
              <a:t>Han   x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 Narrow"/>
              </a:rPr>
              <a:t>Alain  x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 Narrow"/>
              </a:rPr>
              <a:t>Olivier  x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 Narrow"/>
              </a:rPr>
              <a:t>Marcos  x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96000" y="2494080"/>
            <a:ext cx="2592360" cy="201600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 Narrow"/>
              </a:rPr>
              <a:t>x Ministère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 Narrow"/>
              </a:rPr>
              <a:t>x Musée Hist. Nat.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 Narrow"/>
              </a:rPr>
              <a:t>x SCBD  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67280" y="2998800"/>
            <a:ext cx="2017440" cy="574560"/>
          </a:xfrm>
          <a:prstGeom prst="line">
            <a:avLst/>
          </a:prstGeom>
          <a:ln w="31680">
            <a:solidFill>
              <a:srgbClr val="00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40360" y="3212640"/>
            <a:ext cx="2303280" cy="73080"/>
          </a:xfrm>
          <a:prstGeom prst="line">
            <a:avLst/>
          </a:prstGeom>
          <a:ln w="31680">
            <a:solidFill>
              <a:srgbClr val="00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11640" y="3573360"/>
            <a:ext cx="2305080" cy="287280"/>
          </a:xfrm>
          <a:prstGeom prst="line">
            <a:avLst/>
          </a:prstGeom>
          <a:ln w="31680">
            <a:solidFill>
              <a:srgbClr val="00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211640" y="3860280"/>
            <a:ext cx="2376360" cy="73080"/>
          </a:xfrm>
          <a:prstGeom prst="line">
            <a:avLst/>
          </a:prstGeom>
          <a:ln w="31680">
            <a:solidFill>
              <a:srgbClr val="00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796000" y="4653000"/>
          <a:ext cx="2589120" cy="2000160"/>
        </p:xfrm>
        <a:graphic>
          <a:graphicData uri="http://schemas.openxmlformats.org/drawingml/2006/table">
            <a:tbl>
              <a:tblPr/>
              <a:tblGrid>
                <a:gridCol w="1165320"/>
                <a:gridCol w="142380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Prénom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93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Organisation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93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an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sée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lain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inistère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livier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CBD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rco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93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CBD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93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2843280" y="5013360"/>
            <a:ext cx="2663640" cy="1038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Toute RELATION </a:t>
            </a:r>
            <a:br>
              <a:rPr sz="2000"/>
            </a:br>
            <a:r>
              <a:rPr b="1" lang="en-US" sz="2200" spc="-1" strike="noStrike">
                <a:solidFill>
                  <a:srgbClr val="0033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peut être représentée </a:t>
            </a:r>
            <a:br>
              <a:rPr sz="2000"/>
            </a:b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par une TABL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E2F87-2A61-49D4-8AF0-1457C426E77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Établissement de la Relation 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700000" y="1125000"/>
            <a:ext cx="6443640" cy="15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l faut une RÉFÉRENCE UNIQUE à une Organis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Se référer à la CLÉ PRIMAIRE de l'Organis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Ajouter une colonne à la table Personnes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 Création d'une CLÉ ÉTRANGÈR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340000" y="4059360"/>
          <a:ext cx="3673440" cy="1674720"/>
        </p:xfrm>
        <a:graphic>
          <a:graphicData uri="http://schemas.openxmlformats.org/drawingml/2006/table">
            <a:tbl>
              <a:tblPr/>
              <a:tblGrid>
                <a:gridCol w="766800"/>
                <a:gridCol w="928800"/>
                <a:gridCol w="1257120"/>
                <a:gridCol w="720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PersID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93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Prenom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93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Nom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93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OrgID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93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an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 Koeijer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lain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wakunda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livier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 Munck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93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rco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93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lva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93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9360">
                      <a:solidFill>
                        <a:srgbClr val="0033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6804000" y="4059360"/>
          <a:ext cx="2232000" cy="1339560"/>
        </p:xfrm>
        <a:graphic>
          <a:graphicData uri="http://schemas.openxmlformats.org/drawingml/2006/table">
            <a:tbl>
              <a:tblPr/>
              <a:tblGrid>
                <a:gridCol w="792360"/>
                <a:gridCol w="14396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OrgID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93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Nom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93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inistère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sée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93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CBD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93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5648400" y="3654360"/>
            <a:ext cx="1434960" cy="392040"/>
          </a:xfrm>
          <a:custGeom>
            <a:avLst/>
            <a:gdLst/>
            <a:ahLst/>
            <a:rect l="l" t="t" r="r" b="b"/>
            <a:pathLst>
              <a:path w="904" h="247">
                <a:moveTo>
                  <a:pt x="0" y="247"/>
                </a:moveTo>
                <a:lnTo>
                  <a:pt x="4" y="0"/>
                </a:lnTo>
                <a:lnTo>
                  <a:pt x="901" y="0"/>
                </a:lnTo>
                <a:lnTo>
                  <a:pt x="904" y="241"/>
                </a:lnTo>
              </a:path>
            </a:pathLst>
          </a:custGeom>
          <a:noFill/>
          <a:ln w="76320">
            <a:solidFill>
              <a:srgbClr val="00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7092360" y="2781360"/>
            <a:ext cx="1942920" cy="790560"/>
          </a:xfrm>
          <a:prstGeom prst="wedgeRoundRectCallout">
            <a:avLst>
              <a:gd name="adj1" fmla="val 32842"/>
              <a:gd name="adj2" fmla="val 111643"/>
              <a:gd name="adj3" fmla="val 1666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00"/>
                </a:solidFill>
                <a:latin typeface="Arial Narrow"/>
              </a:rPr>
              <a:t>Clé Primaire des Organisation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986920" y="2709720"/>
            <a:ext cx="2303640" cy="790560"/>
          </a:xfrm>
          <a:prstGeom prst="wedgeRoundRectCallout">
            <a:avLst>
              <a:gd name="adj1" fmla="val -55379"/>
              <a:gd name="adj2" fmla="val 119273"/>
              <a:gd name="adj3" fmla="val 1666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00"/>
                </a:solidFill>
                <a:latin typeface="Arial Narrow"/>
              </a:rPr>
              <a:t>Clé Étrangère vers les Organisation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012000" y="4581000"/>
            <a:ext cx="792000" cy="287640"/>
          </a:xfrm>
          <a:prstGeom prst="line">
            <a:avLst/>
          </a:prstGeom>
          <a:ln w="31680">
            <a:solidFill>
              <a:srgbClr val="0000c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12000" y="5227560"/>
            <a:ext cx="790560" cy="1800"/>
          </a:xfrm>
          <a:prstGeom prst="line">
            <a:avLst/>
          </a:prstGeom>
          <a:ln w="31680">
            <a:solidFill>
              <a:srgbClr val="0000c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12000" y="4581360"/>
            <a:ext cx="792000" cy="287640"/>
          </a:xfrm>
          <a:prstGeom prst="line">
            <a:avLst/>
          </a:prstGeom>
          <a:ln w="31680">
            <a:solidFill>
              <a:srgbClr val="0000c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6012000" y="5301720"/>
            <a:ext cx="792000" cy="287640"/>
          </a:xfrm>
          <a:prstGeom prst="line">
            <a:avLst/>
          </a:prstGeom>
          <a:ln w="31680">
            <a:solidFill>
              <a:srgbClr val="0000c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0EF1F-166D-4286-9FB7-46120AFDAD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Clé Étrangère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84000" y="1773000"/>
            <a:ext cx="6443640" cy="19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l y a 2 types de clés dans la table Personn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CLÉ PRIMAIRE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PersI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Identifie la ligne courante de la MÊME table (Personnes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CLÉ ÉTRANGÈRE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OrgI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e réfère à une ligne d'une AUTRE table (Organisations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059280" y="5013360"/>
          <a:ext cx="4537080" cy="1674720"/>
        </p:xfrm>
        <a:graphic>
          <a:graphicData uri="http://schemas.openxmlformats.org/drawingml/2006/table">
            <a:tbl>
              <a:tblPr/>
              <a:tblGrid>
                <a:gridCol w="947520"/>
                <a:gridCol w="1146240"/>
                <a:gridCol w="1511280"/>
                <a:gridCol w="93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PersID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93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Prenom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93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Nom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93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OrgID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93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an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 Koeijer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lain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wakunda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livier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 Munck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93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rco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9360">
                      <a:solidFill>
                        <a:srgbClr val="0033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lva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9360">
                      <a:solidFill>
                        <a:srgbClr val="0033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9360">
                      <a:solidFill>
                        <a:srgbClr val="0033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3492360" y="907920"/>
            <a:ext cx="4319640" cy="70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Une CLÉ ÉTRANGÈRE est une </a:t>
            </a:r>
            <a:br>
              <a:rPr sz="2000"/>
            </a:b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RÉFÉRENCE à une CLÉ PRIMAIR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555280" y="3860640"/>
            <a:ext cx="2089080" cy="648000"/>
          </a:xfrm>
          <a:prstGeom prst="wedgeRoundRectCallout">
            <a:avLst>
              <a:gd name="adj1" fmla="val 5166"/>
              <a:gd name="adj2" fmla="val 123282"/>
              <a:gd name="adj3" fmla="val 1666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00"/>
                </a:solidFill>
                <a:latin typeface="Arial Narrow"/>
              </a:rPr>
              <a:t>Clé Primaire</a:t>
            </a:r>
            <a:br>
              <a:rPr sz="1800"/>
            </a:br>
            <a:r>
              <a:rPr b="1" lang="fr-FR" sz="1800" spc="-1" strike="noStrike">
                <a:solidFill>
                  <a:srgbClr val="003300"/>
                </a:solidFill>
                <a:latin typeface="Arial Narrow"/>
              </a:rPr>
              <a:t>des Personnes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787280" y="3860640"/>
            <a:ext cx="2160360" cy="648000"/>
          </a:xfrm>
          <a:prstGeom prst="wedgeRoundRectCallout">
            <a:avLst>
              <a:gd name="adj1" fmla="val -51694"/>
              <a:gd name="adj2" fmla="val 125731"/>
              <a:gd name="adj3" fmla="val 1666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00"/>
                </a:solidFill>
                <a:latin typeface="Arial Narrow"/>
              </a:rPr>
              <a:t>Clé Étrangère vers les Organisations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93080" y="4437000"/>
            <a:ext cx="574560" cy="542880"/>
          </a:xfrm>
          <a:custGeom>
            <a:avLst/>
            <a:gdLst/>
            <a:ahLst/>
            <a:rect l="l" t="t" r="r" b="b"/>
            <a:pathLst>
              <a:path w="613" h="433">
                <a:moveTo>
                  <a:pt x="0" y="418"/>
                </a:moveTo>
                <a:lnTo>
                  <a:pt x="1" y="433"/>
                </a:lnTo>
                <a:lnTo>
                  <a:pt x="1" y="1"/>
                </a:lnTo>
                <a:lnTo>
                  <a:pt x="613" y="0"/>
                </a:lnTo>
              </a:path>
            </a:pathLst>
          </a:custGeom>
          <a:noFill/>
          <a:ln w="76320">
            <a:solidFill>
              <a:srgbClr val="00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45320" y="4221000"/>
            <a:ext cx="149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 Narrow"/>
              </a:rPr>
              <a:t>Vers la table des</a:t>
            </a:r>
            <a:br>
              <a:rPr sz="1600"/>
            </a:br>
            <a:r>
              <a:rPr b="1" lang="en-US" sz="1600" spc="-1" strike="noStrike">
                <a:solidFill>
                  <a:srgbClr val="003300"/>
                </a:solidFill>
                <a:latin typeface="Arial Narrow"/>
              </a:rPr>
              <a:t>Organisation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5DF7F-8D81-4D52-B249-6EA7709BDBD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Types de relations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305080" y="914040"/>
            <a:ext cx="6804000" cy="568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2 principaux types de relations entre tab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1-N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Un-à-Plusieu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Exemple: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- Chaque Organisation peut avoir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N Personnes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membres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- Chaque Personne ne peut être membre que d'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1 Organisat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Mise en oeuvre: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jouter une CLÉ ÉTRANGÈRE dans la table des Plusieur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N-N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Plusieurs-à-Plusieu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Exemple: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- Chaque Organisation peut avoir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N Personnes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membres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- Chaque Personne peut être membre de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N Organisation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Mise en oeuvre: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réer une table relation avec les 2 CLÉS ÉTRANGÈR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511C6-BFDF-4805-A58B-3FD8E80A404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Relation 1-à-Plusieurs (1-N)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305080" y="914040"/>
            <a:ext cx="6804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xemple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haque Organisation peut avoir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N Personnes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membr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haque Personne ne peut être membre que d'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1 Organisat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Mise en oeuvre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À chaque Personne, on doit pouvoir associer 1 Organisat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jouter une CLÉ ÉTRANGÈRE dans la table des Personn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340000" y="4707000"/>
          <a:ext cx="3673440" cy="1674720"/>
        </p:xfrm>
        <a:graphic>
          <a:graphicData uri="http://schemas.openxmlformats.org/drawingml/2006/table">
            <a:tbl>
              <a:tblPr/>
              <a:tblGrid>
                <a:gridCol w="766800"/>
                <a:gridCol w="928800"/>
                <a:gridCol w="1257120"/>
                <a:gridCol w="720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PersID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93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Prenom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93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Nom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93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OrgID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93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an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 Koeijer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lain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wakunda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livier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 Munck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93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rco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93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lva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93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9360">
                      <a:solidFill>
                        <a:srgbClr val="0033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6804000" y="4707000"/>
          <a:ext cx="2232000" cy="1339560"/>
        </p:xfrm>
        <a:graphic>
          <a:graphicData uri="http://schemas.openxmlformats.org/drawingml/2006/table">
            <a:tbl>
              <a:tblPr/>
              <a:tblGrid>
                <a:gridCol w="792360"/>
                <a:gridCol w="14396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OrgID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93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Nom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93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inistère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sée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93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CBD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93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5648400" y="4302000"/>
            <a:ext cx="1434960" cy="392400"/>
          </a:xfrm>
          <a:custGeom>
            <a:avLst/>
            <a:gdLst/>
            <a:ahLst/>
            <a:rect l="l" t="t" r="r" b="b"/>
            <a:pathLst>
              <a:path w="904" h="247">
                <a:moveTo>
                  <a:pt x="0" y="247"/>
                </a:moveTo>
                <a:lnTo>
                  <a:pt x="4" y="0"/>
                </a:lnTo>
                <a:lnTo>
                  <a:pt x="901" y="0"/>
                </a:lnTo>
                <a:lnTo>
                  <a:pt x="904" y="241"/>
                </a:lnTo>
              </a:path>
            </a:pathLst>
          </a:custGeom>
          <a:noFill/>
          <a:ln w="76320">
            <a:solidFill>
              <a:srgbClr val="00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092360" y="3357720"/>
            <a:ext cx="1942920" cy="790560"/>
          </a:xfrm>
          <a:prstGeom prst="wedgeRoundRectCallout">
            <a:avLst>
              <a:gd name="adj1" fmla="val 38476"/>
              <a:gd name="adj2" fmla="val 118069"/>
              <a:gd name="adj3" fmla="val 1666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00"/>
                </a:solidFill>
                <a:latin typeface="Arial Narrow"/>
              </a:rPr>
              <a:t>Clé Primaire des Organisation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770920" y="3500280"/>
            <a:ext cx="2303640" cy="790560"/>
          </a:xfrm>
          <a:prstGeom prst="wedgeRoundRectCallout">
            <a:avLst>
              <a:gd name="adj1" fmla="val -67921"/>
              <a:gd name="adj2" fmla="val 98592"/>
              <a:gd name="adj3" fmla="val 1666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00"/>
                </a:solidFill>
                <a:latin typeface="Arial Narrow"/>
              </a:rPr>
              <a:t>Clé Étrangère vers les Organisation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012000" y="5229360"/>
            <a:ext cx="792000" cy="287280"/>
          </a:xfrm>
          <a:prstGeom prst="line">
            <a:avLst/>
          </a:prstGeom>
          <a:ln w="31680">
            <a:solidFill>
              <a:srgbClr val="0000c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12000" y="5875200"/>
            <a:ext cx="790560" cy="1800"/>
          </a:xfrm>
          <a:prstGeom prst="line">
            <a:avLst/>
          </a:prstGeom>
          <a:ln w="31680">
            <a:solidFill>
              <a:srgbClr val="0000c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2000" y="5229360"/>
            <a:ext cx="792000" cy="287280"/>
          </a:xfrm>
          <a:prstGeom prst="line">
            <a:avLst/>
          </a:prstGeom>
          <a:ln w="31680">
            <a:solidFill>
              <a:srgbClr val="0000c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012000" y="5950080"/>
            <a:ext cx="792000" cy="287280"/>
          </a:xfrm>
          <a:prstGeom prst="line">
            <a:avLst/>
          </a:prstGeom>
          <a:ln w="31680">
            <a:solidFill>
              <a:srgbClr val="0000c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C4600-A3A2-46AD-B124-872F423E433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Relation Plusieurs-à-Plusieurs (N-N)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305080" y="914400"/>
            <a:ext cx="6804000" cy="23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xemple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haque Organisation peut avoir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N Personnes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membr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haque Personne peut être membre de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N Organisation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Mise en oeuvre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Besoin d'une table supplémentaire pour représenter la relat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réer une table relation avec les 2 CLÉS ÉTRANGÈR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868480" y="3933720"/>
          <a:ext cx="2207880" cy="2009880"/>
        </p:xfrm>
        <a:graphic>
          <a:graphicData uri="http://schemas.openxmlformats.org/drawingml/2006/table">
            <a:tbl>
              <a:tblPr/>
              <a:tblGrid>
                <a:gridCol w="766440"/>
                <a:gridCol w="720720"/>
                <a:gridCol w="720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MbrID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93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OrgID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93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PersID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93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93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9360">
                      <a:solidFill>
                        <a:srgbClr val="0033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9360">
                      <a:solidFill>
                        <a:srgbClr val="0033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6661080" y="3602160"/>
          <a:ext cx="2232000" cy="1339560"/>
        </p:xfrm>
        <a:graphic>
          <a:graphicData uri="http://schemas.openxmlformats.org/drawingml/2006/table">
            <a:tbl>
              <a:tblPr/>
              <a:tblGrid>
                <a:gridCol w="792360"/>
                <a:gridCol w="14396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OrgID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93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Nom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93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inistère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sée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93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CBD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93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3997440" y="3213000"/>
            <a:ext cx="3024000" cy="708120"/>
          </a:xfrm>
          <a:custGeom>
            <a:avLst/>
            <a:gdLst/>
            <a:ahLst/>
            <a:rect l="l" t="t" r="r" b="b"/>
            <a:pathLst>
              <a:path w="1172" h="446">
                <a:moveTo>
                  <a:pt x="3" y="446"/>
                </a:moveTo>
                <a:lnTo>
                  <a:pt x="0" y="0"/>
                </a:lnTo>
                <a:lnTo>
                  <a:pt x="1168" y="0"/>
                </a:lnTo>
                <a:lnTo>
                  <a:pt x="1172" y="241"/>
                </a:lnTo>
              </a:path>
            </a:pathLst>
          </a:custGeom>
          <a:noFill/>
          <a:ln w="76320">
            <a:solidFill>
              <a:srgbClr val="00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10560" y="3933720"/>
            <a:ext cx="2089080" cy="1297080"/>
          </a:xfrm>
          <a:prstGeom prst="wedgeRoundRectCallout">
            <a:avLst>
              <a:gd name="adj1" fmla="val -57069"/>
              <a:gd name="adj2" fmla="val -37393"/>
              <a:gd name="adj3" fmla="val 1666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00"/>
                </a:solidFill>
                <a:latin typeface="Arial Narrow"/>
              </a:rPr>
              <a:t>Table des Membres Clés Étrangères vers Organisations</a:t>
            </a:r>
            <a:br>
              <a:rPr sz="1800"/>
            </a:br>
            <a:r>
              <a:rPr b="1" lang="fr-FR" sz="1800" spc="-1" strike="noStrike">
                <a:solidFill>
                  <a:srgbClr val="003300"/>
                </a:solidFill>
                <a:latin typeface="Arial Narrow"/>
              </a:rPr>
              <a:t>et Personne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76720" y="4437000"/>
            <a:ext cx="1584360" cy="0"/>
          </a:xfrm>
          <a:prstGeom prst="line">
            <a:avLst/>
          </a:prstGeom>
          <a:ln w="31680">
            <a:solidFill>
              <a:srgbClr val="0000c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076720" y="4078080"/>
            <a:ext cx="1584360" cy="647640"/>
          </a:xfrm>
          <a:prstGeom prst="line">
            <a:avLst/>
          </a:prstGeom>
          <a:ln w="31680">
            <a:solidFill>
              <a:srgbClr val="0000c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76720" y="4870440"/>
            <a:ext cx="863640" cy="863640"/>
          </a:xfrm>
          <a:prstGeom prst="line">
            <a:avLst/>
          </a:prstGeom>
          <a:ln w="31680">
            <a:solidFill>
              <a:srgbClr val="0000c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76720" y="4510080"/>
            <a:ext cx="863640" cy="1079640"/>
          </a:xfrm>
          <a:prstGeom prst="line">
            <a:avLst/>
          </a:prstGeom>
          <a:ln w="31680">
            <a:solidFill>
              <a:srgbClr val="0000c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940360" y="5138640"/>
          <a:ext cx="2952720" cy="1674720"/>
        </p:xfrm>
        <a:graphic>
          <a:graphicData uri="http://schemas.openxmlformats.org/drawingml/2006/table">
            <a:tbl>
              <a:tblPr/>
              <a:tblGrid>
                <a:gridCol w="766800"/>
                <a:gridCol w="928800"/>
                <a:gridCol w="1257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PersID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93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Prenom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93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Nom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93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an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 Koeijer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lain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wakunda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livier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 Munck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9360">
                      <a:solidFill>
                        <a:srgbClr val="00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rco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93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lva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93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93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4716360" y="3645000"/>
            <a:ext cx="1609920" cy="1485720"/>
          </a:xfrm>
          <a:custGeom>
            <a:avLst/>
            <a:gdLst/>
            <a:ahLst/>
            <a:rect l="l" t="t" r="r" b="b"/>
            <a:pathLst>
              <a:path w="1014" h="936">
                <a:moveTo>
                  <a:pt x="4" y="179"/>
                </a:moveTo>
                <a:lnTo>
                  <a:pt x="0" y="0"/>
                </a:lnTo>
                <a:lnTo>
                  <a:pt x="995" y="0"/>
                </a:lnTo>
                <a:lnTo>
                  <a:pt x="1014" y="936"/>
                </a:lnTo>
              </a:path>
            </a:pathLst>
          </a:custGeom>
          <a:noFill/>
          <a:ln w="76320">
            <a:solidFill>
              <a:srgbClr val="00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DEC34-D08A-4D18-A805-495DB08BE8E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Comparaison des types de relations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55640" y="981000"/>
            <a:ext cx="3276360" cy="31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1-à-Plusieurs (1-N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estrictiv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(1 seul lien possible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impl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(1 seule colonne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Facile à maintenir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(1 seule colonne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à mettre à jour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759280" y="980640"/>
            <a:ext cx="3276720" cy="30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lusieurs-à-Plusieurs (N-N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Flexibl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(Liens multiples possibles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omplex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(1 Table et 2 colonnes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Difficile à maintenir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(ajouter/détruire des lignes pour chaque mise à jour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0" name=""/>
          <p:cNvSpPr/>
          <p:nvPr/>
        </p:nvSpPr>
        <p:spPr>
          <a:xfrm>
            <a:off x="2576520" y="1413000"/>
            <a:ext cx="6172200" cy="0"/>
          </a:xfrm>
          <a:prstGeom prst="line">
            <a:avLst/>
          </a:prstGeom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24360" y="981000"/>
            <a:ext cx="0" cy="2952720"/>
          </a:xfrm>
          <a:prstGeom prst="line">
            <a:avLst/>
          </a:prstGeom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40000" y="4365720"/>
            <a:ext cx="680400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oix du type de relation: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esponsabilité du concepteur (en fonction des besoins)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n pratique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tiliser une relation N-N seulement si c'est vraiment nécessair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CE1AD-AD2F-4EB9-A832-CBD592C6050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Attention aux Références !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37920" y="914040"/>
            <a:ext cx="67057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Chaque Clé Étrangère est une RÉFÉRENCE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vers une Clé Primair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Si la Clé Primaire disparaît, la référence devient INVALID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xemple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On détruit l'Organisation 3 (SCBD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a Clé Étrangère OrgID=3 des Personnes 3 et 4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(Olivier et Marcos) devient INVALID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roblème d'INTÉGRITÉ RÉFÉRENTIELL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l faut respecter certaines règles pour éviter ces problèm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F2301-F7F6-4ECC-8200-4BE3A3E6D6B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Organisation de la formation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84000" y="1988640"/>
            <a:ext cx="6659640" cy="48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Théori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implifiée pour nos besoin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oncepts de base simples et logiqu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Importante (surtout relations &amp; clés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Pratiq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Utilisation d'un système de gestion de base de données (SGBD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our cette formation: MS-Access (SGBD simple et convivial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Théorie applicable aux autres SGBD (MySQL, Oracle, ...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Formation interac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Questions et commentaires sont les bienvenu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-57600" y="219096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27280" y="1413000"/>
            <a:ext cx="6120000" cy="429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 Narrow"/>
              </a:rPr>
              <a:t>Rien de plus pratique qu'une bonne théorie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27280" y="909720"/>
            <a:ext cx="59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 Narrow"/>
              </a:rPr>
              <a:t>Alternance Théorie / Pratique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58B6E-C4D9-4A1B-A034-B004A3217596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Intégrité Référentielle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411280" y="1700280"/>
            <a:ext cx="6732720" cy="49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2 Changements possibles de Clé Primaire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Destruction d'une lign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Mise à jour d'une Clé Primaire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(impossible si numéro automatique </a:t>
            </a:r>
            <a:r>
              <a:rPr b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avantage supplémentaire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xemples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i Org 3 était détruite, il faudrait: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- Soit mettre OrgID = NULL pour Marcos et Olivier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- Soit détruire Marcos et Oliver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i OrgID=3 devenait 9, il faudrait que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- OrgID devienne 9 pour Marcos et Olivier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2843280" y="907920"/>
            <a:ext cx="6049800" cy="70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Si une Clé Primaire CHANGE, toutes les Clés Étrangères correspondantes doivent être actualisé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0C0D6-BAE3-4C30-948A-37996AC781D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Mise en oeuvre de l'Intégrité Référentielle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27280" y="836280"/>
            <a:ext cx="6516720" cy="58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2 approches de mise en oeuvr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estriction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Interdire tout changement de Clé Primair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    tant que des Clés Étrangères existen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ascade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Propager tout changement de Clé Primair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    aux Clés Étrangères correspondantes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Bonne Nouvelle: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La plupart des SGBD supportent des mécanismes automatiques de contrôle de l'intégrité référentiel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nstructions SQL (définition de contraint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ON UPDATE  [ RESTRICT ou CASCADE ]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ON DELETE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 [ RESTRICT, CASCADE ou NULLIFY ]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MS-Acc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Diagramme des relation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Double-cliquer sur les relations et choisir les option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D503B-74B0-42C8-A495-DFDE414AF1A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Récapitulation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916000" y="914040"/>
            <a:ext cx="62276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Tab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olonn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ign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Rela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1-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N-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Clé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lé Primair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lé Étrangèr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ntégrité référentiel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estrict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ascad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Questions?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C68E0-0DD7-4088-ABF9-7E7509A8811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ccff99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2924280"/>
            <a:ext cx="8280360" cy="151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3300"/>
                </a:solidFill>
                <a:latin typeface="Arial Rounded MT Bold"/>
              </a:rPr>
              <a:t>3. Conception de Bases de Données</a:t>
            </a: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Arial Narrow"/>
              </a:rPr>
              <a:t>Atelier de formation sous-régional </a:t>
            </a:r>
            <a:br>
              <a:rPr sz="2800"/>
            </a:br>
            <a:r>
              <a:rPr b="1" i="1" lang="fr-FR" sz="2800" spc="-1" strike="noStrike">
                <a:solidFill>
                  <a:srgbClr val="ffffff"/>
                </a:solidFill>
                <a:latin typeface="Arial Narrow"/>
              </a:rPr>
              <a:t> sur la mise en oeuvre du Centre d'Échange CHM </a:t>
            </a:r>
            <a:br>
              <a:rPr sz="2800"/>
            </a:br>
            <a:r>
              <a:rPr b="1" i="1" lang="fr-FR" sz="2800" spc="-1" strike="noStrike">
                <a:solidFill>
                  <a:srgbClr val="ffffff"/>
                </a:solidFill>
                <a:latin typeface="Arial Narrow"/>
              </a:rPr>
              <a:t>de la Convention sur  la Diversité Biologique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 Narrow"/>
              </a:rPr>
              <a:t>6-17 Novembre 2006                                   Antananarivo, Madagascar</a:t>
            </a:r>
            <a:endParaRPr b="1" i="1" lang="en-US" sz="2000" spc="-1" strike="noStrike">
              <a:solidFill>
                <a:srgbClr val="0033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Introduction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843280" y="1052280"/>
            <a:ext cx="6300720" cy="51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On a une belle théorie sur les BD Relationnel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Comment la mettre en pratique?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Art de la conception de bases de donné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Présentation d'une méthode de concep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llustration par un mini-projet de bases de donné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DB245-B695-478E-8A32-BB3E819AAD3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2916000" y="1052280"/>
            <a:ext cx="6227640" cy="51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Basée sur 2 points importa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Approche centrée sur les données (Data-centric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Inventaire des information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nalyse indépendante des applications possibl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Processus de modélisation de la réalité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oint de départ: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                                    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oint d'arrivée: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7" name=""/>
          <p:cNvSpPr/>
          <p:nvPr/>
        </p:nvSpPr>
        <p:spPr>
          <a:xfrm>
            <a:off x="6875640" y="4005360"/>
            <a:ext cx="360360" cy="144144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008000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Méthode de Conception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39" name=""/>
          <p:cNvSpPr/>
          <p:nvPr/>
        </p:nvSpPr>
        <p:spPr>
          <a:xfrm>
            <a:off x="5796000" y="3517920"/>
            <a:ext cx="252108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Le monde ré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6000" y="5516640"/>
            <a:ext cx="252108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La base de donné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12000" y="4292640"/>
            <a:ext cx="2089080" cy="718920"/>
          </a:xfrm>
          <a:prstGeom prst="ellipse">
            <a:avLst/>
          </a:prstGeom>
          <a:solidFill>
            <a:srgbClr val="99ff66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 Narrow"/>
              </a:rPr>
              <a:t>Modélisation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9F746-2D16-457B-B2DA-DCCAEB442C1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-1130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Approche centrée sur les données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7039080" y="5132520"/>
            <a:ext cx="1815840" cy="17254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368280" y="5191200"/>
            <a:ext cx="1673280" cy="1666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7023240" y="1096920"/>
            <a:ext cx="1849320" cy="1451160"/>
          </a:xfrm>
          <a:prstGeom prst="rect">
            <a:avLst/>
          </a:prstGeom>
          <a:ln w="0">
            <a:noFill/>
          </a:ln>
        </p:spPr>
      </p:pic>
      <p:grpSp>
        <p:nvGrpSpPr>
          <p:cNvPr id="246" name=""/>
          <p:cNvGrpSpPr/>
          <p:nvPr/>
        </p:nvGrpSpPr>
        <p:grpSpPr>
          <a:xfrm>
            <a:off x="0" y="1014480"/>
            <a:ext cx="1787400" cy="1436760"/>
            <a:chOff x="0" y="1014480"/>
            <a:chExt cx="1787400" cy="1436760"/>
          </a:xfrm>
        </p:grpSpPr>
        <p:sp>
          <p:nvSpPr>
            <p:cNvPr id="247" name=""/>
            <p:cNvSpPr/>
            <p:nvPr/>
          </p:nvSpPr>
          <p:spPr>
            <a:xfrm>
              <a:off x="0" y="1014480"/>
              <a:ext cx="1787400" cy="1436760"/>
            </a:xfrm>
            <a:custGeom>
              <a:avLst/>
              <a:gdLst/>
              <a:ahLst/>
              <a:rect l="l" t="t" r="r" b="b"/>
              <a:pathLst>
                <a:path w="3797" h="2558">
                  <a:moveTo>
                    <a:pt x="602" y="2552"/>
                  </a:moveTo>
                  <a:lnTo>
                    <a:pt x="581" y="2554"/>
                  </a:lnTo>
                  <a:lnTo>
                    <a:pt x="524" y="2558"/>
                  </a:lnTo>
                  <a:lnTo>
                    <a:pt x="442" y="2558"/>
                  </a:lnTo>
                  <a:lnTo>
                    <a:pt x="348" y="2552"/>
                  </a:lnTo>
                  <a:lnTo>
                    <a:pt x="298" y="2545"/>
                  </a:lnTo>
                  <a:lnTo>
                    <a:pt x="250" y="2534"/>
                  </a:lnTo>
                  <a:lnTo>
                    <a:pt x="225" y="2528"/>
                  </a:lnTo>
                  <a:lnTo>
                    <a:pt x="203" y="2519"/>
                  </a:lnTo>
                  <a:lnTo>
                    <a:pt x="181" y="2510"/>
                  </a:lnTo>
                  <a:lnTo>
                    <a:pt x="160" y="2501"/>
                  </a:lnTo>
                  <a:lnTo>
                    <a:pt x="148" y="2495"/>
                  </a:lnTo>
                  <a:lnTo>
                    <a:pt x="138" y="2489"/>
                  </a:lnTo>
                  <a:lnTo>
                    <a:pt x="130" y="2483"/>
                  </a:lnTo>
                  <a:lnTo>
                    <a:pt x="120" y="2477"/>
                  </a:lnTo>
                  <a:lnTo>
                    <a:pt x="87" y="2448"/>
                  </a:lnTo>
                  <a:lnTo>
                    <a:pt x="61" y="2412"/>
                  </a:lnTo>
                  <a:lnTo>
                    <a:pt x="44" y="2370"/>
                  </a:lnTo>
                  <a:lnTo>
                    <a:pt x="21" y="2243"/>
                  </a:lnTo>
                  <a:lnTo>
                    <a:pt x="7" y="2057"/>
                  </a:lnTo>
                  <a:lnTo>
                    <a:pt x="0" y="1833"/>
                  </a:lnTo>
                  <a:lnTo>
                    <a:pt x="1" y="1591"/>
                  </a:lnTo>
                  <a:lnTo>
                    <a:pt x="6" y="1470"/>
                  </a:lnTo>
                  <a:lnTo>
                    <a:pt x="13" y="1354"/>
                  </a:lnTo>
                  <a:lnTo>
                    <a:pt x="23" y="1243"/>
                  </a:lnTo>
                  <a:lnTo>
                    <a:pt x="34" y="1142"/>
                  </a:lnTo>
                  <a:lnTo>
                    <a:pt x="41" y="1095"/>
                  </a:lnTo>
                  <a:lnTo>
                    <a:pt x="48" y="1052"/>
                  </a:lnTo>
                  <a:lnTo>
                    <a:pt x="57" y="1012"/>
                  </a:lnTo>
                  <a:lnTo>
                    <a:pt x="67" y="977"/>
                  </a:lnTo>
                  <a:lnTo>
                    <a:pt x="77" y="945"/>
                  </a:lnTo>
                  <a:lnTo>
                    <a:pt x="87" y="918"/>
                  </a:lnTo>
                  <a:lnTo>
                    <a:pt x="98" y="895"/>
                  </a:lnTo>
                  <a:lnTo>
                    <a:pt x="111" y="879"/>
                  </a:lnTo>
                  <a:lnTo>
                    <a:pt x="124" y="865"/>
                  </a:lnTo>
                  <a:lnTo>
                    <a:pt x="138" y="852"/>
                  </a:lnTo>
                  <a:lnTo>
                    <a:pt x="170" y="825"/>
                  </a:lnTo>
                  <a:lnTo>
                    <a:pt x="177" y="819"/>
                  </a:lnTo>
                  <a:lnTo>
                    <a:pt x="185" y="813"/>
                  </a:lnTo>
                  <a:lnTo>
                    <a:pt x="194" y="807"/>
                  </a:lnTo>
                  <a:lnTo>
                    <a:pt x="204" y="801"/>
                  </a:lnTo>
                  <a:lnTo>
                    <a:pt x="213" y="795"/>
                  </a:lnTo>
                  <a:lnTo>
                    <a:pt x="221" y="789"/>
                  </a:lnTo>
                  <a:lnTo>
                    <a:pt x="231" y="783"/>
                  </a:lnTo>
                  <a:lnTo>
                    <a:pt x="240" y="777"/>
                  </a:lnTo>
                  <a:lnTo>
                    <a:pt x="250" y="771"/>
                  </a:lnTo>
                  <a:lnTo>
                    <a:pt x="260" y="766"/>
                  </a:lnTo>
                  <a:lnTo>
                    <a:pt x="268" y="760"/>
                  </a:lnTo>
                  <a:lnTo>
                    <a:pt x="278" y="754"/>
                  </a:lnTo>
                  <a:lnTo>
                    <a:pt x="288" y="749"/>
                  </a:lnTo>
                  <a:lnTo>
                    <a:pt x="298" y="743"/>
                  </a:lnTo>
                  <a:lnTo>
                    <a:pt x="308" y="737"/>
                  </a:lnTo>
                  <a:lnTo>
                    <a:pt x="318" y="733"/>
                  </a:lnTo>
                  <a:lnTo>
                    <a:pt x="330" y="727"/>
                  </a:lnTo>
                  <a:lnTo>
                    <a:pt x="340" y="722"/>
                  </a:lnTo>
                  <a:lnTo>
                    <a:pt x="350" y="716"/>
                  </a:lnTo>
                  <a:lnTo>
                    <a:pt x="360" y="712"/>
                  </a:lnTo>
                  <a:lnTo>
                    <a:pt x="370" y="706"/>
                  </a:lnTo>
                  <a:lnTo>
                    <a:pt x="380" y="701"/>
                  </a:lnTo>
                  <a:lnTo>
                    <a:pt x="391" y="695"/>
                  </a:lnTo>
                  <a:lnTo>
                    <a:pt x="401" y="689"/>
                  </a:lnTo>
                  <a:lnTo>
                    <a:pt x="411" y="685"/>
                  </a:lnTo>
                  <a:lnTo>
                    <a:pt x="421" y="680"/>
                  </a:lnTo>
                  <a:lnTo>
                    <a:pt x="431" y="674"/>
                  </a:lnTo>
                  <a:lnTo>
                    <a:pt x="441" y="670"/>
                  </a:lnTo>
                  <a:lnTo>
                    <a:pt x="451" y="664"/>
                  </a:lnTo>
                  <a:lnTo>
                    <a:pt x="462" y="660"/>
                  </a:lnTo>
                  <a:lnTo>
                    <a:pt x="471" y="654"/>
                  </a:lnTo>
                  <a:lnTo>
                    <a:pt x="481" y="649"/>
                  </a:lnTo>
                  <a:lnTo>
                    <a:pt x="491" y="643"/>
                  </a:lnTo>
                  <a:lnTo>
                    <a:pt x="501" y="639"/>
                  </a:lnTo>
                  <a:lnTo>
                    <a:pt x="511" y="633"/>
                  </a:lnTo>
                  <a:lnTo>
                    <a:pt x="520" y="628"/>
                  </a:lnTo>
                  <a:lnTo>
                    <a:pt x="530" y="622"/>
                  </a:lnTo>
                  <a:lnTo>
                    <a:pt x="538" y="618"/>
                  </a:lnTo>
                  <a:lnTo>
                    <a:pt x="547" y="612"/>
                  </a:lnTo>
                  <a:lnTo>
                    <a:pt x="557" y="607"/>
                  </a:lnTo>
                  <a:lnTo>
                    <a:pt x="565" y="601"/>
                  </a:lnTo>
                  <a:lnTo>
                    <a:pt x="574" y="597"/>
                  </a:lnTo>
                  <a:lnTo>
                    <a:pt x="582" y="591"/>
                  </a:lnTo>
                  <a:lnTo>
                    <a:pt x="589" y="585"/>
                  </a:lnTo>
                  <a:lnTo>
                    <a:pt x="598" y="580"/>
                  </a:lnTo>
                  <a:lnTo>
                    <a:pt x="605" y="574"/>
                  </a:lnTo>
                  <a:lnTo>
                    <a:pt x="614" y="568"/>
                  </a:lnTo>
                  <a:lnTo>
                    <a:pt x="621" y="564"/>
                  </a:lnTo>
                  <a:lnTo>
                    <a:pt x="647" y="540"/>
                  </a:lnTo>
                  <a:lnTo>
                    <a:pt x="669" y="516"/>
                  </a:lnTo>
                  <a:lnTo>
                    <a:pt x="692" y="489"/>
                  </a:lnTo>
                  <a:lnTo>
                    <a:pt x="705" y="473"/>
                  </a:lnTo>
                  <a:lnTo>
                    <a:pt x="719" y="457"/>
                  </a:lnTo>
                  <a:lnTo>
                    <a:pt x="735" y="439"/>
                  </a:lnTo>
                  <a:lnTo>
                    <a:pt x="752" y="421"/>
                  </a:lnTo>
                  <a:lnTo>
                    <a:pt x="769" y="401"/>
                  </a:lnTo>
                  <a:lnTo>
                    <a:pt x="788" y="380"/>
                  </a:lnTo>
                  <a:lnTo>
                    <a:pt x="808" y="361"/>
                  </a:lnTo>
                  <a:lnTo>
                    <a:pt x="829" y="340"/>
                  </a:lnTo>
                  <a:lnTo>
                    <a:pt x="851" y="318"/>
                  </a:lnTo>
                  <a:lnTo>
                    <a:pt x="874" y="297"/>
                  </a:lnTo>
                  <a:lnTo>
                    <a:pt x="898" y="276"/>
                  </a:lnTo>
                  <a:lnTo>
                    <a:pt x="922" y="254"/>
                  </a:lnTo>
                  <a:lnTo>
                    <a:pt x="946" y="233"/>
                  </a:lnTo>
                  <a:lnTo>
                    <a:pt x="972" y="212"/>
                  </a:lnTo>
                  <a:lnTo>
                    <a:pt x="979" y="206"/>
                  </a:lnTo>
                  <a:lnTo>
                    <a:pt x="985" y="201"/>
                  </a:lnTo>
                  <a:lnTo>
                    <a:pt x="992" y="195"/>
                  </a:lnTo>
                  <a:lnTo>
                    <a:pt x="999" y="191"/>
                  </a:lnTo>
                  <a:lnTo>
                    <a:pt x="1005" y="186"/>
                  </a:lnTo>
                  <a:lnTo>
                    <a:pt x="1012" y="180"/>
                  </a:lnTo>
                  <a:lnTo>
                    <a:pt x="1019" y="176"/>
                  </a:lnTo>
                  <a:lnTo>
                    <a:pt x="1026" y="171"/>
                  </a:lnTo>
                  <a:lnTo>
                    <a:pt x="1033" y="166"/>
                  </a:lnTo>
                  <a:lnTo>
                    <a:pt x="1041" y="161"/>
                  </a:lnTo>
                  <a:lnTo>
                    <a:pt x="1046" y="157"/>
                  </a:lnTo>
                  <a:lnTo>
                    <a:pt x="1053" y="152"/>
                  </a:lnTo>
                  <a:lnTo>
                    <a:pt x="1068" y="142"/>
                  </a:lnTo>
                  <a:lnTo>
                    <a:pt x="1082" y="133"/>
                  </a:lnTo>
                  <a:lnTo>
                    <a:pt x="1096" y="124"/>
                  </a:lnTo>
                  <a:lnTo>
                    <a:pt x="1111" y="115"/>
                  </a:lnTo>
                  <a:lnTo>
                    <a:pt x="1125" y="107"/>
                  </a:lnTo>
                  <a:lnTo>
                    <a:pt x="1141" y="98"/>
                  </a:lnTo>
                  <a:lnTo>
                    <a:pt x="1155" y="91"/>
                  </a:lnTo>
                  <a:lnTo>
                    <a:pt x="1171" y="83"/>
                  </a:lnTo>
                  <a:lnTo>
                    <a:pt x="1185" y="76"/>
                  </a:lnTo>
                  <a:lnTo>
                    <a:pt x="1201" y="69"/>
                  </a:lnTo>
                  <a:lnTo>
                    <a:pt x="1215" y="63"/>
                  </a:lnTo>
                  <a:lnTo>
                    <a:pt x="1230" y="55"/>
                  </a:lnTo>
                  <a:lnTo>
                    <a:pt x="1246" y="49"/>
                  </a:lnTo>
                  <a:lnTo>
                    <a:pt x="1260" y="45"/>
                  </a:lnTo>
                  <a:lnTo>
                    <a:pt x="1276" y="39"/>
                  </a:lnTo>
                  <a:lnTo>
                    <a:pt x="1292" y="34"/>
                  </a:lnTo>
                  <a:lnTo>
                    <a:pt x="1323" y="27"/>
                  </a:lnTo>
                  <a:lnTo>
                    <a:pt x="1355" y="19"/>
                  </a:lnTo>
                  <a:lnTo>
                    <a:pt x="1386" y="15"/>
                  </a:lnTo>
                  <a:lnTo>
                    <a:pt x="1449" y="13"/>
                  </a:lnTo>
                  <a:lnTo>
                    <a:pt x="1595" y="12"/>
                  </a:lnTo>
                  <a:lnTo>
                    <a:pt x="1770" y="7"/>
                  </a:lnTo>
                  <a:lnTo>
                    <a:pt x="1964" y="1"/>
                  </a:lnTo>
                  <a:lnTo>
                    <a:pt x="2166" y="0"/>
                  </a:lnTo>
                  <a:lnTo>
                    <a:pt x="2360" y="7"/>
                  </a:lnTo>
                  <a:lnTo>
                    <a:pt x="2451" y="15"/>
                  </a:lnTo>
                  <a:lnTo>
                    <a:pt x="2537" y="27"/>
                  </a:lnTo>
                  <a:lnTo>
                    <a:pt x="2575" y="34"/>
                  </a:lnTo>
                  <a:lnTo>
                    <a:pt x="2614" y="43"/>
                  </a:lnTo>
                  <a:lnTo>
                    <a:pt x="2650" y="54"/>
                  </a:lnTo>
                  <a:lnTo>
                    <a:pt x="2667" y="58"/>
                  </a:lnTo>
                  <a:lnTo>
                    <a:pt x="2682" y="64"/>
                  </a:lnTo>
                  <a:lnTo>
                    <a:pt x="2698" y="70"/>
                  </a:lnTo>
                  <a:lnTo>
                    <a:pt x="2714" y="77"/>
                  </a:lnTo>
                  <a:lnTo>
                    <a:pt x="2728" y="83"/>
                  </a:lnTo>
                  <a:lnTo>
                    <a:pt x="2741" y="91"/>
                  </a:lnTo>
                  <a:lnTo>
                    <a:pt x="2754" y="98"/>
                  </a:lnTo>
                  <a:lnTo>
                    <a:pt x="2765" y="106"/>
                  </a:lnTo>
                  <a:lnTo>
                    <a:pt x="2787" y="124"/>
                  </a:lnTo>
                  <a:lnTo>
                    <a:pt x="2808" y="142"/>
                  </a:lnTo>
                  <a:lnTo>
                    <a:pt x="2831" y="163"/>
                  </a:lnTo>
                  <a:lnTo>
                    <a:pt x="2854" y="183"/>
                  </a:lnTo>
                  <a:lnTo>
                    <a:pt x="2879" y="206"/>
                  </a:lnTo>
                  <a:lnTo>
                    <a:pt x="2907" y="230"/>
                  </a:lnTo>
                  <a:lnTo>
                    <a:pt x="2934" y="255"/>
                  </a:lnTo>
                  <a:lnTo>
                    <a:pt x="2962" y="282"/>
                  </a:lnTo>
                  <a:lnTo>
                    <a:pt x="2992" y="309"/>
                  </a:lnTo>
                  <a:lnTo>
                    <a:pt x="3022" y="336"/>
                  </a:lnTo>
                  <a:lnTo>
                    <a:pt x="3054" y="364"/>
                  </a:lnTo>
                  <a:lnTo>
                    <a:pt x="3068" y="379"/>
                  </a:lnTo>
                  <a:lnTo>
                    <a:pt x="3084" y="394"/>
                  </a:lnTo>
                  <a:lnTo>
                    <a:pt x="3099" y="407"/>
                  </a:lnTo>
                  <a:lnTo>
                    <a:pt x="3115" y="422"/>
                  </a:lnTo>
                  <a:lnTo>
                    <a:pt x="3132" y="437"/>
                  </a:lnTo>
                  <a:lnTo>
                    <a:pt x="3148" y="452"/>
                  </a:lnTo>
                  <a:lnTo>
                    <a:pt x="3164" y="468"/>
                  </a:lnTo>
                  <a:lnTo>
                    <a:pt x="3179" y="483"/>
                  </a:lnTo>
                  <a:lnTo>
                    <a:pt x="3195" y="498"/>
                  </a:lnTo>
                  <a:lnTo>
                    <a:pt x="3211" y="513"/>
                  </a:lnTo>
                  <a:lnTo>
                    <a:pt x="3226" y="528"/>
                  </a:lnTo>
                  <a:lnTo>
                    <a:pt x="3242" y="545"/>
                  </a:lnTo>
                  <a:lnTo>
                    <a:pt x="3258" y="560"/>
                  </a:lnTo>
                  <a:lnTo>
                    <a:pt x="3273" y="574"/>
                  </a:lnTo>
                  <a:lnTo>
                    <a:pt x="3288" y="591"/>
                  </a:lnTo>
                  <a:lnTo>
                    <a:pt x="3303" y="606"/>
                  </a:lnTo>
                  <a:lnTo>
                    <a:pt x="3318" y="621"/>
                  </a:lnTo>
                  <a:lnTo>
                    <a:pt x="3333" y="636"/>
                  </a:lnTo>
                  <a:lnTo>
                    <a:pt x="3348" y="651"/>
                  </a:lnTo>
                  <a:lnTo>
                    <a:pt x="3362" y="667"/>
                  </a:lnTo>
                  <a:lnTo>
                    <a:pt x="3376" y="682"/>
                  </a:lnTo>
                  <a:lnTo>
                    <a:pt x="3389" y="697"/>
                  </a:lnTo>
                  <a:lnTo>
                    <a:pt x="3403" y="712"/>
                  </a:lnTo>
                  <a:lnTo>
                    <a:pt x="3416" y="727"/>
                  </a:lnTo>
                  <a:lnTo>
                    <a:pt x="3442" y="755"/>
                  </a:lnTo>
                  <a:lnTo>
                    <a:pt x="3466" y="783"/>
                  </a:lnTo>
                  <a:lnTo>
                    <a:pt x="3489" y="812"/>
                  </a:lnTo>
                  <a:lnTo>
                    <a:pt x="3510" y="839"/>
                  </a:lnTo>
                  <a:lnTo>
                    <a:pt x="3530" y="865"/>
                  </a:lnTo>
                  <a:lnTo>
                    <a:pt x="3548" y="889"/>
                  </a:lnTo>
                  <a:lnTo>
                    <a:pt x="3563" y="915"/>
                  </a:lnTo>
                  <a:lnTo>
                    <a:pt x="3576" y="937"/>
                  </a:lnTo>
                  <a:lnTo>
                    <a:pt x="3588" y="960"/>
                  </a:lnTo>
                  <a:lnTo>
                    <a:pt x="3596" y="980"/>
                  </a:lnTo>
                  <a:lnTo>
                    <a:pt x="3610" y="1019"/>
                  </a:lnTo>
                  <a:lnTo>
                    <a:pt x="3623" y="1060"/>
                  </a:lnTo>
                  <a:lnTo>
                    <a:pt x="3635" y="1098"/>
                  </a:lnTo>
                  <a:lnTo>
                    <a:pt x="3648" y="1137"/>
                  </a:lnTo>
                  <a:lnTo>
                    <a:pt x="3659" y="1176"/>
                  </a:lnTo>
                  <a:lnTo>
                    <a:pt x="3669" y="1213"/>
                  </a:lnTo>
                  <a:lnTo>
                    <a:pt x="3679" y="1249"/>
                  </a:lnTo>
                  <a:lnTo>
                    <a:pt x="3690" y="1285"/>
                  </a:lnTo>
                  <a:lnTo>
                    <a:pt x="3699" y="1319"/>
                  </a:lnTo>
                  <a:lnTo>
                    <a:pt x="3709" y="1352"/>
                  </a:lnTo>
                  <a:lnTo>
                    <a:pt x="3719" y="1383"/>
                  </a:lnTo>
                  <a:lnTo>
                    <a:pt x="3729" y="1413"/>
                  </a:lnTo>
                  <a:lnTo>
                    <a:pt x="3739" y="1442"/>
                  </a:lnTo>
                  <a:lnTo>
                    <a:pt x="3747" y="1468"/>
                  </a:lnTo>
                  <a:lnTo>
                    <a:pt x="3759" y="1492"/>
                  </a:lnTo>
                  <a:lnTo>
                    <a:pt x="3769" y="1515"/>
                  </a:lnTo>
                  <a:lnTo>
                    <a:pt x="3787" y="1574"/>
                  </a:lnTo>
                  <a:lnTo>
                    <a:pt x="3797" y="1664"/>
                  </a:lnTo>
                  <a:lnTo>
                    <a:pt x="3797" y="1774"/>
                  </a:lnTo>
                  <a:lnTo>
                    <a:pt x="3789" y="1894"/>
                  </a:lnTo>
                  <a:lnTo>
                    <a:pt x="3782" y="1952"/>
                  </a:lnTo>
                  <a:lnTo>
                    <a:pt x="3770" y="2010"/>
                  </a:lnTo>
                  <a:lnTo>
                    <a:pt x="3757" y="2065"/>
                  </a:lnTo>
                  <a:lnTo>
                    <a:pt x="3749" y="2092"/>
                  </a:lnTo>
                  <a:lnTo>
                    <a:pt x="3740" y="2116"/>
                  </a:lnTo>
                  <a:lnTo>
                    <a:pt x="3732" y="2140"/>
                  </a:lnTo>
                  <a:lnTo>
                    <a:pt x="3722" y="2161"/>
                  </a:lnTo>
                  <a:lnTo>
                    <a:pt x="3710" y="2182"/>
                  </a:lnTo>
                  <a:lnTo>
                    <a:pt x="3699" y="2200"/>
                  </a:lnTo>
                  <a:lnTo>
                    <a:pt x="3686" y="2215"/>
                  </a:lnTo>
                  <a:lnTo>
                    <a:pt x="3673" y="2230"/>
                  </a:lnTo>
                  <a:lnTo>
                    <a:pt x="3659" y="2240"/>
                  </a:lnTo>
                  <a:lnTo>
                    <a:pt x="3652" y="2246"/>
                  </a:lnTo>
                  <a:lnTo>
                    <a:pt x="3643" y="2249"/>
                  </a:lnTo>
                  <a:lnTo>
                    <a:pt x="3635" y="2254"/>
                  </a:lnTo>
                  <a:lnTo>
                    <a:pt x="3620" y="2258"/>
                  </a:lnTo>
                  <a:lnTo>
                    <a:pt x="3603" y="2262"/>
                  </a:lnTo>
                  <a:lnTo>
                    <a:pt x="3583" y="2267"/>
                  </a:lnTo>
                  <a:lnTo>
                    <a:pt x="3559" y="2271"/>
                  </a:lnTo>
                  <a:lnTo>
                    <a:pt x="3530" y="2276"/>
                  </a:lnTo>
                  <a:lnTo>
                    <a:pt x="3500" y="2280"/>
                  </a:lnTo>
                  <a:lnTo>
                    <a:pt x="3466" y="2286"/>
                  </a:lnTo>
                  <a:lnTo>
                    <a:pt x="3429" y="2291"/>
                  </a:lnTo>
                  <a:lnTo>
                    <a:pt x="3389" y="2297"/>
                  </a:lnTo>
                  <a:lnTo>
                    <a:pt x="3348" y="2301"/>
                  </a:lnTo>
                  <a:lnTo>
                    <a:pt x="3302" y="2307"/>
                  </a:lnTo>
                  <a:lnTo>
                    <a:pt x="3255" y="2313"/>
                  </a:lnTo>
                  <a:lnTo>
                    <a:pt x="3205" y="2319"/>
                  </a:lnTo>
                  <a:lnTo>
                    <a:pt x="3154" y="2325"/>
                  </a:lnTo>
                  <a:lnTo>
                    <a:pt x="3099" y="2331"/>
                  </a:lnTo>
                  <a:lnTo>
                    <a:pt x="3044" y="2337"/>
                  </a:lnTo>
                  <a:lnTo>
                    <a:pt x="2987" y="2343"/>
                  </a:lnTo>
                  <a:lnTo>
                    <a:pt x="2927" y="2349"/>
                  </a:lnTo>
                  <a:lnTo>
                    <a:pt x="2867" y="2355"/>
                  </a:lnTo>
                  <a:lnTo>
                    <a:pt x="2804" y="2361"/>
                  </a:lnTo>
                  <a:lnTo>
                    <a:pt x="2740" y="2368"/>
                  </a:lnTo>
                  <a:lnTo>
                    <a:pt x="2675" y="2374"/>
                  </a:lnTo>
                  <a:lnTo>
                    <a:pt x="2610" y="2380"/>
                  </a:lnTo>
                  <a:lnTo>
                    <a:pt x="2543" y="2386"/>
                  </a:lnTo>
                  <a:lnTo>
                    <a:pt x="2475" y="2394"/>
                  </a:lnTo>
                  <a:lnTo>
                    <a:pt x="2407" y="2400"/>
                  </a:lnTo>
                  <a:lnTo>
                    <a:pt x="2338" y="2406"/>
                  </a:lnTo>
                  <a:lnTo>
                    <a:pt x="2270" y="2412"/>
                  </a:lnTo>
                  <a:lnTo>
                    <a:pt x="2200" y="2419"/>
                  </a:lnTo>
                  <a:lnTo>
                    <a:pt x="2131" y="2425"/>
                  </a:lnTo>
                  <a:lnTo>
                    <a:pt x="2061" y="2431"/>
                  </a:lnTo>
                  <a:lnTo>
                    <a:pt x="1993" y="2437"/>
                  </a:lnTo>
                  <a:lnTo>
                    <a:pt x="1923" y="2443"/>
                  </a:lnTo>
                  <a:lnTo>
                    <a:pt x="1854" y="2449"/>
                  </a:lnTo>
                  <a:lnTo>
                    <a:pt x="1786" y="2455"/>
                  </a:lnTo>
                  <a:lnTo>
                    <a:pt x="1719" y="2461"/>
                  </a:lnTo>
                  <a:lnTo>
                    <a:pt x="1652" y="2467"/>
                  </a:lnTo>
                  <a:lnTo>
                    <a:pt x="1586" y="2471"/>
                  </a:lnTo>
                  <a:lnTo>
                    <a:pt x="1522" y="2477"/>
                  </a:lnTo>
                  <a:lnTo>
                    <a:pt x="1457" y="2483"/>
                  </a:lnTo>
                  <a:lnTo>
                    <a:pt x="1395" y="2488"/>
                  </a:lnTo>
                  <a:lnTo>
                    <a:pt x="1333" y="2492"/>
                  </a:lnTo>
                  <a:lnTo>
                    <a:pt x="1275" y="2498"/>
                  </a:lnTo>
                  <a:lnTo>
                    <a:pt x="1161" y="2507"/>
                  </a:lnTo>
                  <a:lnTo>
                    <a:pt x="1053" y="2516"/>
                  </a:lnTo>
                  <a:lnTo>
                    <a:pt x="956" y="2524"/>
                  </a:lnTo>
                  <a:lnTo>
                    <a:pt x="869" y="2531"/>
                  </a:lnTo>
                  <a:lnTo>
                    <a:pt x="791" y="2537"/>
                  </a:lnTo>
                  <a:lnTo>
                    <a:pt x="725" y="2542"/>
                  </a:lnTo>
                  <a:lnTo>
                    <a:pt x="634" y="2549"/>
                  </a:lnTo>
                  <a:lnTo>
                    <a:pt x="602" y="2552"/>
                  </a:lnTo>
                  <a:lnTo>
                    <a:pt x="602" y="2552"/>
                  </a:lnTo>
                  <a:close/>
                </a:path>
              </a:pathLst>
            </a:cu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pic>
          <p:nvPicPr>
            <p:cNvPr id="248" name="" descr=""/>
            <p:cNvPicPr/>
            <p:nvPr/>
          </p:nvPicPr>
          <p:blipFill>
            <a:blip r:embed="rId4"/>
            <a:stretch/>
          </p:blipFill>
          <p:spPr>
            <a:xfrm>
              <a:off x="309600" y="1064880"/>
              <a:ext cx="1414800" cy="124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"/>
          <p:cNvSpPr/>
          <p:nvPr/>
        </p:nvSpPr>
        <p:spPr>
          <a:xfrm>
            <a:off x="3797280" y="3300480"/>
            <a:ext cx="1390680" cy="10699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Arial Narrow"/>
              </a:rPr>
              <a:t>B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724040" y="1731960"/>
            <a:ext cx="5535720" cy="4206960"/>
          </a:xfrm>
          <a:prstGeom prst="donut">
            <a:avLst>
              <a:gd name="adj" fmla="val 29245"/>
            </a:avLst>
          </a:prstGeom>
          <a:solidFill>
            <a:srgbClr val="0099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638360" y="1622520"/>
            <a:ext cx="5772240" cy="417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ff"/>
                </a:solidFill>
                <a:latin typeface="Arial Black"/>
              </a:rPr>
              <a:t>Système de gestion de bases de données</a:t>
            </a:r>
            <a:endParaRPr b="0" lang="en-US" sz="2400" spc="1" strike="noStrike">
              <a:ln w="0">
                <a:noFill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52" name=""/>
          <p:cNvSpPr/>
          <p:nvPr/>
        </p:nvSpPr>
        <p:spPr>
          <a:xfrm>
            <a:off x="1905120" y="3922560"/>
            <a:ext cx="1430280" cy="4352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3300"/>
                </a:solidFill>
                <a:latin typeface="Arial Narrow"/>
              </a:rPr>
              <a:t>VIII - Concurrence d’accè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62240" y="4594320"/>
            <a:ext cx="1430280" cy="434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3300"/>
                </a:solidFill>
                <a:latin typeface="Arial Narrow"/>
              </a:rPr>
              <a:t>VII - Gestion des panne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76760" y="1906560"/>
            <a:ext cx="1430280" cy="434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3300"/>
                </a:solidFill>
                <a:latin typeface="Arial Narrow"/>
              </a:rPr>
              <a:t>I- Indépendance Physique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05120" y="3249720"/>
            <a:ext cx="1430280" cy="434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3300"/>
                </a:solidFill>
                <a:latin typeface="Arial Narrow"/>
              </a:rPr>
              <a:t>IX - Gestion de la confidentialité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61040" y="2577960"/>
            <a:ext cx="1430280" cy="4352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3300"/>
                </a:solidFill>
                <a:latin typeface="Arial Narrow"/>
              </a:rPr>
              <a:t>II- Indépendance Logique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76760" y="5267160"/>
            <a:ext cx="1430280" cy="4352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3300"/>
                </a:solidFill>
                <a:latin typeface="Arial Narrow"/>
              </a:rPr>
              <a:t>VI - Gestion de la cohérence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62240" y="2577960"/>
            <a:ext cx="1430280" cy="4352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3300"/>
                </a:solidFill>
                <a:latin typeface="Arial Narrow"/>
              </a:rPr>
              <a:t>X - Standard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68960" y="4589640"/>
            <a:ext cx="1430280" cy="434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3300"/>
                </a:solidFill>
                <a:latin typeface="Arial Narrow"/>
              </a:rPr>
              <a:t>V - Optimisation des question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88000" y="3254400"/>
            <a:ext cx="1430280" cy="434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3300"/>
                </a:solidFill>
                <a:latin typeface="Arial Narrow"/>
              </a:rPr>
              <a:t>III – Langage de manipulatio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80080" y="3930480"/>
            <a:ext cx="1430280" cy="4352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3300"/>
                </a:solidFill>
                <a:latin typeface="Arial Narrow"/>
              </a:rPr>
              <a:t>IV - Gestion des </a:t>
            </a:r>
            <a:br>
              <a:rPr sz="1200"/>
            </a:br>
            <a:r>
              <a:rPr b="1" lang="fr-FR" sz="1200" spc="-1" strike="noStrike">
                <a:solidFill>
                  <a:srgbClr val="003300"/>
                </a:solidFill>
                <a:latin typeface="Arial Narrow"/>
              </a:rPr>
              <a:t>vue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971800" y="762120"/>
            <a:ext cx="6172200" cy="0"/>
          </a:xfrm>
          <a:prstGeom prst="line">
            <a:avLst/>
          </a:prstGeom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061BE-B7DA-456E-8476-1AA9FE69CEF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Modélisation de la réalité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771280" y="914400"/>
            <a:ext cx="6372360" cy="56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Modélisation en 4 éta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76920" indent="-376920">
              <a:spcBef>
                <a:spcPts val="4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nformations sur la réalité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76920" indent="-376920">
              <a:spcBef>
                <a:spcPts val="4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Analyse de la réalité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Modèle CONCEPTU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Définir un modèle de la réalité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Indépendant des bases de donné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76920" indent="-376920">
              <a:spcBef>
                <a:spcPts val="4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Analyse logique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Modèle LOGIQ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Définir un modèle logique de base de données relationnell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Indépendant du SGBD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76920" indent="-376920">
              <a:spcBef>
                <a:spcPts val="4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Mise en oeuvre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Modèle PHYSIQ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dapter le modèle logique au SGBD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réer la base de données physiqu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4C72B-B73F-45DB-A9AD-0A8DBC34C5E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279360" y="1125360"/>
          <a:ext cx="8778960" cy="5381640"/>
        </p:xfrm>
        <a:graphic>
          <a:graphicData uri="http://schemas.openxmlformats.org/drawingml/2006/table">
            <a:tbl>
              <a:tblPr/>
              <a:tblGrid>
                <a:gridCol w="2057400"/>
                <a:gridCol w="1895400"/>
                <a:gridCol w="1216080"/>
                <a:gridCol w="419040"/>
                <a:gridCol w="1081080"/>
                <a:gridCol w="192240"/>
                <a:gridCol w="884160"/>
                <a:gridCol w="1033560"/>
              </a:tblGrid>
              <a:tr h="1341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éalité</a:t>
                      </a: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dèle conceptuel</a:t>
                      </a: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ctr">
                      <a:noAutofit/>
                    </a:bodyPr>
                    <a:p>
                      <a:pPr marL="190440" indent="-9504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 Narrow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dépendant du modèle de données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marL="190440" indent="-9504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 Narrow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dépendant du SGBD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gridSpan="3">
                  <a:txBody>
                    <a:bodyPr lIns="9000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34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dèle logique</a:t>
                      </a: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ctr">
                      <a:noAutofit/>
                    </a:bodyPr>
                    <a:p>
                      <a:pPr marL="195120" indent="-9684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 Narrow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Dépendant du modèle de données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marL="195120" indent="-9684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 Narrow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dépendant du SGBD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gridSpan="2">
                  <a:txBody>
                    <a:bodyPr lIns="38160" rIns="381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lationnel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8160" rIns="381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ML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gridSpan="2">
                  <a:txBody>
                    <a:bodyPr lIns="38160" rIns="381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bjet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8160" rIns="381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re...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346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dèle Physique</a:t>
                      </a: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ctr">
                      <a:noAutofit/>
                    </a:bodyPr>
                    <a:p>
                      <a:pPr marL="195120" indent="-9684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 Narrow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Dépendant du modèle de données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marL="195120" indent="-9684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 Narrow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Dépendant du SGBD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 gridSpan="6">
                  <a:txBody>
                    <a:bodyPr lIns="90000" rIns="0" tIns="46800" bIns="46800" anchor="ctr">
                      <a:noAutofit/>
                    </a:bodyPr>
                    <a:p>
                      <a:pPr marL="1044720" indent="-1843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 Narrow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rganisation physique des données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marL="1044720" indent="-1843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 Narrow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uctures de stockage des données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marL="1044720" indent="-1843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 Narrow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res (index, etc)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Modélisation de la réalité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67" name=""/>
          <p:cNvSpPr/>
          <p:nvPr/>
        </p:nvSpPr>
        <p:spPr>
          <a:xfrm>
            <a:off x="2162160" y="1135080"/>
            <a:ext cx="393840" cy="5371920"/>
          </a:xfrm>
          <a:prstGeom prst="downArrow">
            <a:avLst>
              <a:gd name="adj1" fmla="val 50000"/>
              <a:gd name="adj2" fmla="val 154901"/>
            </a:avLst>
          </a:prstGeom>
          <a:solidFill>
            <a:srgbClr val="80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010200" y="1636560"/>
            <a:ext cx="852480" cy="8096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7527960" y="1287360"/>
            <a:ext cx="868320" cy="681120"/>
          </a:xfrm>
          <a:prstGeom prst="rect">
            <a:avLst/>
          </a:prstGeom>
          <a:ln w="0">
            <a:noFill/>
          </a:ln>
        </p:spPr>
      </p:pic>
      <p:grpSp>
        <p:nvGrpSpPr>
          <p:cNvPr id="270" name=""/>
          <p:cNvGrpSpPr/>
          <p:nvPr/>
        </p:nvGrpSpPr>
        <p:grpSpPr>
          <a:xfrm>
            <a:off x="2828880" y="1319040"/>
            <a:ext cx="816120" cy="675000"/>
            <a:chOff x="2828880" y="1319040"/>
            <a:chExt cx="816120" cy="675000"/>
          </a:xfrm>
        </p:grpSpPr>
        <p:sp>
          <p:nvSpPr>
            <p:cNvPr id="271" name=""/>
            <p:cNvSpPr/>
            <p:nvPr/>
          </p:nvSpPr>
          <p:spPr>
            <a:xfrm>
              <a:off x="2828880" y="1319040"/>
              <a:ext cx="816120" cy="675000"/>
            </a:xfrm>
            <a:custGeom>
              <a:avLst/>
              <a:gdLst/>
              <a:ahLst/>
              <a:rect l="l" t="t" r="r" b="b"/>
              <a:pathLst>
                <a:path w="3797" h="2558">
                  <a:moveTo>
                    <a:pt x="602" y="2552"/>
                  </a:moveTo>
                  <a:lnTo>
                    <a:pt x="581" y="2554"/>
                  </a:lnTo>
                  <a:lnTo>
                    <a:pt x="524" y="2558"/>
                  </a:lnTo>
                  <a:lnTo>
                    <a:pt x="442" y="2558"/>
                  </a:lnTo>
                  <a:lnTo>
                    <a:pt x="348" y="2552"/>
                  </a:lnTo>
                  <a:lnTo>
                    <a:pt x="298" y="2545"/>
                  </a:lnTo>
                  <a:lnTo>
                    <a:pt x="250" y="2534"/>
                  </a:lnTo>
                  <a:lnTo>
                    <a:pt x="225" y="2528"/>
                  </a:lnTo>
                  <a:lnTo>
                    <a:pt x="203" y="2519"/>
                  </a:lnTo>
                  <a:lnTo>
                    <a:pt x="181" y="2510"/>
                  </a:lnTo>
                  <a:lnTo>
                    <a:pt x="160" y="2501"/>
                  </a:lnTo>
                  <a:lnTo>
                    <a:pt x="148" y="2495"/>
                  </a:lnTo>
                  <a:lnTo>
                    <a:pt x="138" y="2489"/>
                  </a:lnTo>
                  <a:lnTo>
                    <a:pt x="130" y="2483"/>
                  </a:lnTo>
                  <a:lnTo>
                    <a:pt x="120" y="2477"/>
                  </a:lnTo>
                  <a:lnTo>
                    <a:pt x="87" y="2448"/>
                  </a:lnTo>
                  <a:lnTo>
                    <a:pt x="61" y="2412"/>
                  </a:lnTo>
                  <a:lnTo>
                    <a:pt x="44" y="2370"/>
                  </a:lnTo>
                  <a:lnTo>
                    <a:pt x="21" y="2243"/>
                  </a:lnTo>
                  <a:lnTo>
                    <a:pt x="7" y="2057"/>
                  </a:lnTo>
                  <a:lnTo>
                    <a:pt x="0" y="1833"/>
                  </a:lnTo>
                  <a:lnTo>
                    <a:pt x="1" y="1591"/>
                  </a:lnTo>
                  <a:lnTo>
                    <a:pt x="6" y="1470"/>
                  </a:lnTo>
                  <a:lnTo>
                    <a:pt x="13" y="1354"/>
                  </a:lnTo>
                  <a:lnTo>
                    <a:pt x="23" y="1243"/>
                  </a:lnTo>
                  <a:lnTo>
                    <a:pt x="34" y="1142"/>
                  </a:lnTo>
                  <a:lnTo>
                    <a:pt x="41" y="1095"/>
                  </a:lnTo>
                  <a:lnTo>
                    <a:pt x="48" y="1052"/>
                  </a:lnTo>
                  <a:lnTo>
                    <a:pt x="57" y="1012"/>
                  </a:lnTo>
                  <a:lnTo>
                    <a:pt x="67" y="977"/>
                  </a:lnTo>
                  <a:lnTo>
                    <a:pt x="77" y="945"/>
                  </a:lnTo>
                  <a:lnTo>
                    <a:pt x="87" y="918"/>
                  </a:lnTo>
                  <a:lnTo>
                    <a:pt x="98" y="895"/>
                  </a:lnTo>
                  <a:lnTo>
                    <a:pt x="111" y="879"/>
                  </a:lnTo>
                  <a:lnTo>
                    <a:pt x="124" y="865"/>
                  </a:lnTo>
                  <a:lnTo>
                    <a:pt x="138" y="852"/>
                  </a:lnTo>
                  <a:lnTo>
                    <a:pt x="170" y="825"/>
                  </a:lnTo>
                  <a:lnTo>
                    <a:pt x="177" y="819"/>
                  </a:lnTo>
                  <a:lnTo>
                    <a:pt x="185" y="813"/>
                  </a:lnTo>
                  <a:lnTo>
                    <a:pt x="194" y="807"/>
                  </a:lnTo>
                  <a:lnTo>
                    <a:pt x="204" y="801"/>
                  </a:lnTo>
                  <a:lnTo>
                    <a:pt x="213" y="795"/>
                  </a:lnTo>
                  <a:lnTo>
                    <a:pt x="221" y="789"/>
                  </a:lnTo>
                  <a:lnTo>
                    <a:pt x="231" y="783"/>
                  </a:lnTo>
                  <a:lnTo>
                    <a:pt x="240" y="777"/>
                  </a:lnTo>
                  <a:lnTo>
                    <a:pt x="250" y="771"/>
                  </a:lnTo>
                  <a:lnTo>
                    <a:pt x="260" y="766"/>
                  </a:lnTo>
                  <a:lnTo>
                    <a:pt x="268" y="760"/>
                  </a:lnTo>
                  <a:lnTo>
                    <a:pt x="278" y="754"/>
                  </a:lnTo>
                  <a:lnTo>
                    <a:pt x="288" y="749"/>
                  </a:lnTo>
                  <a:lnTo>
                    <a:pt x="298" y="743"/>
                  </a:lnTo>
                  <a:lnTo>
                    <a:pt x="308" y="737"/>
                  </a:lnTo>
                  <a:lnTo>
                    <a:pt x="318" y="733"/>
                  </a:lnTo>
                  <a:lnTo>
                    <a:pt x="330" y="727"/>
                  </a:lnTo>
                  <a:lnTo>
                    <a:pt x="340" y="722"/>
                  </a:lnTo>
                  <a:lnTo>
                    <a:pt x="350" y="716"/>
                  </a:lnTo>
                  <a:lnTo>
                    <a:pt x="360" y="712"/>
                  </a:lnTo>
                  <a:lnTo>
                    <a:pt x="370" y="706"/>
                  </a:lnTo>
                  <a:lnTo>
                    <a:pt x="380" y="701"/>
                  </a:lnTo>
                  <a:lnTo>
                    <a:pt x="391" y="695"/>
                  </a:lnTo>
                  <a:lnTo>
                    <a:pt x="401" y="689"/>
                  </a:lnTo>
                  <a:lnTo>
                    <a:pt x="411" y="685"/>
                  </a:lnTo>
                  <a:lnTo>
                    <a:pt x="421" y="680"/>
                  </a:lnTo>
                  <a:lnTo>
                    <a:pt x="431" y="674"/>
                  </a:lnTo>
                  <a:lnTo>
                    <a:pt x="441" y="670"/>
                  </a:lnTo>
                  <a:lnTo>
                    <a:pt x="451" y="664"/>
                  </a:lnTo>
                  <a:lnTo>
                    <a:pt x="462" y="660"/>
                  </a:lnTo>
                  <a:lnTo>
                    <a:pt x="471" y="654"/>
                  </a:lnTo>
                  <a:lnTo>
                    <a:pt x="481" y="649"/>
                  </a:lnTo>
                  <a:lnTo>
                    <a:pt x="491" y="643"/>
                  </a:lnTo>
                  <a:lnTo>
                    <a:pt x="501" y="639"/>
                  </a:lnTo>
                  <a:lnTo>
                    <a:pt x="511" y="633"/>
                  </a:lnTo>
                  <a:lnTo>
                    <a:pt x="520" y="628"/>
                  </a:lnTo>
                  <a:lnTo>
                    <a:pt x="530" y="622"/>
                  </a:lnTo>
                  <a:lnTo>
                    <a:pt x="538" y="618"/>
                  </a:lnTo>
                  <a:lnTo>
                    <a:pt x="547" y="612"/>
                  </a:lnTo>
                  <a:lnTo>
                    <a:pt x="557" y="607"/>
                  </a:lnTo>
                  <a:lnTo>
                    <a:pt x="565" y="601"/>
                  </a:lnTo>
                  <a:lnTo>
                    <a:pt x="574" y="597"/>
                  </a:lnTo>
                  <a:lnTo>
                    <a:pt x="582" y="591"/>
                  </a:lnTo>
                  <a:lnTo>
                    <a:pt x="589" y="585"/>
                  </a:lnTo>
                  <a:lnTo>
                    <a:pt x="598" y="580"/>
                  </a:lnTo>
                  <a:lnTo>
                    <a:pt x="605" y="574"/>
                  </a:lnTo>
                  <a:lnTo>
                    <a:pt x="614" y="568"/>
                  </a:lnTo>
                  <a:lnTo>
                    <a:pt x="621" y="564"/>
                  </a:lnTo>
                  <a:lnTo>
                    <a:pt x="647" y="540"/>
                  </a:lnTo>
                  <a:lnTo>
                    <a:pt x="669" y="516"/>
                  </a:lnTo>
                  <a:lnTo>
                    <a:pt x="692" y="489"/>
                  </a:lnTo>
                  <a:lnTo>
                    <a:pt x="705" y="473"/>
                  </a:lnTo>
                  <a:lnTo>
                    <a:pt x="719" y="457"/>
                  </a:lnTo>
                  <a:lnTo>
                    <a:pt x="735" y="439"/>
                  </a:lnTo>
                  <a:lnTo>
                    <a:pt x="752" y="421"/>
                  </a:lnTo>
                  <a:lnTo>
                    <a:pt x="769" y="401"/>
                  </a:lnTo>
                  <a:lnTo>
                    <a:pt x="788" y="380"/>
                  </a:lnTo>
                  <a:lnTo>
                    <a:pt x="808" y="361"/>
                  </a:lnTo>
                  <a:lnTo>
                    <a:pt x="829" y="340"/>
                  </a:lnTo>
                  <a:lnTo>
                    <a:pt x="851" y="318"/>
                  </a:lnTo>
                  <a:lnTo>
                    <a:pt x="874" y="297"/>
                  </a:lnTo>
                  <a:lnTo>
                    <a:pt x="898" y="276"/>
                  </a:lnTo>
                  <a:lnTo>
                    <a:pt x="922" y="254"/>
                  </a:lnTo>
                  <a:lnTo>
                    <a:pt x="946" y="233"/>
                  </a:lnTo>
                  <a:lnTo>
                    <a:pt x="972" y="212"/>
                  </a:lnTo>
                  <a:lnTo>
                    <a:pt x="979" y="206"/>
                  </a:lnTo>
                  <a:lnTo>
                    <a:pt x="985" y="201"/>
                  </a:lnTo>
                  <a:lnTo>
                    <a:pt x="992" y="195"/>
                  </a:lnTo>
                  <a:lnTo>
                    <a:pt x="999" y="191"/>
                  </a:lnTo>
                  <a:lnTo>
                    <a:pt x="1005" y="186"/>
                  </a:lnTo>
                  <a:lnTo>
                    <a:pt x="1012" y="180"/>
                  </a:lnTo>
                  <a:lnTo>
                    <a:pt x="1019" y="176"/>
                  </a:lnTo>
                  <a:lnTo>
                    <a:pt x="1026" y="171"/>
                  </a:lnTo>
                  <a:lnTo>
                    <a:pt x="1033" y="166"/>
                  </a:lnTo>
                  <a:lnTo>
                    <a:pt x="1041" y="161"/>
                  </a:lnTo>
                  <a:lnTo>
                    <a:pt x="1046" y="157"/>
                  </a:lnTo>
                  <a:lnTo>
                    <a:pt x="1053" y="152"/>
                  </a:lnTo>
                  <a:lnTo>
                    <a:pt x="1068" y="142"/>
                  </a:lnTo>
                  <a:lnTo>
                    <a:pt x="1082" y="133"/>
                  </a:lnTo>
                  <a:lnTo>
                    <a:pt x="1096" y="124"/>
                  </a:lnTo>
                  <a:lnTo>
                    <a:pt x="1111" y="115"/>
                  </a:lnTo>
                  <a:lnTo>
                    <a:pt x="1125" y="107"/>
                  </a:lnTo>
                  <a:lnTo>
                    <a:pt x="1141" y="98"/>
                  </a:lnTo>
                  <a:lnTo>
                    <a:pt x="1155" y="91"/>
                  </a:lnTo>
                  <a:lnTo>
                    <a:pt x="1171" y="83"/>
                  </a:lnTo>
                  <a:lnTo>
                    <a:pt x="1185" y="76"/>
                  </a:lnTo>
                  <a:lnTo>
                    <a:pt x="1201" y="69"/>
                  </a:lnTo>
                  <a:lnTo>
                    <a:pt x="1215" y="63"/>
                  </a:lnTo>
                  <a:lnTo>
                    <a:pt x="1230" y="55"/>
                  </a:lnTo>
                  <a:lnTo>
                    <a:pt x="1246" y="49"/>
                  </a:lnTo>
                  <a:lnTo>
                    <a:pt x="1260" y="45"/>
                  </a:lnTo>
                  <a:lnTo>
                    <a:pt x="1276" y="39"/>
                  </a:lnTo>
                  <a:lnTo>
                    <a:pt x="1292" y="34"/>
                  </a:lnTo>
                  <a:lnTo>
                    <a:pt x="1323" y="27"/>
                  </a:lnTo>
                  <a:lnTo>
                    <a:pt x="1355" y="19"/>
                  </a:lnTo>
                  <a:lnTo>
                    <a:pt x="1386" y="15"/>
                  </a:lnTo>
                  <a:lnTo>
                    <a:pt x="1449" y="13"/>
                  </a:lnTo>
                  <a:lnTo>
                    <a:pt x="1595" y="12"/>
                  </a:lnTo>
                  <a:lnTo>
                    <a:pt x="1770" y="7"/>
                  </a:lnTo>
                  <a:lnTo>
                    <a:pt x="1964" y="1"/>
                  </a:lnTo>
                  <a:lnTo>
                    <a:pt x="2166" y="0"/>
                  </a:lnTo>
                  <a:lnTo>
                    <a:pt x="2360" y="7"/>
                  </a:lnTo>
                  <a:lnTo>
                    <a:pt x="2451" y="15"/>
                  </a:lnTo>
                  <a:lnTo>
                    <a:pt x="2537" y="27"/>
                  </a:lnTo>
                  <a:lnTo>
                    <a:pt x="2575" y="34"/>
                  </a:lnTo>
                  <a:lnTo>
                    <a:pt x="2614" y="43"/>
                  </a:lnTo>
                  <a:lnTo>
                    <a:pt x="2650" y="54"/>
                  </a:lnTo>
                  <a:lnTo>
                    <a:pt x="2667" y="58"/>
                  </a:lnTo>
                  <a:lnTo>
                    <a:pt x="2682" y="64"/>
                  </a:lnTo>
                  <a:lnTo>
                    <a:pt x="2698" y="70"/>
                  </a:lnTo>
                  <a:lnTo>
                    <a:pt x="2714" y="77"/>
                  </a:lnTo>
                  <a:lnTo>
                    <a:pt x="2728" y="83"/>
                  </a:lnTo>
                  <a:lnTo>
                    <a:pt x="2741" y="91"/>
                  </a:lnTo>
                  <a:lnTo>
                    <a:pt x="2754" y="98"/>
                  </a:lnTo>
                  <a:lnTo>
                    <a:pt x="2765" y="106"/>
                  </a:lnTo>
                  <a:lnTo>
                    <a:pt x="2787" y="124"/>
                  </a:lnTo>
                  <a:lnTo>
                    <a:pt x="2808" y="142"/>
                  </a:lnTo>
                  <a:lnTo>
                    <a:pt x="2831" y="163"/>
                  </a:lnTo>
                  <a:lnTo>
                    <a:pt x="2854" y="183"/>
                  </a:lnTo>
                  <a:lnTo>
                    <a:pt x="2879" y="206"/>
                  </a:lnTo>
                  <a:lnTo>
                    <a:pt x="2907" y="230"/>
                  </a:lnTo>
                  <a:lnTo>
                    <a:pt x="2934" y="255"/>
                  </a:lnTo>
                  <a:lnTo>
                    <a:pt x="2962" y="282"/>
                  </a:lnTo>
                  <a:lnTo>
                    <a:pt x="2992" y="309"/>
                  </a:lnTo>
                  <a:lnTo>
                    <a:pt x="3022" y="336"/>
                  </a:lnTo>
                  <a:lnTo>
                    <a:pt x="3054" y="364"/>
                  </a:lnTo>
                  <a:lnTo>
                    <a:pt x="3068" y="379"/>
                  </a:lnTo>
                  <a:lnTo>
                    <a:pt x="3084" y="394"/>
                  </a:lnTo>
                  <a:lnTo>
                    <a:pt x="3099" y="407"/>
                  </a:lnTo>
                  <a:lnTo>
                    <a:pt x="3115" y="422"/>
                  </a:lnTo>
                  <a:lnTo>
                    <a:pt x="3132" y="437"/>
                  </a:lnTo>
                  <a:lnTo>
                    <a:pt x="3148" y="452"/>
                  </a:lnTo>
                  <a:lnTo>
                    <a:pt x="3164" y="468"/>
                  </a:lnTo>
                  <a:lnTo>
                    <a:pt x="3179" y="483"/>
                  </a:lnTo>
                  <a:lnTo>
                    <a:pt x="3195" y="498"/>
                  </a:lnTo>
                  <a:lnTo>
                    <a:pt x="3211" y="513"/>
                  </a:lnTo>
                  <a:lnTo>
                    <a:pt x="3226" y="528"/>
                  </a:lnTo>
                  <a:lnTo>
                    <a:pt x="3242" y="545"/>
                  </a:lnTo>
                  <a:lnTo>
                    <a:pt x="3258" y="560"/>
                  </a:lnTo>
                  <a:lnTo>
                    <a:pt x="3273" y="574"/>
                  </a:lnTo>
                  <a:lnTo>
                    <a:pt x="3288" y="591"/>
                  </a:lnTo>
                  <a:lnTo>
                    <a:pt x="3303" y="606"/>
                  </a:lnTo>
                  <a:lnTo>
                    <a:pt x="3318" y="621"/>
                  </a:lnTo>
                  <a:lnTo>
                    <a:pt x="3333" y="636"/>
                  </a:lnTo>
                  <a:lnTo>
                    <a:pt x="3348" y="651"/>
                  </a:lnTo>
                  <a:lnTo>
                    <a:pt x="3362" y="667"/>
                  </a:lnTo>
                  <a:lnTo>
                    <a:pt x="3376" y="682"/>
                  </a:lnTo>
                  <a:lnTo>
                    <a:pt x="3389" y="697"/>
                  </a:lnTo>
                  <a:lnTo>
                    <a:pt x="3403" y="712"/>
                  </a:lnTo>
                  <a:lnTo>
                    <a:pt x="3416" y="727"/>
                  </a:lnTo>
                  <a:lnTo>
                    <a:pt x="3442" y="755"/>
                  </a:lnTo>
                  <a:lnTo>
                    <a:pt x="3466" y="783"/>
                  </a:lnTo>
                  <a:lnTo>
                    <a:pt x="3489" y="812"/>
                  </a:lnTo>
                  <a:lnTo>
                    <a:pt x="3510" y="839"/>
                  </a:lnTo>
                  <a:lnTo>
                    <a:pt x="3530" y="865"/>
                  </a:lnTo>
                  <a:lnTo>
                    <a:pt x="3548" y="889"/>
                  </a:lnTo>
                  <a:lnTo>
                    <a:pt x="3563" y="915"/>
                  </a:lnTo>
                  <a:lnTo>
                    <a:pt x="3576" y="937"/>
                  </a:lnTo>
                  <a:lnTo>
                    <a:pt x="3588" y="960"/>
                  </a:lnTo>
                  <a:lnTo>
                    <a:pt x="3596" y="980"/>
                  </a:lnTo>
                  <a:lnTo>
                    <a:pt x="3610" y="1019"/>
                  </a:lnTo>
                  <a:lnTo>
                    <a:pt x="3623" y="1060"/>
                  </a:lnTo>
                  <a:lnTo>
                    <a:pt x="3635" y="1098"/>
                  </a:lnTo>
                  <a:lnTo>
                    <a:pt x="3648" y="1137"/>
                  </a:lnTo>
                  <a:lnTo>
                    <a:pt x="3659" y="1176"/>
                  </a:lnTo>
                  <a:lnTo>
                    <a:pt x="3669" y="1213"/>
                  </a:lnTo>
                  <a:lnTo>
                    <a:pt x="3679" y="1249"/>
                  </a:lnTo>
                  <a:lnTo>
                    <a:pt x="3690" y="1285"/>
                  </a:lnTo>
                  <a:lnTo>
                    <a:pt x="3699" y="1319"/>
                  </a:lnTo>
                  <a:lnTo>
                    <a:pt x="3709" y="1352"/>
                  </a:lnTo>
                  <a:lnTo>
                    <a:pt x="3719" y="1383"/>
                  </a:lnTo>
                  <a:lnTo>
                    <a:pt x="3729" y="1413"/>
                  </a:lnTo>
                  <a:lnTo>
                    <a:pt x="3739" y="1442"/>
                  </a:lnTo>
                  <a:lnTo>
                    <a:pt x="3747" y="1468"/>
                  </a:lnTo>
                  <a:lnTo>
                    <a:pt x="3759" y="1492"/>
                  </a:lnTo>
                  <a:lnTo>
                    <a:pt x="3769" y="1515"/>
                  </a:lnTo>
                  <a:lnTo>
                    <a:pt x="3787" y="1574"/>
                  </a:lnTo>
                  <a:lnTo>
                    <a:pt x="3797" y="1664"/>
                  </a:lnTo>
                  <a:lnTo>
                    <a:pt x="3797" y="1774"/>
                  </a:lnTo>
                  <a:lnTo>
                    <a:pt x="3789" y="1894"/>
                  </a:lnTo>
                  <a:lnTo>
                    <a:pt x="3782" y="1952"/>
                  </a:lnTo>
                  <a:lnTo>
                    <a:pt x="3770" y="2010"/>
                  </a:lnTo>
                  <a:lnTo>
                    <a:pt x="3757" y="2065"/>
                  </a:lnTo>
                  <a:lnTo>
                    <a:pt x="3749" y="2092"/>
                  </a:lnTo>
                  <a:lnTo>
                    <a:pt x="3740" y="2116"/>
                  </a:lnTo>
                  <a:lnTo>
                    <a:pt x="3732" y="2140"/>
                  </a:lnTo>
                  <a:lnTo>
                    <a:pt x="3722" y="2161"/>
                  </a:lnTo>
                  <a:lnTo>
                    <a:pt x="3710" y="2182"/>
                  </a:lnTo>
                  <a:lnTo>
                    <a:pt x="3699" y="2200"/>
                  </a:lnTo>
                  <a:lnTo>
                    <a:pt x="3686" y="2215"/>
                  </a:lnTo>
                  <a:lnTo>
                    <a:pt x="3673" y="2230"/>
                  </a:lnTo>
                  <a:lnTo>
                    <a:pt x="3659" y="2240"/>
                  </a:lnTo>
                  <a:lnTo>
                    <a:pt x="3652" y="2246"/>
                  </a:lnTo>
                  <a:lnTo>
                    <a:pt x="3643" y="2249"/>
                  </a:lnTo>
                  <a:lnTo>
                    <a:pt x="3635" y="2254"/>
                  </a:lnTo>
                  <a:lnTo>
                    <a:pt x="3620" y="2258"/>
                  </a:lnTo>
                  <a:lnTo>
                    <a:pt x="3603" y="2262"/>
                  </a:lnTo>
                  <a:lnTo>
                    <a:pt x="3583" y="2267"/>
                  </a:lnTo>
                  <a:lnTo>
                    <a:pt x="3559" y="2271"/>
                  </a:lnTo>
                  <a:lnTo>
                    <a:pt x="3530" y="2276"/>
                  </a:lnTo>
                  <a:lnTo>
                    <a:pt x="3500" y="2280"/>
                  </a:lnTo>
                  <a:lnTo>
                    <a:pt x="3466" y="2286"/>
                  </a:lnTo>
                  <a:lnTo>
                    <a:pt x="3429" y="2291"/>
                  </a:lnTo>
                  <a:lnTo>
                    <a:pt x="3389" y="2297"/>
                  </a:lnTo>
                  <a:lnTo>
                    <a:pt x="3348" y="2301"/>
                  </a:lnTo>
                  <a:lnTo>
                    <a:pt x="3302" y="2307"/>
                  </a:lnTo>
                  <a:lnTo>
                    <a:pt x="3255" y="2313"/>
                  </a:lnTo>
                  <a:lnTo>
                    <a:pt x="3205" y="2319"/>
                  </a:lnTo>
                  <a:lnTo>
                    <a:pt x="3154" y="2325"/>
                  </a:lnTo>
                  <a:lnTo>
                    <a:pt x="3099" y="2331"/>
                  </a:lnTo>
                  <a:lnTo>
                    <a:pt x="3044" y="2337"/>
                  </a:lnTo>
                  <a:lnTo>
                    <a:pt x="2987" y="2343"/>
                  </a:lnTo>
                  <a:lnTo>
                    <a:pt x="2927" y="2349"/>
                  </a:lnTo>
                  <a:lnTo>
                    <a:pt x="2867" y="2355"/>
                  </a:lnTo>
                  <a:lnTo>
                    <a:pt x="2804" y="2361"/>
                  </a:lnTo>
                  <a:lnTo>
                    <a:pt x="2740" y="2368"/>
                  </a:lnTo>
                  <a:lnTo>
                    <a:pt x="2675" y="2374"/>
                  </a:lnTo>
                  <a:lnTo>
                    <a:pt x="2610" y="2380"/>
                  </a:lnTo>
                  <a:lnTo>
                    <a:pt x="2543" y="2386"/>
                  </a:lnTo>
                  <a:lnTo>
                    <a:pt x="2475" y="2394"/>
                  </a:lnTo>
                  <a:lnTo>
                    <a:pt x="2407" y="2400"/>
                  </a:lnTo>
                  <a:lnTo>
                    <a:pt x="2338" y="2406"/>
                  </a:lnTo>
                  <a:lnTo>
                    <a:pt x="2270" y="2412"/>
                  </a:lnTo>
                  <a:lnTo>
                    <a:pt x="2200" y="2419"/>
                  </a:lnTo>
                  <a:lnTo>
                    <a:pt x="2131" y="2425"/>
                  </a:lnTo>
                  <a:lnTo>
                    <a:pt x="2061" y="2431"/>
                  </a:lnTo>
                  <a:lnTo>
                    <a:pt x="1993" y="2437"/>
                  </a:lnTo>
                  <a:lnTo>
                    <a:pt x="1923" y="2443"/>
                  </a:lnTo>
                  <a:lnTo>
                    <a:pt x="1854" y="2449"/>
                  </a:lnTo>
                  <a:lnTo>
                    <a:pt x="1786" y="2455"/>
                  </a:lnTo>
                  <a:lnTo>
                    <a:pt x="1719" y="2461"/>
                  </a:lnTo>
                  <a:lnTo>
                    <a:pt x="1652" y="2467"/>
                  </a:lnTo>
                  <a:lnTo>
                    <a:pt x="1586" y="2471"/>
                  </a:lnTo>
                  <a:lnTo>
                    <a:pt x="1522" y="2477"/>
                  </a:lnTo>
                  <a:lnTo>
                    <a:pt x="1457" y="2483"/>
                  </a:lnTo>
                  <a:lnTo>
                    <a:pt x="1395" y="2488"/>
                  </a:lnTo>
                  <a:lnTo>
                    <a:pt x="1333" y="2492"/>
                  </a:lnTo>
                  <a:lnTo>
                    <a:pt x="1275" y="2498"/>
                  </a:lnTo>
                  <a:lnTo>
                    <a:pt x="1161" y="2507"/>
                  </a:lnTo>
                  <a:lnTo>
                    <a:pt x="1053" y="2516"/>
                  </a:lnTo>
                  <a:lnTo>
                    <a:pt x="956" y="2524"/>
                  </a:lnTo>
                  <a:lnTo>
                    <a:pt x="869" y="2531"/>
                  </a:lnTo>
                  <a:lnTo>
                    <a:pt x="791" y="2537"/>
                  </a:lnTo>
                  <a:lnTo>
                    <a:pt x="725" y="2542"/>
                  </a:lnTo>
                  <a:lnTo>
                    <a:pt x="634" y="2549"/>
                  </a:lnTo>
                  <a:lnTo>
                    <a:pt x="602" y="2552"/>
                  </a:lnTo>
                  <a:lnTo>
                    <a:pt x="602" y="2552"/>
                  </a:lnTo>
                  <a:close/>
                </a:path>
              </a:pathLst>
            </a:cu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pic>
          <p:nvPicPr>
            <p:cNvPr id="272" name="" descr=""/>
            <p:cNvPicPr/>
            <p:nvPr/>
          </p:nvPicPr>
          <p:blipFill>
            <a:blip r:embed="rId3"/>
            <a:stretch/>
          </p:blipFill>
          <p:spPr>
            <a:xfrm>
              <a:off x="2970360" y="1342440"/>
              <a:ext cx="646200" cy="586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"/>
          <p:cNvSpPr/>
          <p:nvPr/>
        </p:nvSpPr>
        <p:spPr>
          <a:xfrm>
            <a:off x="3619440" y="1695600"/>
            <a:ext cx="657360" cy="352440"/>
          </a:xfrm>
          <a:prstGeom prst="line">
            <a:avLst/>
          </a:prstGeom>
          <a:ln w="12600">
            <a:solidFill>
              <a:srgbClr val="000099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629160" y="1704960"/>
            <a:ext cx="2457360" cy="104760"/>
          </a:xfrm>
          <a:prstGeom prst="line">
            <a:avLst/>
          </a:prstGeom>
          <a:ln w="12600">
            <a:solidFill>
              <a:srgbClr val="000099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3619440" y="1495440"/>
            <a:ext cx="4048200" cy="209520"/>
          </a:xfrm>
          <a:prstGeom prst="line">
            <a:avLst/>
          </a:prstGeom>
          <a:ln w="12600">
            <a:solidFill>
              <a:srgbClr val="000099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4206960" y="1638360"/>
            <a:ext cx="785880" cy="7826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7021440" y="1332000"/>
            <a:ext cx="222480" cy="331560"/>
          </a:xfrm>
          <a:prstGeom prst="foldedCorner">
            <a:avLst>
              <a:gd name="adj" fmla="val 12500"/>
            </a:avLst>
          </a:prstGeom>
          <a:solidFill>
            <a:srgbClr val="008000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86400" y="1660680"/>
            <a:ext cx="250920" cy="284040"/>
          </a:xfrm>
          <a:prstGeom prst="foldedCorner">
            <a:avLst>
              <a:gd name="adj" fmla="val 12500"/>
            </a:avLst>
          </a:prstGeom>
          <a:solidFill>
            <a:srgbClr val="000099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09880" y="1805040"/>
            <a:ext cx="231840" cy="330120"/>
          </a:xfrm>
          <a:prstGeom prst="foldedCorner">
            <a:avLst>
              <a:gd name="adj" fmla="val 12500"/>
            </a:avLst>
          </a:prstGeom>
          <a:solidFill>
            <a:srgbClr val="66ff66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32160" y="2492280"/>
            <a:ext cx="4800600" cy="1330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216920" y="3002040"/>
            <a:ext cx="546120" cy="263520"/>
          </a:xfrm>
          <a:custGeom>
            <a:avLst/>
            <a:gdLst/>
            <a:ahLst/>
            <a:rect l="l" t="t" r="r" b="b"/>
            <a:pathLst>
              <a:path w="454" h="327">
                <a:moveTo>
                  <a:pt x="453" y="163"/>
                </a:moveTo>
                <a:lnTo>
                  <a:pt x="451" y="148"/>
                </a:lnTo>
                <a:lnTo>
                  <a:pt x="448" y="134"/>
                </a:lnTo>
                <a:lnTo>
                  <a:pt x="445" y="120"/>
                </a:lnTo>
                <a:lnTo>
                  <a:pt x="439" y="106"/>
                </a:lnTo>
                <a:lnTo>
                  <a:pt x="431" y="94"/>
                </a:lnTo>
                <a:lnTo>
                  <a:pt x="422" y="80"/>
                </a:lnTo>
                <a:lnTo>
                  <a:pt x="411" y="68"/>
                </a:lnTo>
                <a:lnTo>
                  <a:pt x="399" y="57"/>
                </a:lnTo>
                <a:lnTo>
                  <a:pt x="386" y="47"/>
                </a:lnTo>
                <a:lnTo>
                  <a:pt x="372" y="37"/>
                </a:lnTo>
                <a:lnTo>
                  <a:pt x="356" y="29"/>
                </a:lnTo>
                <a:lnTo>
                  <a:pt x="339" y="21"/>
                </a:lnTo>
                <a:lnTo>
                  <a:pt x="322" y="15"/>
                </a:lnTo>
                <a:lnTo>
                  <a:pt x="303" y="9"/>
                </a:lnTo>
                <a:lnTo>
                  <a:pt x="285" y="5"/>
                </a:lnTo>
                <a:lnTo>
                  <a:pt x="265" y="1"/>
                </a:lnTo>
                <a:lnTo>
                  <a:pt x="246" y="0"/>
                </a:lnTo>
                <a:lnTo>
                  <a:pt x="225" y="0"/>
                </a:lnTo>
                <a:lnTo>
                  <a:pt x="206" y="0"/>
                </a:lnTo>
                <a:lnTo>
                  <a:pt x="186" y="1"/>
                </a:lnTo>
                <a:lnTo>
                  <a:pt x="167" y="5"/>
                </a:lnTo>
                <a:lnTo>
                  <a:pt x="148" y="9"/>
                </a:lnTo>
                <a:lnTo>
                  <a:pt x="130" y="15"/>
                </a:lnTo>
                <a:lnTo>
                  <a:pt x="113" y="21"/>
                </a:lnTo>
                <a:lnTo>
                  <a:pt x="96" y="29"/>
                </a:lnTo>
                <a:lnTo>
                  <a:pt x="80" y="37"/>
                </a:lnTo>
                <a:lnTo>
                  <a:pt x="65" y="47"/>
                </a:lnTo>
                <a:lnTo>
                  <a:pt x="53" y="57"/>
                </a:lnTo>
                <a:lnTo>
                  <a:pt x="40" y="68"/>
                </a:lnTo>
                <a:lnTo>
                  <a:pt x="29" y="80"/>
                </a:lnTo>
                <a:lnTo>
                  <a:pt x="21" y="94"/>
                </a:lnTo>
                <a:lnTo>
                  <a:pt x="13" y="106"/>
                </a:lnTo>
                <a:lnTo>
                  <a:pt x="7" y="120"/>
                </a:lnTo>
                <a:lnTo>
                  <a:pt x="3" y="134"/>
                </a:lnTo>
                <a:lnTo>
                  <a:pt x="1" y="148"/>
                </a:lnTo>
                <a:lnTo>
                  <a:pt x="0" y="163"/>
                </a:lnTo>
                <a:lnTo>
                  <a:pt x="1" y="177"/>
                </a:lnTo>
                <a:lnTo>
                  <a:pt x="3" y="191"/>
                </a:lnTo>
                <a:lnTo>
                  <a:pt x="7" y="205"/>
                </a:lnTo>
                <a:lnTo>
                  <a:pt x="13" y="217"/>
                </a:lnTo>
                <a:lnTo>
                  <a:pt x="21" y="231"/>
                </a:lnTo>
                <a:lnTo>
                  <a:pt x="29" y="244"/>
                </a:lnTo>
                <a:lnTo>
                  <a:pt x="40" y="255"/>
                </a:lnTo>
                <a:lnTo>
                  <a:pt x="53" y="266"/>
                </a:lnTo>
                <a:lnTo>
                  <a:pt x="65" y="278"/>
                </a:lnTo>
                <a:lnTo>
                  <a:pt x="80" y="288"/>
                </a:lnTo>
                <a:lnTo>
                  <a:pt x="96" y="296"/>
                </a:lnTo>
                <a:lnTo>
                  <a:pt x="113" y="303"/>
                </a:lnTo>
                <a:lnTo>
                  <a:pt x="130" y="310"/>
                </a:lnTo>
                <a:lnTo>
                  <a:pt x="148" y="316"/>
                </a:lnTo>
                <a:lnTo>
                  <a:pt x="167" y="320"/>
                </a:lnTo>
                <a:lnTo>
                  <a:pt x="186" y="323"/>
                </a:lnTo>
                <a:lnTo>
                  <a:pt x="206" y="326"/>
                </a:lnTo>
                <a:lnTo>
                  <a:pt x="225" y="326"/>
                </a:lnTo>
                <a:lnTo>
                  <a:pt x="246" y="326"/>
                </a:lnTo>
                <a:lnTo>
                  <a:pt x="265" y="323"/>
                </a:lnTo>
                <a:lnTo>
                  <a:pt x="285" y="320"/>
                </a:lnTo>
                <a:lnTo>
                  <a:pt x="303" y="316"/>
                </a:lnTo>
                <a:lnTo>
                  <a:pt x="322" y="310"/>
                </a:lnTo>
                <a:lnTo>
                  <a:pt x="339" y="303"/>
                </a:lnTo>
                <a:lnTo>
                  <a:pt x="356" y="296"/>
                </a:lnTo>
                <a:lnTo>
                  <a:pt x="372" y="288"/>
                </a:lnTo>
                <a:lnTo>
                  <a:pt x="386" y="278"/>
                </a:lnTo>
                <a:lnTo>
                  <a:pt x="399" y="266"/>
                </a:lnTo>
                <a:lnTo>
                  <a:pt x="411" y="255"/>
                </a:lnTo>
                <a:lnTo>
                  <a:pt x="422" y="244"/>
                </a:lnTo>
                <a:lnTo>
                  <a:pt x="431" y="231"/>
                </a:lnTo>
                <a:lnTo>
                  <a:pt x="439" y="217"/>
                </a:lnTo>
                <a:lnTo>
                  <a:pt x="445" y="205"/>
                </a:lnTo>
                <a:lnTo>
                  <a:pt x="448" y="191"/>
                </a:lnTo>
                <a:lnTo>
                  <a:pt x="451" y="177"/>
                </a:lnTo>
                <a:lnTo>
                  <a:pt x="453" y="163"/>
                </a:lnTo>
              </a:path>
            </a:pathLst>
          </a:custGeom>
          <a:noFill/>
          <a:ln cap="rnd" w="1260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217000" y="3013200"/>
            <a:ext cx="691920" cy="252360"/>
          </a:xfrm>
          <a:custGeom>
            <a:avLst/>
            <a:gdLst/>
            <a:ahLst/>
            <a:rect l="l" t="t" r="r" b="b"/>
            <a:pathLst>
              <a:path w="575" h="313">
                <a:moveTo>
                  <a:pt x="0" y="156"/>
                </a:moveTo>
                <a:lnTo>
                  <a:pt x="1" y="169"/>
                </a:lnTo>
                <a:lnTo>
                  <a:pt x="5" y="182"/>
                </a:lnTo>
                <a:lnTo>
                  <a:pt x="9" y="196"/>
                </a:lnTo>
                <a:lnTo>
                  <a:pt x="17" y="208"/>
                </a:lnTo>
                <a:lnTo>
                  <a:pt x="28" y="221"/>
                </a:lnTo>
                <a:lnTo>
                  <a:pt x="38" y="234"/>
                </a:lnTo>
                <a:lnTo>
                  <a:pt x="52" y="244"/>
                </a:lnTo>
                <a:lnTo>
                  <a:pt x="67" y="255"/>
                </a:lnTo>
                <a:lnTo>
                  <a:pt x="84" y="266"/>
                </a:lnTo>
                <a:lnTo>
                  <a:pt x="103" y="275"/>
                </a:lnTo>
                <a:lnTo>
                  <a:pt x="123" y="283"/>
                </a:lnTo>
                <a:lnTo>
                  <a:pt x="143" y="290"/>
                </a:lnTo>
                <a:lnTo>
                  <a:pt x="165" y="297"/>
                </a:lnTo>
                <a:lnTo>
                  <a:pt x="189" y="302"/>
                </a:lnTo>
                <a:lnTo>
                  <a:pt x="213" y="306"/>
                </a:lnTo>
                <a:lnTo>
                  <a:pt x="237" y="309"/>
                </a:lnTo>
                <a:lnTo>
                  <a:pt x="262" y="312"/>
                </a:lnTo>
                <a:lnTo>
                  <a:pt x="287" y="312"/>
                </a:lnTo>
                <a:lnTo>
                  <a:pt x="311" y="312"/>
                </a:lnTo>
                <a:lnTo>
                  <a:pt x="337" y="309"/>
                </a:lnTo>
                <a:lnTo>
                  <a:pt x="361" y="306"/>
                </a:lnTo>
                <a:lnTo>
                  <a:pt x="385" y="302"/>
                </a:lnTo>
                <a:lnTo>
                  <a:pt x="408" y="297"/>
                </a:lnTo>
                <a:lnTo>
                  <a:pt x="431" y="290"/>
                </a:lnTo>
                <a:lnTo>
                  <a:pt x="451" y="283"/>
                </a:lnTo>
                <a:lnTo>
                  <a:pt x="471" y="275"/>
                </a:lnTo>
                <a:lnTo>
                  <a:pt x="490" y="266"/>
                </a:lnTo>
                <a:lnTo>
                  <a:pt x="506" y="255"/>
                </a:lnTo>
                <a:lnTo>
                  <a:pt x="522" y="244"/>
                </a:lnTo>
                <a:lnTo>
                  <a:pt x="536" y="234"/>
                </a:lnTo>
                <a:lnTo>
                  <a:pt x="547" y="221"/>
                </a:lnTo>
                <a:lnTo>
                  <a:pt x="556" y="208"/>
                </a:lnTo>
                <a:lnTo>
                  <a:pt x="564" y="196"/>
                </a:lnTo>
                <a:lnTo>
                  <a:pt x="569" y="182"/>
                </a:lnTo>
                <a:lnTo>
                  <a:pt x="572" y="169"/>
                </a:lnTo>
                <a:lnTo>
                  <a:pt x="574" y="156"/>
                </a:lnTo>
                <a:lnTo>
                  <a:pt x="572" y="141"/>
                </a:lnTo>
                <a:lnTo>
                  <a:pt x="569" y="129"/>
                </a:lnTo>
                <a:lnTo>
                  <a:pt x="564" y="114"/>
                </a:lnTo>
                <a:lnTo>
                  <a:pt x="556" y="102"/>
                </a:lnTo>
                <a:lnTo>
                  <a:pt x="547" y="90"/>
                </a:lnTo>
                <a:lnTo>
                  <a:pt x="536" y="76"/>
                </a:lnTo>
                <a:lnTo>
                  <a:pt x="522" y="65"/>
                </a:lnTo>
                <a:lnTo>
                  <a:pt x="506" y="55"/>
                </a:lnTo>
                <a:lnTo>
                  <a:pt x="490" y="45"/>
                </a:lnTo>
                <a:lnTo>
                  <a:pt x="471" y="36"/>
                </a:lnTo>
                <a:lnTo>
                  <a:pt x="451" y="26"/>
                </a:lnTo>
                <a:lnTo>
                  <a:pt x="431" y="20"/>
                </a:lnTo>
                <a:lnTo>
                  <a:pt x="408" y="14"/>
                </a:lnTo>
                <a:lnTo>
                  <a:pt x="385" y="8"/>
                </a:lnTo>
                <a:lnTo>
                  <a:pt x="361" y="5"/>
                </a:lnTo>
                <a:lnTo>
                  <a:pt x="337" y="1"/>
                </a:lnTo>
                <a:lnTo>
                  <a:pt x="311" y="0"/>
                </a:lnTo>
                <a:lnTo>
                  <a:pt x="287" y="0"/>
                </a:lnTo>
                <a:lnTo>
                  <a:pt x="262" y="0"/>
                </a:lnTo>
                <a:lnTo>
                  <a:pt x="237" y="1"/>
                </a:lnTo>
                <a:lnTo>
                  <a:pt x="212" y="5"/>
                </a:lnTo>
                <a:lnTo>
                  <a:pt x="189" y="9"/>
                </a:lnTo>
                <a:lnTo>
                  <a:pt x="165" y="14"/>
                </a:lnTo>
                <a:lnTo>
                  <a:pt x="143" y="20"/>
                </a:lnTo>
                <a:lnTo>
                  <a:pt x="123" y="28"/>
                </a:lnTo>
                <a:lnTo>
                  <a:pt x="102" y="36"/>
                </a:lnTo>
                <a:lnTo>
                  <a:pt x="84" y="45"/>
                </a:lnTo>
                <a:lnTo>
                  <a:pt x="67" y="55"/>
                </a:lnTo>
                <a:lnTo>
                  <a:pt x="52" y="65"/>
                </a:lnTo>
                <a:lnTo>
                  <a:pt x="38" y="78"/>
                </a:lnTo>
                <a:lnTo>
                  <a:pt x="28" y="90"/>
                </a:lnTo>
                <a:lnTo>
                  <a:pt x="17" y="102"/>
                </a:lnTo>
                <a:lnTo>
                  <a:pt x="9" y="115"/>
                </a:lnTo>
                <a:lnTo>
                  <a:pt x="5" y="129"/>
                </a:lnTo>
                <a:lnTo>
                  <a:pt x="1" y="142"/>
                </a:lnTo>
                <a:lnTo>
                  <a:pt x="0" y="156"/>
                </a:lnTo>
              </a:path>
            </a:pathLst>
          </a:custGeom>
          <a:noFill/>
          <a:ln cap="rnd" w="1260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48560" y="2808360"/>
            <a:ext cx="712800" cy="263520"/>
          </a:xfrm>
          <a:custGeom>
            <a:avLst/>
            <a:gdLst/>
            <a:ahLst/>
            <a:rect l="l" t="t" r="r" b="b"/>
            <a:pathLst>
              <a:path w="592" h="327">
                <a:moveTo>
                  <a:pt x="591" y="163"/>
                </a:moveTo>
                <a:lnTo>
                  <a:pt x="589" y="148"/>
                </a:lnTo>
                <a:lnTo>
                  <a:pt x="586" y="133"/>
                </a:lnTo>
                <a:lnTo>
                  <a:pt x="581" y="120"/>
                </a:lnTo>
                <a:lnTo>
                  <a:pt x="573" y="106"/>
                </a:lnTo>
                <a:lnTo>
                  <a:pt x="563" y="94"/>
                </a:lnTo>
                <a:lnTo>
                  <a:pt x="550" y="81"/>
                </a:lnTo>
                <a:lnTo>
                  <a:pt x="538" y="68"/>
                </a:lnTo>
                <a:lnTo>
                  <a:pt x="521" y="57"/>
                </a:lnTo>
                <a:lnTo>
                  <a:pt x="505" y="46"/>
                </a:lnTo>
                <a:lnTo>
                  <a:pt x="485" y="37"/>
                </a:lnTo>
                <a:lnTo>
                  <a:pt x="465" y="29"/>
                </a:lnTo>
                <a:lnTo>
                  <a:pt x="442" y="21"/>
                </a:lnTo>
                <a:lnTo>
                  <a:pt x="420" y="14"/>
                </a:lnTo>
                <a:lnTo>
                  <a:pt x="395" y="9"/>
                </a:lnTo>
                <a:lnTo>
                  <a:pt x="372" y="4"/>
                </a:lnTo>
                <a:lnTo>
                  <a:pt x="347" y="1"/>
                </a:lnTo>
                <a:lnTo>
                  <a:pt x="321" y="0"/>
                </a:lnTo>
                <a:lnTo>
                  <a:pt x="294" y="0"/>
                </a:lnTo>
                <a:lnTo>
                  <a:pt x="269" y="0"/>
                </a:lnTo>
                <a:lnTo>
                  <a:pt x="243" y="1"/>
                </a:lnTo>
                <a:lnTo>
                  <a:pt x="218" y="4"/>
                </a:lnTo>
                <a:lnTo>
                  <a:pt x="195" y="9"/>
                </a:lnTo>
                <a:lnTo>
                  <a:pt x="170" y="14"/>
                </a:lnTo>
                <a:lnTo>
                  <a:pt x="148" y="21"/>
                </a:lnTo>
                <a:lnTo>
                  <a:pt x="125" y="29"/>
                </a:lnTo>
                <a:lnTo>
                  <a:pt x="105" y="37"/>
                </a:lnTo>
                <a:lnTo>
                  <a:pt x="85" y="46"/>
                </a:lnTo>
                <a:lnTo>
                  <a:pt x="69" y="57"/>
                </a:lnTo>
                <a:lnTo>
                  <a:pt x="53" y="68"/>
                </a:lnTo>
                <a:lnTo>
                  <a:pt x="40" y="81"/>
                </a:lnTo>
                <a:lnTo>
                  <a:pt x="27" y="94"/>
                </a:lnTo>
                <a:lnTo>
                  <a:pt x="17" y="106"/>
                </a:lnTo>
                <a:lnTo>
                  <a:pt x="9" y="120"/>
                </a:lnTo>
                <a:lnTo>
                  <a:pt x="4" y="133"/>
                </a:lnTo>
                <a:lnTo>
                  <a:pt x="1" y="148"/>
                </a:lnTo>
                <a:lnTo>
                  <a:pt x="0" y="163"/>
                </a:lnTo>
                <a:lnTo>
                  <a:pt x="1" y="177"/>
                </a:lnTo>
                <a:lnTo>
                  <a:pt x="4" y="191"/>
                </a:lnTo>
                <a:lnTo>
                  <a:pt x="9" y="205"/>
                </a:lnTo>
                <a:lnTo>
                  <a:pt x="17" y="219"/>
                </a:lnTo>
                <a:lnTo>
                  <a:pt x="27" y="231"/>
                </a:lnTo>
                <a:lnTo>
                  <a:pt x="40" y="244"/>
                </a:lnTo>
                <a:lnTo>
                  <a:pt x="53" y="257"/>
                </a:lnTo>
                <a:lnTo>
                  <a:pt x="69" y="268"/>
                </a:lnTo>
                <a:lnTo>
                  <a:pt x="85" y="278"/>
                </a:lnTo>
                <a:lnTo>
                  <a:pt x="105" y="288"/>
                </a:lnTo>
                <a:lnTo>
                  <a:pt x="125" y="296"/>
                </a:lnTo>
                <a:lnTo>
                  <a:pt x="148" y="304"/>
                </a:lnTo>
                <a:lnTo>
                  <a:pt x="170" y="310"/>
                </a:lnTo>
                <a:lnTo>
                  <a:pt x="195" y="316"/>
                </a:lnTo>
                <a:lnTo>
                  <a:pt x="218" y="320"/>
                </a:lnTo>
                <a:lnTo>
                  <a:pt x="243" y="324"/>
                </a:lnTo>
                <a:lnTo>
                  <a:pt x="269" y="326"/>
                </a:lnTo>
                <a:lnTo>
                  <a:pt x="294" y="326"/>
                </a:lnTo>
                <a:lnTo>
                  <a:pt x="321" y="326"/>
                </a:lnTo>
                <a:lnTo>
                  <a:pt x="347" y="324"/>
                </a:lnTo>
                <a:lnTo>
                  <a:pt x="372" y="320"/>
                </a:lnTo>
                <a:lnTo>
                  <a:pt x="395" y="316"/>
                </a:lnTo>
                <a:lnTo>
                  <a:pt x="420" y="310"/>
                </a:lnTo>
                <a:lnTo>
                  <a:pt x="442" y="304"/>
                </a:lnTo>
                <a:lnTo>
                  <a:pt x="465" y="296"/>
                </a:lnTo>
                <a:lnTo>
                  <a:pt x="485" y="288"/>
                </a:lnTo>
                <a:lnTo>
                  <a:pt x="505" y="278"/>
                </a:lnTo>
                <a:lnTo>
                  <a:pt x="521" y="268"/>
                </a:lnTo>
                <a:lnTo>
                  <a:pt x="538" y="257"/>
                </a:lnTo>
                <a:lnTo>
                  <a:pt x="550" y="244"/>
                </a:lnTo>
                <a:lnTo>
                  <a:pt x="563" y="231"/>
                </a:lnTo>
                <a:lnTo>
                  <a:pt x="573" y="219"/>
                </a:lnTo>
                <a:lnTo>
                  <a:pt x="581" y="205"/>
                </a:lnTo>
                <a:lnTo>
                  <a:pt x="586" y="191"/>
                </a:lnTo>
                <a:lnTo>
                  <a:pt x="589" y="177"/>
                </a:lnTo>
                <a:lnTo>
                  <a:pt x="591" y="163"/>
                </a:lnTo>
              </a:path>
            </a:pathLst>
          </a:custGeom>
          <a:noFill/>
          <a:ln cap="rnd" w="1260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386400" y="2652840"/>
            <a:ext cx="544680" cy="263520"/>
          </a:xfrm>
          <a:custGeom>
            <a:avLst/>
            <a:gdLst/>
            <a:ahLst/>
            <a:rect l="l" t="t" r="r" b="b"/>
            <a:pathLst>
              <a:path w="454" h="327">
                <a:moveTo>
                  <a:pt x="0" y="163"/>
                </a:moveTo>
                <a:lnTo>
                  <a:pt x="1" y="177"/>
                </a:lnTo>
                <a:lnTo>
                  <a:pt x="3" y="192"/>
                </a:lnTo>
                <a:lnTo>
                  <a:pt x="8" y="205"/>
                </a:lnTo>
                <a:lnTo>
                  <a:pt x="13" y="219"/>
                </a:lnTo>
                <a:lnTo>
                  <a:pt x="21" y="231"/>
                </a:lnTo>
                <a:lnTo>
                  <a:pt x="30" y="244"/>
                </a:lnTo>
                <a:lnTo>
                  <a:pt x="41" y="257"/>
                </a:lnTo>
                <a:lnTo>
                  <a:pt x="53" y="268"/>
                </a:lnTo>
                <a:lnTo>
                  <a:pt x="66" y="278"/>
                </a:lnTo>
                <a:lnTo>
                  <a:pt x="80" y="288"/>
                </a:lnTo>
                <a:lnTo>
                  <a:pt x="96" y="296"/>
                </a:lnTo>
                <a:lnTo>
                  <a:pt x="113" y="304"/>
                </a:lnTo>
                <a:lnTo>
                  <a:pt x="131" y="311"/>
                </a:lnTo>
                <a:lnTo>
                  <a:pt x="149" y="316"/>
                </a:lnTo>
                <a:lnTo>
                  <a:pt x="167" y="320"/>
                </a:lnTo>
                <a:lnTo>
                  <a:pt x="186" y="324"/>
                </a:lnTo>
                <a:lnTo>
                  <a:pt x="206" y="326"/>
                </a:lnTo>
                <a:lnTo>
                  <a:pt x="227" y="326"/>
                </a:lnTo>
                <a:lnTo>
                  <a:pt x="246" y="326"/>
                </a:lnTo>
                <a:lnTo>
                  <a:pt x="266" y="323"/>
                </a:lnTo>
                <a:lnTo>
                  <a:pt x="285" y="320"/>
                </a:lnTo>
                <a:lnTo>
                  <a:pt x="304" y="316"/>
                </a:lnTo>
                <a:lnTo>
                  <a:pt x="322" y="310"/>
                </a:lnTo>
                <a:lnTo>
                  <a:pt x="340" y="304"/>
                </a:lnTo>
                <a:lnTo>
                  <a:pt x="356" y="296"/>
                </a:lnTo>
                <a:lnTo>
                  <a:pt x="372" y="288"/>
                </a:lnTo>
                <a:lnTo>
                  <a:pt x="387" y="278"/>
                </a:lnTo>
                <a:lnTo>
                  <a:pt x="399" y="266"/>
                </a:lnTo>
                <a:lnTo>
                  <a:pt x="412" y="257"/>
                </a:lnTo>
                <a:lnTo>
                  <a:pt x="423" y="244"/>
                </a:lnTo>
                <a:lnTo>
                  <a:pt x="431" y="231"/>
                </a:lnTo>
                <a:lnTo>
                  <a:pt x="439" y="219"/>
                </a:lnTo>
                <a:lnTo>
                  <a:pt x="445" y="205"/>
                </a:lnTo>
                <a:lnTo>
                  <a:pt x="449" y="191"/>
                </a:lnTo>
                <a:lnTo>
                  <a:pt x="453" y="177"/>
                </a:lnTo>
                <a:lnTo>
                  <a:pt x="453" y="163"/>
                </a:lnTo>
                <a:lnTo>
                  <a:pt x="453" y="148"/>
                </a:lnTo>
                <a:lnTo>
                  <a:pt x="449" y="134"/>
                </a:lnTo>
                <a:lnTo>
                  <a:pt x="445" y="120"/>
                </a:lnTo>
                <a:lnTo>
                  <a:pt x="439" y="106"/>
                </a:lnTo>
                <a:lnTo>
                  <a:pt x="431" y="94"/>
                </a:lnTo>
                <a:lnTo>
                  <a:pt x="422" y="81"/>
                </a:lnTo>
                <a:lnTo>
                  <a:pt x="412" y="68"/>
                </a:lnTo>
                <a:lnTo>
                  <a:pt x="399" y="57"/>
                </a:lnTo>
                <a:lnTo>
                  <a:pt x="387" y="47"/>
                </a:lnTo>
                <a:lnTo>
                  <a:pt x="372" y="37"/>
                </a:lnTo>
                <a:lnTo>
                  <a:pt x="356" y="29"/>
                </a:lnTo>
                <a:lnTo>
                  <a:pt x="339" y="21"/>
                </a:lnTo>
                <a:lnTo>
                  <a:pt x="322" y="15"/>
                </a:lnTo>
                <a:lnTo>
                  <a:pt x="304" y="9"/>
                </a:lnTo>
                <a:lnTo>
                  <a:pt x="285" y="5"/>
                </a:lnTo>
                <a:lnTo>
                  <a:pt x="266" y="1"/>
                </a:lnTo>
                <a:lnTo>
                  <a:pt x="246" y="0"/>
                </a:lnTo>
                <a:lnTo>
                  <a:pt x="225" y="0"/>
                </a:lnTo>
                <a:lnTo>
                  <a:pt x="206" y="0"/>
                </a:lnTo>
                <a:lnTo>
                  <a:pt x="186" y="1"/>
                </a:lnTo>
                <a:lnTo>
                  <a:pt x="167" y="5"/>
                </a:lnTo>
                <a:lnTo>
                  <a:pt x="149" y="9"/>
                </a:lnTo>
                <a:lnTo>
                  <a:pt x="131" y="15"/>
                </a:lnTo>
                <a:lnTo>
                  <a:pt x="113" y="21"/>
                </a:lnTo>
                <a:lnTo>
                  <a:pt x="96" y="29"/>
                </a:lnTo>
                <a:lnTo>
                  <a:pt x="80" y="37"/>
                </a:lnTo>
                <a:lnTo>
                  <a:pt x="66" y="47"/>
                </a:lnTo>
                <a:lnTo>
                  <a:pt x="53" y="57"/>
                </a:lnTo>
                <a:lnTo>
                  <a:pt x="41" y="68"/>
                </a:lnTo>
                <a:lnTo>
                  <a:pt x="30" y="81"/>
                </a:lnTo>
                <a:lnTo>
                  <a:pt x="21" y="94"/>
                </a:lnTo>
                <a:lnTo>
                  <a:pt x="13" y="106"/>
                </a:lnTo>
                <a:lnTo>
                  <a:pt x="8" y="120"/>
                </a:lnTo>
                <a:lnTo>
                  <a:pt x="3" y="134"/>
                </a:lnTo>
                <a:lnTo>
                  <a:pt x="1" y="148"/>
                </a:lnTo>
                <a:lnTo>
                  <a:pt x="0" y="163"/>
                </a:lnTo>
              </a:path>
            </a:pathLst>
          </a:custGeom>
          <a:noFill/>
          <a:ln cap="rnd" w="1260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06880" y="2800440"/>
            <a:ext cx="546120" cy="263520"/>
          </a:xfrm>
          <a:custGeom>
            <a:avLst/>
            <a:gdLst/>
            <a:ahLst/>
            <a:rect l="l" t="t" r="r" b="b"/>
            <a:pathLst>
              <a:path w="454" h="327">
                <a:moveTo>
                  <a:pt x="453" y="163"/>
                </a:moveTo>
                <a:lnTo>
                  <a:pt x="453" y="148"/>
                </a:lnTo>
                <a:lnTo>
                  <a:pt x="449" y="134"/>
                </a:lnTo>
                <a:lnTo>
                  <a:pt x="445" y="120"/>
                </a:lnTo>
                <a:lnTo>
                  <a:pt x="439" y="106"/>
                </a:lnTo>
                <a:lnTo>
                  <a:pt x="431" y="94"/>
                </a:lnTo>
                <a:lnTo>
                  <a:pt x="422" y="81"/>
                </a:lnTo>
                <a:lnTo>
                  <a:pt x="412" y="68"/>
                </a:lnTo>
                <a:lnTo>
                  <a:pt x="399" y="57"/>
                </a:lnTo>
                <a:lnTo>
                  <a:pt x="387" y="47"/>
                </a:lnTo>
                <a:lnTo>
                  <a:pt x="372" y="37"/>
                </a:lnTo>
                <a:lnTo>
                  <a:pt x="356" y="29"/>
                </a:lnTo>
                <a:lnTo>
                  <a:pt x="339" y="21"/>
                </a:lnTo>
                <a:lnTo>
                  <a:pt x="322" y="15"/>
                </a:lnTo>
                <a:lnTo>
                  <a:pt x="304" y="9"/>
                </a:lnTo>
                <a:lnTo>
                  <a:pt x="285" y="5"/>
                </a:lnTo>
                <a:lnTo>
                  <a:pt x="266" y="2"/>
                </a:lnTo>
                <a:lnTo>
                  <a:pt x="246" y="0"/>
                </a:lnTo>
                <a:lnTo>
                  <a:pt x="227" y="0"/>
                </a:lnTo>
                <a:lnTo>
                  <a:pt x="206" y="0"/>
                </a:lnTo>
                <a:lnTo>
                  <a:pt x="187" y="2"/>
                </a:lnTo>
                <a:lnTo>
                  <a:pt x="167" y="5"/>
                </a:lnTo>
                <a:lnTo>
                  <a:pt x="149" y="9"/>
                </a:lnTo>
                <a:lnTo>
                  <a:pt x="131" y="15"/>
                </a:lnTo>
                <a:lnTo>
                  <a:pt x="113" y="21"/>
                </a:lnTo>
                <a:lnTo>
                  <a:pt x="96" y="29"/>
                </a:lnTo>
                <a:lnTo>
                  <a:pt x="81" y="37"/>
                </a:lnTo>
                <a:lnTo>
                  <a:pt x="66" y="47"/>
                </a:lnTo>
                <a:lnTo>
                  <a:pt x="53" y="57"/>
                </a:lnTo>
                <a:lnTo>
                  <a:pt x="41" y="68"/>
                </a:lnTo>
                <a:lnTo>
                  <a:pt x="30" y="81"/>
                </a:lnTo>
                <a:lnTo>
                  <a:pt x="21" y="94"/>
                </a:lnTo>
                <a:lnTo>
                  <a:pt x="13" y="106"/>
                </a:lnTo>
                <a:lnTo>
                  <a:pt x="8" y="120"/>
                </a:lnTo>
                <a:lnTo>
                  <a:pt x="3" y="134"/>
                </a:lnTo>
                <a:lnTo>
                  <a:pt x="1" y="148"/>
                </a:lnTo>
                <a:lnTo>
                  <a:pt x="0" y="163"/>
                </a:lnTo>
                <a:lnTo>
                  <a:pt x="1" y="177"/>
                </a:lnTo>
                <a:lnTo>
                  <a:pt x="3" y="191"/>
                </a:lnTo>
                <a:lnTo>
                  <a:pt x="8" y="205"/>
                </a:lnTo>
                <a:lnTo>
                  <a:pt x="13" y="219"/>
                </a:lnTo>
                <a:lnTo>
                  <a:pt x="21" y="231"/>
                </a:lnTo>
                <a:lnTo>
                  <a:pt x="30" y="244"/>
                </a:lnTo>
                <a:lnTo>
                  <a:pt x="41" y="257"/>
                </a:lnTo>
                <a:lnTo>
                  <a:pt x="53" y="268"/>
                </a:lnTo>
                <a:lnTo>
                  <a:pt x="66" y="278"/>
                </a:lnTo>
                <a:lnTo>
                  <a:pt x="81" y="288"/>
                </a:lnTo>
                <a:lnTo>
                  <a:pt x="96" y="296"/>
                </a:lnTo>
                <a:lnTo>
                  <a:pt x="113" y="304"/>
                </a:lnTo>
                <a:lnTo>
                  <a:pt x="131" y="310"/>
                </a:lnTo>
                <a:lnTo>
                  <a:pt x="149" y="316"/>
                </a:lnTo>
                <a:lnTo>
                  <a:pt x="167" y="320"/>
                </a:lnTo>
                <a:lnTo>
                  <a:pt x="187" y="324"/>
                </a:lnTo>
                <a:lnTo>
                  <a:pt x="206" y="326"/>
                </a:lnTo>
                <a:lnTo>
                  <a:pt x="227" y="326"/>
                </a:lnTo>
                <a:lnTo>
                  <a:pt x="246" y="326"/>
                </a:lnTo>
                <a:lnTo>
                  <a:pt x="266" y="324"/>
                </a:lnTo>
                <a:lnTo>
                  <a:pt x="285" y="320"/>
                </a:lnTo>
                <a:lnTo>
                  <a:pt x="304" y="316"/>
                </a:lnTo>
                <a:lnTo>
                  <a:pt x="322" y="310"/>
                </a:lnTo>
                <a:lnTo>
                  <a:pt x="339" y="304"/>
                </a:lnTo>
                <a:lnTo>
                  <a:pt x="356" y="296"/>
                </a:lnTo>
                <a:lnTo>
                  <a:pt x="372" y="288"/>
                </a:lnTo>
                <a:lnTo>
                  <a:pt x="387" y="278"/>
                </a:lnTo>
                <a:lnTo>
                  <a:pt x="399" y="268"/>
                </a:lnTo>
                <a:lnTo>
                  <a:pt x="412" y="257"/>
                </a:lnTo>
                <a:lnTo>
                  <a:pt x="422" y="244"/>
                </a:lnTo>
                <a:lnTo>
                  <a:pt x="431" y="231"/>
                </a:lnTo>
                <a:lnTo>
                  <a:pt x="439" y="219"/>
                </a:lnTo>
                <a:lnTo>
                  <a:pt x="445" y="205"/>
                </a:lnTo>
                <a:lnTo>
                  <a:pt x="449" y="191"/>
                </a:lnTo>
                <a:lnTo>
                  <a:pt x="453" y="177"/>
                </a:lnTo>
                <a:lnTo>
                  <a:pt x="453" y="163"/>
                </a:lnTo>
              </a:path>
            </a:pathLst>
          </a:custGeom>
          <a:noFill/>
          <a:ln cap="rnd" w="1260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18000" y="2994120"/>
            <a:ext cx="546120" cy="264960"/>
          </a:xfrm>
          <a:custGeom>
            <a:avLst/>
            <a:gdLst/>
            <a:ahLst/>
            <a:rect l="l" t="t" r="r" b="b"/>
            <a:pathLst>
              <a:path w="454" h="326">
                <a:moveTo>
                  <a:pt x="453" y="162"/>
                </a:moveTo>
                <a:lnTo>
                  <a:pt x="451" y="148"/>
                </a:lnTo>
                <a:lnTo>
                  <a:pt x="449" y="134"/>
                </a:lnTo>
                <a:lnTo>
                  <a:pt x="445" y="120"/>
                </a:lnTo>
                <a:lnTo>
                  <a:pt x="439" y="106"/>
                </a:lnTo>
                <a:lnTo>
                  <a:pt x="431" y="93"/>
                </a:lnTo>
                <a:lnTo>
                  <a:pt x="422" y="81"/>
                </a:lnTo>
                <a:lnTo>
                  <a:pt x="411" y="68"/>
                </a:lnTo>
                <a:lnTo>
                  <a:pt x="399" y="57"/>
                </a:lnTo>
                <a:lnTo>
                  <a:pt x="386" y="47"/>
                </a:lnTo>
                <a:lnTo>
                  <a:pt x="372" y="37"/>
                </a:lnTo>
                <a:lnTo>
                  <a:pt x="356" y="29"/>
                </a:lnTo>
                <a:lnTo>
                  <a:pt x="339" y="21"/>
                </a:lnTo>
                <a:lnTo>
                  <a:pt x="322" y="15"/>
                </a:lnTo>
                <a:lnTo>
                  <a:pt x="304" y="9"/>
                </a:lnTo>
                <a:lnTo>
                  <a:pt x="285" y="5"/>
                </a:lnTo>
                <a:lnTo>
                  <a:pt x="265" y="1"/>
                </a:lnTo>
                <a:lnTo>
                  <a:pt x="246" y="0"/>
                </a:lnTo>
                <a:lnTo>
                  <a:pt x="225" y="0"/>
                </a:lnTo>
                <a:lnTo>
                  <a:pt x="206" y="0"/>
                </a:lnTo>
                <a:lnTo>
                  <a:pt x="186" y="1"/>
                </a:lnTo>
                <a:lnTo>
                  <a:pt x="167" y="5"/>
                </a:lnTo>
                <a:lnTo>
                  <a:pt x="148" y="9"/>
                </a:lnTo>
                <a:lnTo>
                  <a:pt x="130" y="15"/>
                </a:lnTo>
                <a:lnTo>
                  <a:pt x="113" y="21"/>
                </a:lnTo>
                <a:lnTo>
                  <a:pt x="96" y="29"/>
                </a:lnTo>
                <a:lnTo>
                  <a:pt x="80" y="37"/>
                </a:lnTo>
                <a:lnTo>
                  <a:pt x="66" y="47"/>
                </a:lnTo>
                <a:lnTo>
                  <a:pt x="53" y="57"/>
                </a:lnTo>
                <a:lnTo>
                  <a:pt x="41" y="68"/>
                </a:lnTo>
                <a:lnTo>
                  <a:pt x="30" y="81"/>
                </a:lnTo>
                <a:lnTo>
                  <a:pt x="21" y="93"/>
                </a:lnTo>
                <a:lnTo>
                  <a:pt x="13" y="106"/>
                </a:lnTo>
                <a:lnTo>
                  <a:pt x="7" y="120"/>
                </a:lnTo>
                <a:lnTo>
                  <a:pt x="3" y="134"/>
                </a:lnTo>
                <a:lnTo>
                  <a:pt x="1" y="148"/>
                </a:lnTo>
                <a:lnTo>
                  <a:pt x="0" y="162"/>
                </a:lnTo>
                <a:lnTo>
                  <a:pt x="1" y="176"/>
                </a:lnTo>
                <a:lnTo>
                  <a:pt x="3" y="190"/>
                </a:lnTo>
                <a:lnTo>
                  <a:pt x="7" y="204"/>
                </a:lnTo>
                <a:lnTo>
                  <a:pt x="13" y="218"/>
                </a:lnTo>
                <a:lnTo>
                  <a:pt x="21" y="231"/>
                </a:lnTo>
                <a:lnTo>
                  <a:pt x="30" y="243"/>
                </a:lnTo>
                <a:lnTo>
                  <a:pt x="41" y="256"/>
                </a:lnTo>
                <a:lnTo>
                  <a:pt x="53" y="266"/>
                </a:lnTo>
                <a:lnTo>
                  <a:pt x="66" y="277"/>
                </a:lnTo>
                <a:lnTo>
                  <a:pt x="80" y="287"/>
                </a:lnTo>
                <a:lnTo>
                  <a:pt x="96" y="295"/>
                </a:lnTo>
                <a:lnTo>
                  <a:pt x="113" y="303"/>
                </a:lnTo>
                <a:lnTo>
                  <a:pt x="130" y="309"/>
                </a:lnTo>
                <a:lnTo>
                  <a:pt x="148" y="315"/>
                </a:lnTo>
                <a:lnTo>
                  <a:pt x="167" y="319"/>
                </a:lnTo>
                <a:lnTo>
                  <a:pt x="186" y="322"/>
                </a:lnTo>
                <a:lnTo>
                  <a:pt x="206" y="325"/>
                </a:lnTo>
                <a:lnTo>
                  <a:pt x="225" y="325"/>
                </a:lnTo>
                <a:lnTo>
                  <a:pt x="246" y="325"/>
                </a:lnTo>
                <a:lnTo>
                  <a:pt x="265" y="322"/>
                </a:lnTo>
                <a:lnTo>
                  <a:pt x="285" y="319"/>
                </a:lnTo>
                <a:lnTo>
                  <a:pt x="304" y="315"/>
                </a:lnTo>
                <a:lnTo>
                  <a:pt x="322" y="309"/>
                </a:lnTo>
                <a:lnTo>
                  <a:pt x="339" y="303"/>
                </a:lnTo>
                <a:lnTo>
                  <a:pt x="356" y="295"/>
                </a:lnTo>
                <a:lnTo>
                  <a:pt x="372" y="287"/>
                </a:lnTo>
                <a:lnTo>
                  <a:pt x="386" y="277"/>
                </a:lnTo>
                <a:lnTo>
                  <a:pt x="399" y="266"/>
                </a:lnTo>
                <a:lnTo>
                  <a:pt x="411" y="256"/>
                </a:lnTo>
                <a:lnTo>
                  <a:pt x="422" y="243"/>
                </a:lnTo>
                <a:lnTo>
                  <a:pt x="431" y="231"/>
                </a:lnTo>
                <a:lnTo>
                  <a:pt x="439" y="218"/>
                </a:lnTo>
                <a:lnTo>
                  <a:pt x="445" y="204"/>
                </a:lnTo>
                <a:lnTo>
                  <a:pt x="449" y="190"/>
                </a:lnTo>
                <a:lnTo>
                  <a:pt x="451" y="176"/>
                </a:lnTo>
                <a:lnTo>
                  <a:pt x="453" y="162"/>
                </a:lnTo>
              </a:path>
            </a:pathLst>
          </a:custGeom>
          <a:noFill/>
          <a:ln cap="rnd" w="1260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518080" y="2994120"/>
            <a:ext cx="544680" cy="264960"/>
          </a:xfrm>
          <a:custGeom>
            <a:avLst/>
            <a:gdLst/>
            <a:ahLst/>
            <a:rect l="l" t="t" r="r" b="b"/>
            <a:pathLst>
              <a:path w="452" h="326">
                <a:moveTo>
                  <a:pt x="0" y="162"/>
                </a:moveTo>
                <a:lnTo>
                  <a:pt x="0" y="176"/>
                </a:lnTo>
                <a:lnTo>
                  <a:pt x="3" y="190"/>
                </a:lnTo>
                <a:lnTo>
                  <a:pt x="7" y="204"/>
                </a:lnTo>
                <a:lnTo>
                  <a:pt x="13" y="218"/>
                </a:lnTo>
                <a:lnTo>
                  <a:pt x="21" y="231"/>
                </a:lnTo>
                <a:lnTo>
                  <a:pt x="29" y="243"/>
                </a:lnTo>
                <a:lnTo>
                  <a:pt x="40" y="256"/>
                </a:lnTo>
                <a:lnTo>
                  <a:pt x="52" y="267"/>
                </a:lnTo>
                <a:lnTo>
                  <a:pt x="65" y="278"/>
                </a:lnTo>
                <a:lnTo>
                  <a:pt x="80" y="287"/>
                </a:lnTo>
                <a:lnTo>
                  <a:pt x="96" y="295"/>
                </a:lnTo>
                <a:lnTo>
                  <a:pt x="112" y="303"/>
                </a:lnTo>
                <a:lnTo>
                  <a:pt x="130" y="309"/>
                </a:lnTo>
                <a:lnTo>
                  <a:pt x="148" y="315"/>
                </a:lnTo>
                <a:lnTo>
                  <a:pt x="167" y="319"/>
                </a:lnTo>
                <a:lnTo>
                  <a:pt x="186" y="322"/>
                </a:lnTo>
                <a:lnTo>
                  <a:pt x="206" y="325"/>
                </a:lnTo>
                <a:lnTo>
                  <a:pt x="225" y="325"/>
                </a:lnTo>
                <a:lnTo>
                  <a:pt x="245" y="325"/>
                </a:lnTo>
                <a:lnTo>
                  <a:pt x="264" y="322"/>
                </a:lnTo>
                <a:lnTo>
                  <a:pt x="283" y="319"/>
                </a:lnTo>
                <a:lnTo>
                  <a:pt x="302" y="315"/>
                </a:lnTo>
                <a:lnTo>
                  <a:pt x="320" y="309"/>
                </a:lnTo>
                <a:lnTo>
                  <a:pt x="338" y="303"/>
                </a:lnTo>
                <a:lnTo>
                  <a:pt x="354" y="295"/>
                </a:lnTo>
                <a:lnTo>
                  <a:pt x="370" y="287"/>
                </a:lnTo>
                <a:lnTo>
                  <a:pt x="385" y="277"/>
                </a:lnTo>
                <a:lnTo>
                  <a:pt x="398" y="266"/>
                </a:lnTo>
                <a:lnTo>
                  <a:pt x="410" y="254"/>
                </a:lnTo>
                <a:lnTo>
                  <a:pt x="421" y="243"/>
                </a:lnTo>
                <a:lnTo>
                  <a:pt x="429" y="231"/>
                </a:lnTo>
                <a:lnTo>
                  <a:pt x="437" y="217"/>
                </a:lnTo>
                <a:lnTo>
                  <a:pt x="443" y="204"/>
                </a:lnTo>
                <a:lnTo>
                  <a:pt x="447" y="190"/>
                </a:lnTo>
                <a:lnTo>
                  <a:pt x="451" y="176"/>
                </a:lnTo>
                <a:lnTo>
                  <a:pt x="451" y="162"/>
                </a:lnTo>
                <a:lnTo>
                  <a:pt x="451" y="148"/>
                </a:lnTo>
                <a:lnTo>
                  <a:pt x="447" y="134"/>
                </a:lnTo>
                <a:lnTo>
                  <a:pt x="443" y="120"/>
                </a:lnTo>
                <a:lnTo>
                  <a:pt x="437" y="106"/>
                </a:lnTo>
                <a:lnTo>
                  <a:pt x="429" y="93"/>
                </a:lnTo>
                <a:lnTo>
                  <a:pt x="421" y="81"/>
                </a:lnTo>
                <a:lnTo>
                  <a:pt x="410" y="68"/>
                </a:lnTo>
                <a:lnTo>
                  <a:pt x="398" y="57"/>
                </a:lnTo>
                <a:lnTo>
                  <a:pt x="385" y="47"/>
                </a:lnTo>
                <a:lnTo>
                  <a:pt x="370" y="37"/>
                </a:lnTo>
                <a:lnTo>
                  <a:pt x="354" y="29"/>
                </a:lnTo>
                <a:lnTo>
                  <a:pt x="338" y="21"/>
                </a:lnTo>
                <a:lnTo>
                  <a:pt x="320" y="15"/>
                </a:lnTo>
                <a:lnTo>
                  <a:pt x="302" y="9"/>
                </a:lnTo>
                <a:lnTo>
                  <a:pt x="283" y="5"/>
                </a:lnTo>
                <a:lnTo>
                  <a:pt x="264" y="1"/>
                </a:lnTo>
                <a:lnTo>
                  <a:pt x="245" y="0"/>
                </a:lnTo>
                <a:lnTo>
                  <a:pt x="225" y="0"/>
                </a:lnTo>
                <a:lnTo>
                  <a:pt x="206" y="0"/>
                </a:lnTo>
                <a:lnTo>
                  <a:pt x="186" y="1"/>
                </a:lnTo>
                <a:lnTo>
                  <a:pt x="167" y="5"/>
                </a:lnTo>
                <a:lnTo>
                  <a:pt x="148" y="9"/>
                </a:lnTo>
                <a:lnTo>
                  <a:pt x="130" y="15"/>
                </a:lnTo>
                <a:lnTo>
                  <a:pt x="112" y="21"/>
                </a:lnTo>
                <a:lnTo>
                  <a:pt x="96" y="29"/>
                </a:lnTo>
                <a:lnTo>
                  <a:pt x="80" y="37"/>
                </a:lnTo>
                <a:lnTo>
                  <a:pt x="65" y="47"/>
                </a:lnTo>
                <a:lnTo>
                  <a:pt x="52" y="57"/>
                </a:lnTo>
                <a:lnTo>
                  <a:pt x="40" y="68"/>
                </a:lnTo>
                <a:lnTo>
                  <a:pt x="29" y="81"/>
                </a:lnTo>
                <a:lnTo>
                  <a:pt x="21" y="93"/>
                </a:lnTo>
                <a:lnTo>
                  <a:pt x="13" y="106"/>
                </a:lnTo>
                <a:lnTo>
                  <a:pt x="7" y="120"/>
                </a:lnTo>
                <a:lnTo>
                  <a:pt x="3" y="134"/>
                </a:lnTo>
                <a:lnTo>
                  <a:pt x="0" y="148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86600" y="3279600"/>
            <a:ext cx="923760" cy="470160"/>
          </a:xfrm>
          <a:custGeom>
            <a:avLst/>
            <a:gdLst/>
            <a:ahLst/>
            <a:rect l="l" t="t" r="r" b="b"/>
            <a:pathLst>
              <a:path w="769" h="580">
                <a:moveTo>
                  <a:pt x="0" y="290"/>
                </a:moveTo>
                <a:lnTo>
                  <a:pt x="378" y="0"/>
                </a:lnTo>
                <a:lnTo>
                  <a:pt x="768" y="300"/>
                </a:lnTo>
                <a:lnTo>
                  <a:pt x="378" y="579"/>
                </a:lnTo>
                <a:lnTo>
                  <a:pt x="0" y="290"/>
                </a:lnTo>
              </a:path>
            </a:pathLst>
          </a:custGeom>
          <a:noFill/>
          <a:ln cap="rnd" w="1260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32640" y="3429000"/>
            <a:ext cx="982800" cy="244440"/>
          </a:xfrm>
          <a:custGeom>
            <a:avLst/>
            <a:gdLst/>
            <a:ahLst/>
            <a:rect l="l" t="t" r="r" b="b"/>
            <a:pathLst>
              <a:path w="816" h="302">
                <a:moveTo>
                  <a:pt x="815" y="301"/>
                </a:moveTo>
                <a:lnTo>
                  <a:pt x="815" y="0"/>
                </a:lnTo>
                <a:lnTo>
                  <a:pt x="0" y="0"/>
                </a:lnTo>
                <a:lnTo>
                  <a:pt x="0" y="301"/>
                </a:lnTo>
                <a:lnTo>
                  <a:pt x="815" y="301"/>
                </a:lnTo>
              </a:path>
            </a:pathLst>
          </a:custGeom>
          <a:noFill/>
          <a:ln cap="rnd" w="1260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29040" y="3421080"/>
            <a:ext cx="978120" cy="237960"/>
          </a:xfrm>
          <a:custGeom>
            <a:avLst/>
            <a:gdLst/>
            <a:ahLst/>
            <a:rect l="l" t="t" r="r" b="b"/>
            <a:pathLst>
              <a:path w="814" h="295">
                <a:moveTo>
                  <a:pt x="813" y="294"/>
                </a:moveTo>
                <a:lnTo>
                  <a:pt x="813" y="0"/>
                </a:lnTo>
                <a:lnTo>
                  <a:pt x="0" y="0"/>
                </a:lnTo>
                <a:lnTo>
                  <a:pt x="0" y="294"/>
                </a:lnTo>
                <a:lnTo>
                  <a:pt x="813" y="294"/>
                </a:lnTo>
              </a:path>
            </a:pathLst>
          </a:custGeom>
          <a:noFill/>
          <a:ln cap="rnd" w="1260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980600" y="3449520"/>
            <a:ext cx="6120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Arial"/>
              </a:rPr>
              <a:t>Médeci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5778000" y="3516480"/>
            <a:ext cx="41292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15040" y="3516480"/>
            <a:ext cx="39528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603760" y="3247920"/>
            <a:ext cx="184320" cy="14760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62480" y="3054240"/>
            <a:ext cx="0" cy="34128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861080" y="3247920"/>
            <a:ext cx="107640" cy="14760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648480" y="2936880"/>
            <a:ext cx="0" cy="34272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577280" y="3247920"/>
            <a:ext cx="161640" cy="18756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975440" y="3092400"/>
            <a:ext cx="0" cy="34308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8261280" y="3247920"/>
            <a:ext cx="123840" cy="18756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373800" y="3422520"/>
            <a:ext cx="5860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Arial"/>
              </a:rPr>
              <a:t>effectue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775640" y="3462480"/>
            <a:ext cx="4093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Arial"/>
              </a:rPr>
              <a:t>Visite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971800" y="762120"/>
            <a:ext cx="6172200" cy="0"/>
          </a:xfrm>
          <a:prstGeom prst="line">
            <a:avLst/>
          </a:prstGeom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8753E-FA78-4899-9136-34C45ED2FFD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Comment analyser la réalité?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700000" y="836280"/>
            <a:ext cx="644364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De nombreuses méthodologies exist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Toutes valab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Une des approches populaires: Entités - Rela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ogique simple (bon sens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Étape préliminaire avant le modèle logique relationne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Analyse par ENTITÉS - RELA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Quelles sont les ENTITÉS de la réalité?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(Ex.: Personnes, Organisations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Quelles sont les RELATIONS entre ces entités?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(Ex.: Personne Membre d'une Organisation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Quels sont les ATTRIBUTS des entités et relations?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(Ex. Nom, Prénom, ...)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0B89C-7784-4373-9834-F687E1505E0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Table des matières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1268280"/>
            <a:ext cx="4572000" cy="4572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 Narrow"/>
              </a:rPr>
              <a:t>1.   Aperçu généra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32000" y="2133720"/>
            <a:ext cx="4572000" cy="4572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 Narrow"/>
              </a:rPr>
              <a:t>2.   Les bases de données relationnell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32000" y="2997360"/>
            <a:ext cx="4572000" cy="4572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 Narrow"/>
              </a:rPr>
              <a:t>3.   Conception de bases de donné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32000" y="3933720"/>
            <a:ext cx="4572000" cy="4572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 Narrow"/>
              </a:rPr>
              <a:t>4.   Opérations SQ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32000" y="4797360"/>
            <a:ext cx="4572000" cy="4572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 Narrow"/>
              </a:rPr>
              <a:t>5.   Les bases de données sur Interne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32000" y="5661000"/>
            <a:ext cx="4572000" cy="4572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 Narrow"/>
              </a:rPr>
              <a:t>6.   Conclus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CA9CA-DA26-460B-B52D-63B6DC37146D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Modélisation Entités - Relations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410920" y="980640"/>
            <a:ext cx="597708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Représentation graphiq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Rectangle 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=      Entité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Losange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=      Relation     (1=Un  N=Plusieur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Cercle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=      Attribu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8" name=""/>
          <p:cNvSpPr/>
          <p:nvPr/>
        </p:nvSpPr>
        <p:spPr>
          <a:xfrm>
            <a:off x="4427640" y="3444840"/>
            <a:ext cx="194472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Personn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27640" y="5676840"/>
            <a:ext cx="194472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Organisa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cxnSp>
        <p:nvCxnSpPr>
          <p:cNvPr id="310" name=""/>
          <p:cNvCxnSpPr>
            <a:stCxn id="308" idx="2"/>
            <a:endCxn id="311" idx="0"/>
          </p:cNvCxnSpPr>
          <p:nvPr/>
        </p:nvCxnSpPr>
        <p:spPr>
          <a:xfrm>
            <a:off x="5400360" y="3870360"/>
            <a:ext cx="1080" cy="410400"/>
          </a:xfrm>
          <a:prstGeom prst="straightConnector1">
            <a:avLst/>
          </a:prstGeom>
          <a:ln w="25560">
            <a:solidFill>
              <a:srgbClr val="003300"/>
            </a:solidFill>
            <a:miter/>
          </a:ln>
        </p:spPr>
      </p:cxnSp>
      <p:sp>
        <p:nvSpPr>
          <p:cNvPr id="311" name=""/>
          <p:cNvSpPr/>
          <p:nvPr/>
        </p:nvSpPr>
        <p:spPr>
          <a:xfrm>
            <a:off x="4498920" y="4292640"/>
            <a:ext cx="1801800" cy="100800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Membr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093080" y="2997360"/>
            <a:ext cx="1366560" cy="504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 Narrow"/>
              </a:rPr>
              <a:t>Nom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53440" y="3573360"/>
            <a:ext cx="1366560" cy="505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 Narrow"/>
              </a:rPr>
              <a:t>Prénom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12" idx="2"/>
            <a:endCxn id="308" idx="3"/>
          </p:cNvCxnSpPr>
          <p:nvPr/>
        </p:nvCxnSpPr>
        <p:spPr>
          <a:xfrm flipH="1">
            <a:off x="6381360" y="3249720"/>
            <a:ext cx="712080" cy="403920"/>
          </a:xfrm>
          <a:prstGeom prst="straightConnector1">
            <a:avLst/>
          </a:prstGeom>
          <a:ln w="12600">
            <a:solidFill>
              <a:srgbClr val="003300"/>
            </a:solidFill>
            <a:miter/>
          </a:ln>
        </p:spPr>
      </p:cxnSp>
      <p:cxnSp>
        <p:nvCxnSpPr>
          <p:cNvPr id="315" name=""/>
          <p:cNvCxnSpPr>
            <a:stCxn id="313" idx="2"/>
            <a:endCxn id="308" idx="3"/>
          </p:cNvCxnSpPr>
          <p:nvPr/>
        </p:nvCxnSpPr>
        <p:spPr>
          <a:xfrm flipH="1" flipV="1">
            <a:off x="6381000" y="3652560"/>
            <a:ext cx="1072440" cy="173520"/>
          </a:xfrm>
          <a:prstGeom prst="straightConnector1">
            <a:avLst/>
          </a:prstGeom>
          <a:ln w="12600">
            <a:solidFill>
              <a:srgbClr val="003300"/>
            </a:solidFill>
            <a:miter/>
          </a:ln>
        </p:spPr>
      </p:cxnSp>
      <p:sp>
        <p:nvSpPr>
          <p:cNvPr id="316" name=""/>
          <p:cNvSpPr/>
          <p:nvPr/>
        </p:nvSpPr>
        <p:spPr>
          <a:xfrm>
            <a:off x="5415120" y="5197320"/>
            <a:ext cx="30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 Narrow"/>
              </a:rPr>
              <a:t>1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66160" y="3865680"/>
            <a:ext cx="34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 Narrow"/>
              </a:rPr>
              <a:t>N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11" idx="2"/>
            <a:endCxn id="309" idx="0"/>
          </p:cNvCxnSpPr>
          <p:nvPr/>
        </p:nvCxnSpPr>
        <p:spPr>
          <a:xfrm>
            <a:off x="5400360" y="5313240"/>
            <a:ext cx="1080" cy="354960"/>
          </a:xfrm>
          <a:prstGeom prst="straightConnector1">
            <a:avLst/>
          </a:prstGeom>
          <a:ln w="25560">
            <a:solidFill>
              <a:srgbClr val="0033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398FF-C582-43C0-9EDD-28FE1623162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Mini-Projet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700000" y="2924280"/>
            <a:ext cx="6443640" cy="27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Quelques informations sur la réalité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Une organisation peut décider d'organiser des événement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es participants peuvent provenir de différentes organisations et ont la possibilité de se pré-enregistrer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ertains participants peuvent jouer un rôle spécial (formateur, organisateur, ...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1" name=""/>
          <p:cNvSpPr/>
          <p:nvPr/>
        </p:nvSpPr>
        <p:spPr>
          <a:xfrm>
            <a:off x="3492360" y="1162080"/>
            <a:ext cx="4537080" cy="1313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Développer une base de données</a:t>
            </a:r>
            <a:br>
              <a:rPr sz="2000"/>
            </a:b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permettant la gestion d'événements </a:t>
            </a:r>
            <a:br>
              <a:rPr sz="2000"/>
            </a:b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(réunions, ateliers, conférences, ...)</a:t>
            </a:r>
            <a:br>
              <a:rPr sz="2000"/>
            </a:b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et de leur participant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A755A-AC43-479E-B7A7-50A599E5C3E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Entités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484000" y="1052640"/>
            <a:ext cx="66596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3 Entités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ersonn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Organisat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Événemen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"/>
          <p:cNvSpPr/>
          <p:nvPr/>
        </p:nvSpPr>
        <p:spPr>
          <a:xfrm>
            <a:off x="4427640" y="3444840"/>
            <a:ext cx="180000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Personn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427640" y="5300640"/>
            <a:ext cx="180000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Organisa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580000" y="4437000"/>
            <a:ext cx="180036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Événemen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4F74A-9565-4870-AE24-419E5857289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Relations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411280" y="836280"/>
            <a:ext cx="6624720" cy="23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3 Relations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Membre: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haque Pers. peut être Membre d'une Organisation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articipe: 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haque Pers. peut Participer à des Événements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Organise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haque Org. peut Organiser des Événements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"/>
          <p:cNvSpPr/>
          <p:nvPr/>
        </p:nvSpPr>
        <p:spPr>
          <a:xfrm>
            <a:off x="3276720" y="3571920"/>
            <a:ext cx="180000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Personn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76720" y="5875200"/>
            <a:ext cx="180000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Organisa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cxnSp>
        <p:nvCxnSpPr>
          <p:cNvPr id="331" name=""/>
          <p:cNvCxnSpPr>
            <a:stCxn id="329" idx="2"/>
            <a:endCxn id="332" idx="0"/>
          </p:cNvCxnSpPr>
          <p:nvPr/>
        </p:nvCxnSpPr>
        <p:spPr>
          <a:xfrm>
            <a:off x="4176360" y="3997080"/>
            <a:ext cx="1080" cy="410040"/>
          </a:xfrm>
          <a:prstGeom prst="straightConnector1">
            <a:avLst/>
          </a:prstGeom>
          <a:ln w="25560">
            <a:solidFill>
              <a:srgbClr val="003300"/>
            </a:solidFill>
            <a:miter/>
          </a:ln>
        </p:spPr>
      </p:cxnSp>
      <p:sp>
        <p:nvSpPr>
          <p:cNvPr id="332" name=""/>
          <p:cNvSpPr/>
          <p:nvPr/>
        </p:nvSpPr>
        <p:spPr>
          <a:xfrm>
            <a:off x="3274920" y="4419720"/>
            <a:ext cx="1801800" cy="100800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Membr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13440" y="4724280"/>
            <a:ext cx="180036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Événemen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12000" y="5587920"/>
            <a:ext cx="1801800" cy="100800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Organis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13440" y="3284640"/>
            <a:ext cx="1801800" cy="100800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Particip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29" idx="3"/>
            <a:endCxn id="335" idx="1"/>
          </p:cNvCxnSpPr>
          <p:nvPr/>
        </p:nvCxnSpPr>
        <p:spPr>
          <a:xfrm>
            <a:off x="5086440" y="3780000"/>
            <a:ext cx="915120" cy="10080"/>
          </a:xfrm>
          <a:prstGeom prst="straightConnector1">
            <a:avLst/>
          </a:prstGeom>
          <a:ln w="25560">
            <a:solidFill>
              <a:srgbClr val="003300"/>
            </a:solidFill>
            <a:miter/>
          </a:ln>
        </p:spPr>
      </p:cxnSp>
      <p:cxnSp>
        <p:nvCxnSpPr>
          <p:cNvPr id="337" name=""/>
          <p:cNvCxnSpPr>
            <a:stCxn id="332" idx="2"/>
            <a:endCxn id="330" idx="0"/>
          </p:cNvCxnSpPr>
          <p:nvPr/>
        </p:nvCxnSpPr>
        <p:spPr>
          <a:xfrm>
            <a:off x="4176360" y="5440320"/>
            <a:ext cx="1080" cy="426240"/>
          </a:xfrm>
          <a:prstGeom prst="straightConnector1">
            <a:avLst/>
          </a:prstGeom>
          <a:ln w="25560">
            <a:solidFill>
              <a:srgbClr val="003300"/>
            </a:solidFill>
            <a:miter/>
          </a:ln>
        </p:spPr>
      </p:cxnSp>
      <p:cxnSp>
        <p:nvCxnSpPr>
          <p:cNvPr id="338" name=""/>
          <p:cNvCxnSpPr>
            <a:stCxn id="335" idx="2"/>
            <a:endCxn id="333" idx="0"/>
          </p:cNvCxnSpPr>
          <p:nvPr/>
        </p:nvCxnSpPr>
        <p:spPr>
          <a:xfrm flipH="1">
            <a:off x="6912720" y="4305240"/>
            <a:ext cx="2520" cy="410400"/>
          </a:xfrm>
          <a:prstGeom prst="straightConnector1">
            <a:avLst/>
          </a:prstGeom>
          <a:ln w="25560">
            <a:solidFill>
              <a:srgbClr val="003300"/>
            </a:solidFill>
            <a:miter/>
          </a:ln>
        </p:spPr>
      </p:cxnSp>
      <p:cxnSp>
        <p:nvCxnSpPr>
          <p:cNvPr id="339" name=""/>
          <p:cNvCxnSpPr>
            <a:stCxn id="333" idx="2"/>
            <a:endCxn id="334" idx="0"/>
          </p:cNvCxnSpPr>
          <p:nvPr/>
        </p:nvCxnSpPr>
        <p:spPr>
          <a:xfrm>
            <a:off x="6913080" y="5149800"/>
            <a:ext cx="1080" cy="426240"/>
          </a:xfrm>
          <a:prstGeom prst="straightConnector1">
            <a:avLst/>
          </a:prstGeom>
          <a:ln w="25560">
            <a:solidFill>
              <a:srgbClr val="003300"/>
            </a:solidFill>
            <a:miter/>
          </a:ln>
        </p:spPr>
      </p:cxnSp>
      <p:cxnSp>
        <p:nvCxnSpPr>
          <p:cNvPr id="340" name=""/>
          <p:cNvCxnSpPr>
            <a:stCxn id="330" idx="3"/>
            <a:endCxn id="334" idx="1"/>
          </p:cNvCxnSpPr>
          <p:nvPr/>
        </p:nvCxnSpPr>
        <p:spPr>
          <a:xfrm>
            <a:off x="5086080" y="6082920"/>
            <a:ext cx="913320" cy="10440"/>
          </a:xfrm>
          <a:prstGeom prst="straightConnector1">
            <a:avLst/>
          </a:prstGeom>
          <a:ln w="25560">
            <a:solidFill>
              <a:srgbClr val="0033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20802-9428-4B96-B683-7CEA354FEF8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Relations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410920" y="836280"/>
            <a:ext cx="6481800" cy="23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3 Relations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Membre: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haque Pers. ne peut être Membre que d'1 Org.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haque Org. peut avoir N Pers. Membr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articipe: 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haque Pers. peut Participer à N Evt.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haque Evt.   peut Réunir N Pers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Organise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haque Org. peut Organiser N Evt.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haque Evt. est Organisé par 1 Org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"/>
          <p:cNvSpPr/>
          <p:nvPr/>
        </p:nvSpPr>
        <p:spPr>
          <a:xfrm>
            <a:off x="3276720" y="3571920"/>
            <a:ext cx="180000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Personn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76720" y="5875200"/>
            <a:ext cx="180000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Organisa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3" idx="2"/>
            <a:endCxn id="346" idx="0"/>
          </p:cNvCxnSpPr>
          <p:nvPr/>
        </p:nvCxnSpPr>
        <p:spPr>
          <a:xfrm>
            <a:off x="4176360" y="3997080"/>
            <a:ext cx="1080" cy="410040"/>
          </a:xfrm>
          <a:prstGeom prst="straightConnector1">
            <a:avLst/>
          </a:prstGeom>
          <a:ln w="25560">
            <a:solidFill>
              <a:srgbClr val="003300"/>
            </a:solidFill>
            <a:miter/>
          </a:ln>
        </p:spPr>
      </p:cxnSp>
      <p:sp>
        <p:nvSpPr>
          <p:cNvPr id="346" name=""/>
          <p:cNvSpPr/>
          <p:nvPr/>
        </p:nvSpPr>
        <p:spPr>
          <a:xfrm>
            <a:off x="3274920" y="4419720"/>
            <a:ext cx="1801800" cy="100800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Membr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13440" y="4724280"/>
            <a:ext cx="180036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Événemen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12000" y="5587920"/>
            <a:ext cx="1801800" cy="100800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Organis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13440" y="3284640"/>
            <a:ext cx="1801800" cy="100800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Particip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3" idx="3"/>
            <a:endCxn id="349" idx="1"/>
          </p:cNvCxnSpPr>
          <p:nvPr/>
        </p:nvCxnSpPr>
        <p:spPr>
          <a:xfrm>
            <a:off x="5086440" y="3780000"/>
            <a:ext cx="915120" cy="10080"/>
          </a:xfrm>
          <a:prstGeom prst="straightConnector1">
            <a:avLst/>
          </a:prstGeom>
          <a:ln w="25560">
            <a:solidFill>
              <a:srgbClr val="003300"/>
            </a:solidFill>
            <a:miter/>
          </a:ln>
        </p:spPr>
      </p:cxnSp>
      <p:cxnSp>
        <p:nvCxnSpPr>
          <p:cNvPr id="351" name=""/>
          <p:cNvCxnSpPr>
            <a:stCxn id="346" idx="2"/>
            <a:endCxn id="344" idx="0"/>
          </p:cNvCxnSpPr>
          <p:nvPr/>
        </p:nvCxnSpPr>
        <p:spPr>
          <a:xfrm>
            <a:off x="4176360" y="5440320"/>
            <a:ext cx="1080" cy="426240"/>
          </a:xfrm>
          <a:prstGeom prst="straightConnector1">
            <a:avLst/>
          </a:prstGeom>
          <a:ln w="25560">
            <a:solidFill>
              <a:srgbClr val="003300"/>
            </a:solidFill>
            <a:miter/>
          </a:ln>
        </p:spPr>
      </p:cxnSp>
      <p:cxnSp>
        <p:nvCxnSpPr>
          <p:cNvPr id="352" name=""/>
          <p:cNvCxnSpPr>
            <a:stCxn id="349" idx="2"/>
            <a:endCxn id="347" idx="0"/>
          </p:cNvCxnSpPr>
          <p:nvPr/>
        </p:nvCxnSpPr>
        <p:spPr>
          <a:xfrm flipH="1">
            <a:off x="6912720" y="4305240"/>
            <a:ext cx="2520" cy="410400"/>
          </a:xfrm>
          <a:prstGeom prst="straightConnector1">
            <a:avLst/>
          </a:prstGeom>
          <a:ln w="25560">
            <a:solidFill>
              <a:srgbClr val="003300"/>
            </a:solidFill>
            <a:miter/>
          </a:ln>
        </p:spPr>
      </p:cxnSp>
      <p:cxnSp>
        <p:nvCxnSpPr>
          <p:cNvPr id="353" name=""/>
          <p:cNvCxnSpPr>
            <a:stCxn id="347" idx="2"/>
            <a:endCxn id="348" idx="0"/>
          </p:cNvCxnSpPr>
          <p:nvPr/>
        </p:nvCxnSpPr>
        <p:spPr>
          <a:xfrm>
            <a:off x="6913080" y="5149800"/>
            <a:ext cx="1080" cy="426240"/>
          </a:xfrm>
          <a:prstGeom prst="straightConnector1">
            <a:avLst/>
          </a:prstGeom>
          <a:ln w="25560">
            <a:solidFill>
              <a:srgbClr val="003300"/>
            </a:solidFill>
            <a:miter/>
          </a:ln>
        </p:spPr>
      </p:cxnSp>
      <p:cxnSp>
        <p:nvCxnSpPr>
          <p:cNvPr id="354" name=""/>
          <p:cNvCxnSpPr>
            <a:stCxn id="344" idx="3"/>
            <a:endCxn id="348" idx="1"/>
          </p:cNvCxnSpPr>
          <p:nvPr/>
        </p:nvCxnSpPr>
        <p:spPr>
          <a:xfrm>
            <a:off x="5086080" y="6082920"/>
            <a:ext cx="913320" cy="10440"/>
          </a:xfrm>
          <a:prstGeom prst="straightConnector1">
            <a:avLst/>
          </a:prstGeom>
          <a:ln w="25560">
            <a:solidFill>
              <a:srgbClr val="003300"/>
            </a:solidFill>
            <a:miter/>
          </a:ln>
        </p:spPr>
      </p:cxnSp>
      <p:sp>
        <p:nvSpPr>
          <p:cNvPr id="355" name=""/>
          <p:cNvSpPr/>
          <p:nvPr/>
        </p:nvSpPr>
        <p:spPr>
          <a:xfrm>
            <a:off x="5727960" y="3794040"/>
            <a:ext cx="34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 Narrow"/>
              </a:rPr>
              <a:t>N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15240" y="5372280"/>
            <a:ext cx="30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 Narrow"/>
              </a:rPr>
              <a:t>1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226040" y="4003560"/>
            <a:ext cx="34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 Narrow"/>
              </a:rPr>
              <a:t>N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591600" y="5160960"/>
            <a:ext cx="34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 Narrow"/>
              </a:rPr>
              <a:t>N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799600" y="5661000"/>
            <a:ext cx="30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 Narrow"/>
              </a:rPr>
              <a:t>1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602760" y="4226040"/>
            <a:ext cx="34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 Narrow"/>
              </a:rPr>
              <a:t>N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B747A-081A-4D80-BC09-AFFC107A7E1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Attributs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410920" y="836280"/>
            <a:ext cx="6481800" cy="23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Attributs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ersonne: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Nom, Préno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Organisation: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No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Événement: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Titre, Lieu, Dat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articipe: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Inscrit, Présent, Rôl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Membre: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Organise: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3" name=""/>
          <p:cNvSpPr/>
          <p:nvPr/>
        </p:nvSpPr>
        <p:spPr>
          <a:xfrm>
            <a:off x="3564000" y="3571920"/>
            <a:ext cx="180000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Personn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564000" y="5875200"/>
            <a:ext cx="180000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Organisa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cxnSp>
        <p:nvCxnSpPr>
          <p:cNvPr id="365" name=""/>
          <p:cNvCxnSpPr>
            <a:stCxn id="363" idx="2"/>
            <a:endCxn id="366" idx="0"/>
          </p:cNvCxnSpPr>
          <p:nvPr/>
        </p:nvCxnSpPr>
        <p:spPr>
          <a:xfrm>
            <a:off x="4463640" y="3997080"/>
            <a:ext cx="1080" cy="410040"/>
          </a:xfrm>
          <a:prstGeom prst="straightConnector1">
            <a:avLst/>
          </a:prstGeom>
          <a:ln w="25560">
            <a:solidFill>
              <a:srgbClr val="003300"/>
            </a:solidFill>
            <a:miter/>
          </a:ln>
        </p:spPr>
      </p:cxnSp>
      <p:sp>
        <p:nvSpPr>
          <p:cNvPr id="366" name=""/>
          <p:cNvSpPr/>
          <p:nvPr/>
        </p:nvSpPr>
        <p:spPr>
          <a:xfrm>
            <a:off x="3562200" y="4419720"/>
            <a:ext cx="1801800" cy="100800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Membr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3440" y="4724280"/>
            <a:ext cx="180036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Événemen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012000" y="5587920"/>
            <a:ext cx="1801800" cy="100800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Organis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13440" y="3284640"/>
            <a:ext cx="1801800" cy="100800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Particip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3" idx="3"/>
            <a:endCxn id="369" idx="1"/>
          </p:cNvCxnSpPr>
          <p:nvPr/>
        </p:nvCxnSpPr>
        <p:spPr>
          <a:xfrm>
            <a:off x="5373720" y="3780000"/>
            <a:ext cx="627840" cy="10080"/>
          </a:xfrm>
          <a:prstGeom prst="straightConnector1">
            <a:avLst/>
          </a:prstGeom>
          <a:ln w="25560">
            <a:solidFill>
              <a:srgbClr val="003300"/>
            </a:solidFill>
            <a:miter/>
          </a:ln>
        </p:spPr>
      </p:cxnSp>
      <p:cxnSp>
        <p:nvCxnSpPr>
          <p:cNvPr id="371" name=""/>
          <p:cNvCxnSpPr>
            <a:stCxn id="366" idx="2"/>
            <a:endCxn id="364" idx="0"/>
          </p:cNvCxnSpPr>
          <p:nvPr/>
        </p:nvCxnSpPr>
        <p:spPr>
          <a:xfrm>
            <a:off x="4463640" y="5440320"/>
            <a:ext cx="1080" cy="426240"/>
          </a:xfrm>
          <a:prstGeom prst="straightConnector1">
            <a:avLst/>
          </a:prstGeom>
          <a:ln w="25560">
            <a:solidFill>
              <a:srgbClr val="003300"/>
            </a:solidFill>
            <a:miter/>
          </a:ln>
        </p:spPr>
      </p:cxnSp>
      <p:cxnSp>
        <p:nvCxnSpPr>
          <p:cNvPr id="372" name=""/>
          <p:cNvCxnSpPr>
            <a:stCxn id="369" idx="2"/>
            <a:endCxn id="367" idx="0"/>
          </p:cNvCxnSpPr>
          <p:nvPr/>
        </p:nvCxnSpPr>
        <p:spPr>
          <a:xfrm flipH="1">
            <a:off x="6912720" y="4305240"/>
            <a:ext cx="2520" cy="410400"/>
          </a:xfrm>
          <a:prstGeom prst="straightConnector1">
            <a:avLst/>
          </a:prstGeom>
          <a:ln w="25560">
            <a:solidFill>
              <a:srgbClr val="003300"/>
            </a:solidFill>
            <a:miter/>
          </a:ln>
        </p:spPr>
      </p:cxnSp>
      <p:cxnSp>
        <p:nvCxnSpPr>
          <p:cNvPr id="373" name=""/>
          <p:cNvCxnSpPr>
            <a:stCxn id="367" idx="2"/>
            <a:endCxn id="368" idx="0"/>
          </p:cNvCxnSpPr>
          <p:nvPr/>
        </p:nvCxnSpPr>
        <p:spPr>
          <a:xfrm>
            <a:off x="6913080" y="5149800"/>
            <a:ext cx="1080" cy="426240"/>
          </a:xfrm>
          <a:prstGeom prst="straightConnector1">
            <a:avLst/>
          </a:prstGeom>
          <a:ln w="25560">
            <a:solidFill>
              <a:srgbClr val="003300"/>
            </a:solidFill>
            <a:miter/>
          </a:ln>
        </p:spPr>
      </p:cxnSp>
      <p:cxnSp>
        <p:nvCxnSpPr>
          <p:cNvPr id="374" name=""/>
          <p:cNvCxnSpPr>
            <a:stCxn id="364" idx="3"/>
            <a:endCxn id="368" idx="1"/>
          </p:cNvCxnSpPr>
          <p:nvPr/>
        </p:nvCxnSpPr>
        <p:spPr>
          <a:xfrm>
            <a:off x="5373360" y="6082920"/>
            <a:ext cx="626040" cy="10440"/>
          </a:xfrm>
          <a:prstGeom prst="straightConnector1">
            <a:avLst/>
          </a:prstGeom>
          <a:ln w="25560">
            <a:solidFill>
              <a:srgbClr val="003300"/>
            </a:solidFill>
            <a:miter/>
          </a:ln>
        </p:spPr>
      </p:cxnSp>
      <p:sp>
        <p:nvSpPr>
          <p:cNvPr id="375" name=""/>
          <p:cNvSpPr/>
          <p:nvPr/>
        </p:nvSpPr>
        <p:spPr>
          <a:xfrm>
            <a:off x="5727960" y="3794040"/>
            <a:ext cx="34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 Narrow"/>
              </a:rPr>
              <a:t>N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29440" y="5372280"/>
            <a:ext cx="30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 Narrow"/>
              </a:rPr>
              <a:t>1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440600" y="4003560"/>
            <a:ext cx="34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 Narrow"/>
              </a:rPr>
              <a:t>N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591600" y="5160960"/>
            <a:ext cx="34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 Narrow"/>
              </a:rPr>
              <a:t>N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99600" y="5661000"/>
            <a:ext cx="30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 Narrow"/>
              </a:rPr>
              <a:t>1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602760" y="4226040"/>
            <a:ext cx="34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 Narrow"/>
              </a:rPr>
              <a:t>N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40000" y="3357720"/>
            <a:ext cx="1006560" cy="504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 Narrow"/>
              </a:rPr>
              <a:t>Nom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411280" y="4292640"/>
            <a:ext cx="1006560" cy="504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 Narrow"/>
              </a:rPr>
              <a:t>Prénom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cxnSp>
        <p:nvCxnSpPr>
          <p:cNvPr id="383" name=""/>
          <p:cNvCxnSpPr>
            <a:stCxn id="381" idx="6"/>
            <a:endCxn id="363" idx="1"/>
          </p:cNvCxnSpPr>
          <p:nvPr/>
        </p:nvCxnSpPr>
        <p:spPr>
          <a:xfrm>
            <a:off x="3346200" y="3610080"/>
            <a:ext cx="208440" cy="170640"/>
          </a:xfrm>
          <a:prstGeom prst="straightConnector1">
            <a:avLst/>
          </a:prstGeom>
          <a:ln w="12600">
            <a:solidFill>
              <a:srgbClr val="003300"/>
            </a:solidFill>
            <a:miter/>
          </a:ln>
        </p:spPr>
      </p:cxnSp>
      <p:cxnSp>
        <p:nvCxnSpPr>
          <p:cNvPr id="384" name=""/>
          <p:cNvCxnSpPr>
            <a:stCxn id="382" idx="7"/>
            <a:endCxn id="363" idx="1"/>
          </p:cNvCxnSpPr>
          <p:nvPr/>
        </p:nvCxnSpPr>
        <p:spPr>
          <a:xfrm flipV="1">
            <a:off x="3269880" y="3779280"/>
            <a:ext cx="284400" cy="587880"/>
          </a:xfrm>
          <a:prstGeom prst="straightConnector1">
            <a:avLst/>
          </a:prstGeom>
          <a:ln w="12600">
            <a:solidFill>
              <a:srgbClr val="003300"/>
            </a:solidFill>
            <a:miter/>
          </a:ln>
        </p:spPr>
      </p:cxnSp>
      <p:sp>
        <p:nvSpPr>
          <p:cNvPr id="385" name=""/>
          <p:cNvSpPr/>
          <p:nvPr/>
        </p:nvSpPr>
        <p:spPr>
          <a:xfrm>
            <a:off x="2340000" y="5229360"/>
            <a:ext cx="1006560" cy="504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 Narrow"/>
              </a:rPr>
              <a:t>Nom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stCxn id="385" idx="5"/>
            <a:endCxn id="364" idx="1"/>
          </p:cNvCxnSpPr>
          <p:nvPr/>
        </p:nvCxnSpPr>
        <p:spPr>
          <a:xfrm>
            <a:off x="3198600" y="5659200"/>
            <a:ext cx="356040" cy="424440"/>
          </a:xfrm>
          <a:prstGeom prst="straightConnector1">
            <a:avLst/>
          </a:prstGeom>
          <a:ln w="12600">
            <a:solidFill>
              <a:srgbClr val="003300"/>
            </a:solidFill>
            <a:miter/>
          </a:ln>
        </p:spPr>
      </p:cxnSp>
      <p:sp>
        <p:nvSpPr>
          <p:cNvPr id="387" name=""/>
          <p:cNvSpPr/>
          <p:nvPr/>
        </p:nvSpPr>
        <p:spPr>
          <a:xfrm>
            <a:off x="7885080" y="5516640"/>
            <a:ext cx="1006560" cy="504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 Narrow"/>
              </a:rPr>
              <a:t>Date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cxnSp>
        <p:nvCxnSpPr>
          <p:cNvPr id="388" name=""/>
          <p:cNvCxnSpPr>
            <a:stCxn id="387" idx="1"/>
            <a:endCxn id="367" idx="3"/>
          </p:cNvCxnSpPr>
          <p:nvPr/>
        </p:nvCxnSpPr>
        <p:spPr>
          <a:xfrm flipH="1" flipV="1">
            <a:off x="7822800" y="4932000"/>
            <a:ext cx="210240" cy="659520"/>
          </a:xfrm>
          <a:prstGeom prst="straightConnector1">
            <a:avLst/>
          </a:prstGeom>
          <a:ln w="12600">
            <a:solidFill>
              <a:srgbClr val="003300"/>
            </a:solidFill>
            <a:miter/>
          </a:ln>
        </p:spPr>
      </p:cxnSp>
      <p:sp>
        <p:nvSpPr>
          <p:cNvPr id="389" name=""/>
          <p:cNvSpPr/>
          <p:nvPr/>
        </p:nvSpPr>
        <p:spPr>
          <a:xfrm>
            <a:off x="8028000" y="4940280"/>
            <a:ext cx="1006560" cy="504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 Narrow"/>
              </a:rPr>
              <a:t>Lieu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cxnSp>
        <p:nvCxnSpPr>
          <p:cNvPr id="390" name=""/>
          <p:cNvCxnSpPr>
            <a:stCxn id="389" idx="1"/>
            <a:endCxn id="367" idx="3"/>
          </p:cNvCxnSpPr>
          <p:nvPr/>
        </p:nvCxnSpPr>
        <p:spPr>
          <a:xfrm flipH="1" flipV="1">
            <a:off x="7822440" y="4931640"/>
            <a:ext cx="353160" cy="83160"/>
          </a:xfrm>
          <a:prstGeom prst="straightConnector1">
            <a:avLst/>
          </a:prstGeom>
          <a:ln w="12600">
            <a:solidFill>
              <a:srgbClr val="003300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7020000" y="2708280"/>
            <a:ext cx="1368360" cy="504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 Narrow"/>
              </a:rPr>
              <a:t>Inscrit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cxnSp>
        <p:nvCxnSpPr>
          <p:cNvPr id="392" name=""/>
          <p:cNvCxnSpPr>
            <a:stCxn id="391" idx="4"/>
            <a:endCxn id="369" idx="3"/>
          </p:cNvCxnSpPr>
          <p:nvPr/>
        </p:nvCxnSpPr>
        <p:spPr>
          <a:xfrm>
            <a:off x="7704000" y="3212640"/>
            <a:ext cx="124560" cy="577080"/>
          </a:xfrm>
          <a:prstGeom prst="straightConnector1">
            <a:avLst/>
          </a:prstGeom>
          <a:ln w="12600">
            <a:solidFill>
              <a:srgbClr val="003300"/>
            </a:solidFill>
            <a:miter/>
          </a:ln>
        </p:spPr>
      </p:cxnSp>
      <p:sp>
        <p:nvSpPr>
          <p:cNvPr id="393" name=""/>
          <p:cNvSpPr/>
          <p:nvPr/>
        </p:nvSpPr>
        <p:spPr>
          <a:xfrm>
            <a:off x="8028000" y="4363920"/>
            <a:ext cx="1006560" cy="505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 Narrow"/>
              </a:rPr>
              <a:t>Titr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cxnSp>
        <p:nvCxnSpPr>
          <p:cNvPr id="394" name=""/>
          <p:cNvCxnSpPr>
            <a:stCxn id="393" idx="3"/>
            <a:endCxn id="367" idx="3"/>
          </p:cNvCxnSpPr>
          <p:nvPr/>
        </p:nvCxnSpPr>
        <p:spPr>
          <a:xfrm flipH="1">
            <a:off x="7822440" y="4794120"/>
            <a:ext cx="353160" cy="138960"/>
          </a:xfrm>
          <a:prstGeom prst="straightConnector1">
            <a:avLst/>
          </a:prstGeom>
          <a:ln w="12600">
            <a:solidFill>
              <a:srgbClr val="003300"/>
            </a:solidFill>
            <a:miter/>
          </a:ln>
        </p:spPr>
      </p:cxnSp>
      <p:sp>
        <p:nvSpPr>
          <p:cNvPr id="395" name=""/>
          <p:cNvSpPr/>
          <p:nvPr/>
        </p:nvSpPr>
        <p:spPr>
          <a:xfrm>
            <a:off x="8028000" y="3213000"/>
            <a:ext cx="1006560" cy="505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 Narrow"/>
              </a:rPr>
              <a:t>Présent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956720" y="3789360"/>
            <a:ext cx="1006200" cy="504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 Narrow"/>
              </a:rPr>
              <a:t>Rôl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69" idx="3"/>
            <a:endCxn id="395" idx="3"/>
          </p:cNvCxnSpPr>
          <p:nvPr/>
        </p:nvCxnSpPr>
        <p:spPr>
          <a:xfrm flipV="1">
            <a:off x="7827840" y="3642840"/>
            <a:ext cx="348480" cy="146880"/>
          </a:xfrm>
          <a:prstGeom prst="straightConnector1">
            <a:avLst/>
          </a:prstGeom>
          <a:ln w="12600">
            <a:solidFill>
              <a:srgbClr val="003300"/>
            </a:solidFill>
            <a:miter/>
          </a:ln>
        </p:spPr>
      </p:cxnSp>
      <p:cxnSp>
        <p:nvCxnSpPr>
          <p:cNvPr id="398" name=""/>
          <p:cNvCxnSpPr>
            <a:stCxn id="369" idx="3"/>
            <a:endCxn id="396" idx="1"/>
          </p:cNvCxnSpPr>
          <p:nvPr/>
        </p:nvCxnSpPr>
        <p:spPr>
          <a:xfrm>
            <a:off x="7827840" y="3789000"/>
            <a:ext cx="277200" cy="75240"/>
          </a:xfrm>
          <a:prstGeom prst="straightConnector1">
            <a:avLst/>
          </a:prstGeom>
          <a:ln w="12600">
            <a:solidFill>
              <a:srgbClr val="0033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88152-FB12-43A2-85F8-C44F0BC63E8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Modèle conceptuel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484000" y="5084280"/>
            <a:ext cx="6767640" cy="15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Étape suivan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Passage au modèle logique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de la base de données relationnell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(Définition des Tables, des Clés et des Colonn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1" name=""/>
          <p:cNvSpPr/>
          <p:nvPr/>
        </p:nvSpPr>
        <p:spPr>
          <a:xfrm>
            <a:off x="3564000" y="1700280"/>
            <a:ext cx="180000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Personn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64000" y="4003560"/>
            <a:ext cx="180000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Organisa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1" idx="2"/>
            <a:endCxn id="404" idx="0"/>
          </p:cNvCxnSpPr>
          <p:nvPr/>
        </p:nvCxnSpPr>
        <p:spPr>
          <a:xfrm>
            <a:off x="4463640" y="2125440"/>
            <a:ext cx="1080" cy="410040"/>
          </a:xfrm>
          <a:prstGeom prst="straightConnector1">
            <a:avLst/>
          </a:prstGeom>
          <a:ln w="25560">
            <a:solidFill>
              <a:srgbClr val="003300"/>
            </a:solidFill>
            <a:miter/>
          </a:ln>
        </p:spPr>
      </p:cxnSp>
      <p:sp>
        <p:nvSpPr>
          <p:cNvPr id="404" name=""/>
          <p:cNvSpPr/>
          <p:nvPr/>
        </p:nvSpPr>
        <p:spPr>
          <a:xfrm>
            <a:off x="3562200" y="2548080"/>
            <a:ext cx="1801800" cy="100800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Membr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013440" y="2852640"/>
            <a:ext cx="180036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Événemen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12000" y="3716280"/>
            <a:ext cx="1801800" cy="100800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Organis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13440" y="1413000"/>
            <a:ext cx="1801800" cy="100800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Particip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cxnSp>
        <p:nvCxnSpPr>
          <p:cNvPr id="408" name=""/>
          <p:cNvCxnSpPr>
            <a:stCxn id="401" idx="3"/>
            <a:endCxn id="407" idx="1"/>
          </p:cNvCxnSpPr>
          <p:nvPr/>
        </p:nvCxnSpPr>
        <p:spPr>
          <a:xfrm>
            <a:off x="5373720" y="1907640"/>
            <a:ext cx="627840" cy="10440"/>
          </a:xfrm>
          <a:prstGeom prst="straightConnector1">
            <a:avLst/>
          </a:prstGeom>
          <a:ln w="25560">
            <a:solidFill>
              <a:srgbClr val="003300"/>
            </a:solidFill>
            <a:miter/>
          </a:ln>
        </p:spPr>
      </p:cxnSp>
      <p:cxnSp>
        <p:nvCxnSpPr>
          <p:cNvPr id="409" name=""/>
          <p:cNvCxnSpPr>
            <a:stCxn id="404" idx="2"/>
            <a:endCxn id="402" idx="0"/>
          </p:cNvCxnSpPr>
          <p:nvPr/>
        </p:nvCxnSpPr>
        <p:spPr>
          <a:xfrm>
            <a:off x="4463640" y="3568680"/>
            <a:ext cx="1080" cy="426240"/>
          </a:xfrm>
          <a:prstGeom prst="straightConnector1">
            <a:avLst/>
          </a:prstGeom>
          <a:ln w="25560">
            <a:solidFill>
              <a:srgbClr val="003300"/>
            </a:solidFill>
            <a:miter/>
          </a:ln>
        </p:spPr>
      </p:cxnSp>
      <p:cxnSp>
        <p:nvCxnSpPr>
          <p:cNvPr id="410" name=""/>
          <p:cNvCxnSpPr>
            <a:stCxn id="407" idx="2"/>
            <a:endCxn id="405" idx="0"/>
          </p:cNvCxnSpPr>
          <p:nvPr/>
        </p:nvCxnSpPr>
        <p:spPr>
          <a:xfrm flipH="1">
            <a:off x="6912720" y="2433600"/>
            <a:ext cx="2520" cy="410400"/>
          </a:xfrm>
          <a:prstGeom prst="straightConnector1">
            <a:avLst/>
          </a:prstGeom>
          <a:ln w="25560">
            <a:solidFill>
              <a:srgbClr val="003300"/>
            </a:solidFill>
            <a:miter/>
          </a:ln>
        </p:spPr>
      </p:cxnSp>
      <p:cxnSp>
        <p:nvCxnSpPr>
          <p:cNvPr id="411" name=""/>
          <p:cNvCxnSpPr>
            <a:stCxn id="405" idx="2"/>
            <a:endCxn id="406" idx="0"/>
          </p:cNvCxnSpPr>
          <p:nvPr/>
        </p:nvCxnSpPr>
        <p:spPr>
          <a:xfrm>
            <a:off x="6913080" y="3278160"/>
            <a:ext cx="1080" cy="426240"/>
          </a:xfrm>
          <a:prstGeom prst="straightConnector1">
            <a:avLst/>
          </a:prstGeom>
          <a:ln w="25560">
            <a:solidFill>
              <a:srgbClr val="003300"/>
            </a:solidFill>
            <a:miter/>
          </a:ln>
        </p:spPr>
      </p:cxnSp>
      <p:cxnSp>
        <p:nvCxnSpPr>
          <p:cNvPr id="412" name=""/>
          <p:cNvCxnSpPr>
            <a:stCxn id="402" idx="3"/>
            <a:endCxn id="406" idx="1"/>
          </p:cNvCxnSpPr>
          <p:nvPr/>
        </p:nvCxnSpPr>
        <p:spPr>
          <a:xfrm>
            <a:off x="5373360" y="4211640"/>
            <a:ext cx="626040" cy="10080"/>
          </a:xfrm>
          <a:prstGeom prst="straightConnector1">
            <a:avLst/>
          </a:prstGeom>
          <a:ln w="25560">
            <a:solidFill>
              <a:srgbClr val="003300"/>
            </a:solidFill>
            <a:miter/>
          </a:ln>
        </p:spPr>
      </p:cxnSp>
      <p:sp>
        <p:nvSpPr>
          <p:cNvPr id="413" name=""/>
          <p:cNvSpPr/>
          <p:nvPr/>
        </p:nvSpPr>
        <p:spPr>
          <a:xfrm>
            <a:off x="5727960" y="1922400"/>
            <a:ext cx="34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 Narrow"/>
              </a:rPr>
              <a:t>N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429440" y="3500280"/>
            <a:ext cx="30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 Narrow"/>
              </a:rPr>
              <a:t>1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440600" y="2131920"/>
            <a:ext cx="34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 Narrow"/>
              </a:rPr>
              <a:t>N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591600" y="3289320"/>
            <a:ext cx="34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 Narrow"/>
              </a:rPr>
              <a:t>N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799600" y="3789360"/>
            <a:ext cx="30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 Narrow"/>
              </a:rPr>
              <a:t>1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602760" y="2354400"/>
            <a:ext cx="34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 Narrow"/>
              </a:rPr>
              <a:t>N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340000" y="1486080"/>
            <a:ext cx="1006560" cy="504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 Narrow"/>
              </a:rPr>
              <a:t>Nom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11280" y="2421000"/>
            <a:ext cx="1006560" cy="504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 Narrow"/>
              </a:rPr>
              <a:t>Prénom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cxnSp>
        <p:nvCxnSpPr>
          <p:cNvPr id="421" name=""/>
          <p:cNvCxnSpPr>
            <a:stCxn id="419" idx="6"/>
            <a:endCxn id="401" idx="1"/>
          </p:cNvCxnSpPr>
          <p:nvPr/>
        </p:nvCxnSpPr>
        <p:spPr>
          <a:xfrm>
            <a:off x="3346200" y="1738080"/>
            <a:ext cx="208440" cy="170280"/>
          </a:xfrm>
          <a:prstGeom prst="straightConnector1">
            <a:avLst/>
          </a:prstGeom>
          <a:ln w="12600">
            <a:solidFill>
              <a:srgbClr val="003300"/>
            </a:solidFill>
            <a:miter/>
          </a:ln>
        </p:spPr>
      </p:cxnSp>
      <p:cxnSp>
        <p:nvCxnSpPr>
          <p:cNvPr id="422" name=""/>
          <p:cNvCxnSpPr>
            <a:stCxn id="420" idx="7"/>
            <a:endCxn id="401" idx="1"/>
          </p:cNvCxnSpPr>
          <p:nvPr/>
        </p:nvCxnSpPr>
        <p:spPr>
          <a:xfrm flipV="1">
            <a:off x="3269880" y="1907640"/>
            <a:ext cx="284400" cy="588240"/>
          </a:xfrm>
          <a:prstGeom prst="straightConnector1">
            <a:avLst/>
          </a:prstGeom>
          <a:ln w="12600">
            <a:solidFill>
              <a:srgbClr val="003300"/>
            </a:solidFill>
            <a:miter/>
          </a:ln>
        </p:spPr>
      </p:cxnSp>
      <p:sp>
        <p:nvSpPr>
          <p:cNvPr id="423" name=""/>
          <p:cNvSpPr/>
          <p:nvPr/>
        </p:nvSpPr>
        <p:spPr>
          <a:xfrm>
            <a:off x="2340000" y="3357720"/>
            <a:ext cx="1006560" cy="504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 Narrow"/>
              </a:rPr>
              <a:t>Nom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23" idx="5"/>
            <a:endCxn id="402" idx="1"/>
          </p:cNvCxnSpPr>
          <p:nvPr/>
        </p:nvCxnSpPr>
        <p:spPr>
          <a:xfrm>
            <a:off x="3198600" y="3787560"/>
            <a:ext cx="356040" cy="424440"/>
          </a:xfrm>
          <a:prstGeom prst="straightConnector1">
            <a:avLst/>
          </a:prstGeom>
          <a:ln w="12600">
            <a:solidFill>
              <a:srgbClr val="003300"/>
            </a:solidFill>
            <a:miter/>
          </a:ln>
        </p:spPr>
      </p:cxnSp>
      <p:sp>
        <p:nvSpPr>
          <p:cNvPr id="425" name=""/>
          <p:cNvSpPr/>
          <p:nvPr/>
        </p:nvSpPr>
        <p:spPr>
          <a:xfrm>
            <a:off x="8029440" y="3139920"/>
            <a:ext cx="1006560" cy="505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 Narrow"/>
              </a:rPr>
              <a:t>Date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cxnSp>
        <p:nvCxnSpPr>
          <p:cNvPr id="426" name=""/>
          <p:cNvCxnSpPr>
            <a:stCxn id="425" idx="1"/>
            <a:endCxn id="405" idx="3"/>
          </p:cNvCxnSpPr>
          <p:nvPr/>
        </p:nvCxnSpPr>
        <p:spPr>
          <a:xfrm flipH="1" flipV="1">
            <a:off x="7822440" y="3060360"/>
            <a:ext cx="354600" cy="154800"/>
          </a:xfrm>
          <a:prstGeom prst="straightConnector1">
            <a:avLst/>
          </a:prstGeom>
          <a:ln w="12600">
            <a:solidFill>
              <a:srgbClr val="003300"/>
            </a:solidFill>
            <a:miter/>
          </a:ln>
        </p:spPr>
      </p:cxnSp>
      <p:sp>
        <p:nvSpPr>
          <p:cNvPr id="427" name=""/>
          <p:cNvSpPr/>
          <p:nvPr/>
        </p:nvSpPr>
        <p:spPr>
          <a:xfrm>
            <a:off x="8028000" y="3716280"/>
            <a:ext cx="1006560" cy="504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 Narrow"/>
              </a:rPr>
              <a:t>Lieu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27" idx="1"/>
            <a:endCxn id="405" idx="3"/>
          </p:cNvCxnSpPr>
          <p:nvPr/>
        </p:nvCxnSpPr>
        <p:spPr>
          <a:xfrm flipH="1" flipV="1">
            <a:off x="7822440" y="3060360"/>
            <a:ext cx="353160" cy="730800"/>
          </a:xfrm>
          <a:prstGeom prst="straightConnector1">
            <a:avLst/>
          </a:prstGeom>
          <a:ln w="12600">
            <a:solidFill>
              <a:srgbClr val="003300"/>
            </a:solidFill>
            <a:miter/>
          </a:ln>
        </p:spPr>
      </p:cxnSp>
      <p:sp>
        <p:nvSpPr>
          <p:cNvPr id="429" name=""/>
          <p:cNvSpPr/>
          <p:nvPr/>
        </p:nvSpPr>
        <p:spPr>
          <a:xfrm>
            <a:off x="7020000" y="836640"/>
            <a:ext cx="1368360" cy="504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 Narrow"/>
              </a:rPr>
              <a:t>Inscrit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9" idx="4"/>
            <a:endCxn id="407" idx="3"/>
          </p:cNvCxnSpPr>
          <p:nvPr/>
        </p:nvCxnSpPr>
        <p:spPr>
          <a:xfrm>
            <a:off x="7704000" y="1341000"/>
            <a:ext cx="124560" cy="577080"/>
          </a:xfrm>
          <a:prstGeom prst="straightConnector1">
            <a:avLst/>
          </a:prstGeom>
          <a:ln w="12600">
            <a:solidFill>
              <a:srgbClr val="003300"/>
            </a:solidFill>
            <a:miter/>
          </a:ln>
        </p:spPr>
      </p:cxnSp>
      <p:sp>
        <p:nvSpPr>
          <p:cNvPr id="431" name=""/>
          <p:cNvSpPr/>
          <p:nvPr/>
        </p:nvSpPr>
        <p:spPr>
          <a:xfrm>
            <a:off x="7956720" y="2492280"/>
            <a:ext cx="1006200" cy="505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 Narrow"/>
              </a:rPr>
              <a:t>Titr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cxnSp>
        <p:nvCxnSpPr>
          <p:cNvPr id="432" name=""/>
          <p:cNvCxnSpPr>
            <a:stCxn id="431" idx="3"/>
            <a:endCxn id="405" idx="3"/>
          </p:cNvCxnSpPr>
          <p:nvPr/>
        </p:nvCxnSpPr>
        <p:spPr>
          <a:xfrm flipH="1">
            <a:off x="7822440" y="2922480"/>
            <a:ext cx="281880" cy="138960"/>
          </a:xfrm>
          <a:prstGeom prst="straightConnector1">
            <a:avLst/>
          </a:prstGeom>
          <a:ln w="12600">
            <a:solidFill>
              <a:srgbClr val="003300"/>
            </a:solidFill>
            <a:miter/>
          </a:ln>
        </p:spPr>
      </p:cxnSp>
      <p:sp>
        <p:nvSpPr>
          <p:cNvPr id="433" name=""/>
          <p:cNvSpPr/>
          <p:nvPr/>
        </p:nvSpPr>
        <p:spPr>
          <a:xfrm>
            <a:off x="8028000" y="1268280"/>
            <a:ext cx="1006560" cy="505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 Narrow"/>
              </a:rPr>
              <a:t>Présent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956720" y="1916280"/>
            <a:ext cx="1006200" cy="504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 Narrow"/>
              </a:rPr>
              <a:t>Rôl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407" idx="3"/>
            <a:endCxn id="433" idx="3"/>
          </p:cNvCxnSpPr>
          <p:nvPr/>
        </p:nvCxnSpPr>
        <p:spPr>
          <a:xfrm flipV="1">
            <a:off x="7827840" y="1697760"/>
            <a:ext cx="348480" cy="219960"/>
          </a:xfrm>
          <a:prstGeom prst="straightConnector1">
            <a:avLst/>
          </a:prstGeom>
          <a:ln w="12600">
            <a:solidFill>
              <a:srgbClr val="003300"/>
            </a:solidFill>
            <a:miter/>
          </a:ln>
        </p:spPr>
      </p:cxnSp>
      <p:cxnSp>
        <p:nvCxnSpPr>
          <p:cNvPr id="436" name=""/>
          <p:cNvCxnSpPr>
            <a:stCxn id="407" idx="3"/>
            <a:endCxn id="434" idx="1"/>
          </p:cNvCxnSpPr>
          <p:nvPr/>
        </p:nvCxnSpPr>
        <p:spPr>
          <a:xfrm>
            <a:off x="7827840" y="1917360"/>
            <a:ext cx="277200" cy="73800"/>
          </a:xfrm>
          <a:prstGeom prst="straightConnector1">
            <a:avLst/>
          </a:prstGeom>
          <a:ln w="12600">
            <a:solidFill>
              <a:srgbClr val="0033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3194B-026C-4DA6-B1E9-3BD58023741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Passage au modèle logique (relationnel)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2843280" y="2492280"/>
          <a:ext cx="6048360" cy="3146400"/>
        </p:xfrm>
        <a:graphic>
          <a:graphicData uri="http://schemas.openxmlformats.org/drawingml/2006/table">
            <a:tbl>
              <a:tblPr/>
              <a:tblGrid>
                <a:gridCol w="1663560"/>
                <a:gridCol w="1738440"/>
                <a:gridCol w="1373400"/>
                <a:gridCol w="1272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 Narrow"/>
                        </a:rPr>
                        <a:t>Entité/Relation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 Narrow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 Narrow"/>
                        </a:rPr>
                        <a:t>Clé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 Narrow"/>
                        </a:rPr>
                        <a:t>Type de Clé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ersonne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ersonnes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ersI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imaire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rganisation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rganisations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rgI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imaire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Événement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vénement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vtI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imaire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mbre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ersOrgI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Étrangère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8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rganise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vtOrgI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Étrangère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rticipe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rticipants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rtI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rtPersI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rtEvtI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imaire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Étrangère Étrangère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340000" y="907560"/>
            <a:ext cx="6804000" cy="15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Conversion des Entités-Relations en Tab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es Entités deviennent des Tables avec Clé Primair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es Relations 1-N deviennent des Clés Étrangèr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es Relations N-N deviennent des Tables avec 2 Clés Étrangèr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0" name=""/>
          <p:cNvSpPr/>
          <p:nvPr/>
        </p:nvSpPr>
        <p:spPr>
          <a:xfrm rot="5400000">
            <a:off x="-57600" y="247824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84360" y="587700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 Narrow"/>
              </a:rPr>
              <a:t>Note:</a:t>
            </a:r>
            <a:r>
              <a:rPr b="1" lang="en-US" sz="1800" spc="-1" strike="noStrike">
                <a:solidFill>
                  <a:srgbClr val="0033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Arial Narrow"/>
              </a:rPr>
              <a:t>Pour éviter que 2 colonnes aient le même nom, </a:t>
            </a:r>
            <a:br>
              <a:rPr sz="1800"/>
            </a:br>
            <a:r>
              <a:rPr b="1" lang="en-US" sz="1800" spc="-1" strike="noStrike">
                <a:solidFill>
                  <a:srgbClr val="0033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Arial Narrow"/>
              </a:rPr>
              <a:t>Un préfixe indicant la table (Pers, Org ou Evt) a été ajouté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76705-17A7-4F34-972B-20C57B8EECAC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Tables du modèles logique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484360" y="6021360"/>
            <a:ext cx="2664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 Narrow"/>
              </a:rPr>
              <a:t>Clé Primaire</a:t>
            </a:r>
            <a:r>
              <a:rPr b="1" lang="fr-FR" sz="18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ff0000"/>
                </a:solidFill>
                <a:latin typeface="Arial Narrow"/>
              </a:rPr>
              <a:t>Roug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 Narrow"/>
              </a:rPr>
              <a:t>Clé Étrangère</a:t>
            </a:r>
            <a:r>
              <a:rPr b="1" lang="fr-FR" sz="1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99"/>
                </a:solidFill>
                <a:latin typeface="Arial Narrow"/>
              </a:rPr>
              <a:t>Bleu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2627280" y="2565360"/>
          <a:ext cx="1584360" cy="243828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 Narrow"/>
                        </a:rPr>
                        <a:t>Personnes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PersI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PersOrgI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ersNom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ersPrenom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5" name=""/>
          <p:cNvGraphicFramePr/>
          <p:nvPr/>
        </p:nvGraphicFramePr>
        <p:xfrm>
          <a:off x="4859280" y="2739960"/>
          <a:ext cx="1584360" cy="320976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 Narrow"/>
                        </a:rPr>
                        <a:t>Participants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PartI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PartPersI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PartEvtI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rtRole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rtInscrit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rtPresent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6" name=""/>
          <p:cNvGraphicFramePr/>
          <p:nvPr/>
        </p:nvGraphicFramePr>
        <p:xfrm>
          <a:off x="4859280" y="866880"/>
          <a:ext cx="1584360" cy="158436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 Narrow"/>
                        </a:rPr>
                        <a:t>Organisations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OrgI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rgNom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7091280" y="2492280"/>
          <a:ext cx="1584360" cy="321012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 Narrow"/>
                        </a:rPr>
                        <a:t>Evenements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EvtI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EvtOrgI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vtTitre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vtDateDebut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vtDateFin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vtLieu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448" name=""/>
          <p:cNvSpPr/>
          <p:nvPr/>
        </p:nvSpPr>
        <p:spPr>
          <a:xfrm>
            <a:off x="4213080" y="3213000"/>
            <a:ext cx="640080" cy="514440"/>
          </a:xfrm>
          <a:custGeom>
            <a:avLst/>
            <a:gdLst/>
            <a:ahLst/>
            <a:rect l="l" t="t" r="r" b="b"/>
            <a:pathLst>
              <a:path w="403" h="369">
                <a:moveTo>
                  <a:pt x="403" y="369"/>
                </a:moveTo>
                <a:lnTo>
                  <a:pt x="203" y="366"/>
                </a:lnTo>
                <a:lnTo>
                  <a:pt x="203" y="0"/>
                </a:lnTo>
                <a:lnTo>
                  <a:pt x="0" y="2"/>
                </a:lnTo>
              </a:path>
            </a:pathLst>
          </a:custGeom>
          <a:noFill/>
          <a:ln w="28440">
            <a:solidFill>
              <a:srgbClr val="00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35720" y="1486080"/>
            <a:ext cx="2525760" cy="2003400"/>
          </a:xfrm>
          <a:custGeom>
            <a:avLst/>
            <a:gdLst/>
            <a:ahLst/>
            <a:rect l="l" t="t" r="r" b="b"/>
            <a:pathLst>
              <a:path w="1591" h="1262">
                <a:moveTo>
                  <a:pt x="1414" y="1262"/>
                </a:moveTo>
                <a:lnTo>
                  <a:pt x="1591" y="1262"/>
                </a:lnTo>
                <a:lnTo>
                  <a:pt x="1591" y="0"/>
                </a:lnTo>
                <a:lnTo>
                  <a:pt x="0" y="3"/>
                </a:lnTo>
              </a:path>
            </a:pathLst>
          </a:custGeom>
          <a:noFill/>
          <a:ln w="28440">
            <a:solidFill>
              <a:srgbClr val="00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443640" y="3068640"/>
            <a:ext cx="652320" cy="1081080"/>
          </a:xfrm>
          <a:custGeom>
            <a:avLst/>
            <a:gdLst/>
            <a:ahLst/>
            <a:rect l="l" t="t" r="r" b="b"/>
            <a:pathLst>
              <a:path w="275" h="642">
                <a:moveTo>
                  <a:pt x="0" y="633"/>
                </a:moveTo>
                <a:lnTo>
                  <a:pt x="115" y="642"/>
                </a:lnTo>
                <a:lnTo>
                  <a:pt x="115" y="0"/>
                </a:lnTo>
                <a:lnTo>
                  <a:pt x="275" y="4"/>
                </a:lnTo>
              </a:path>
            </a:pathLst>
          </a:custGeom>
          <a:noFill/>
          <a:ln w="28440">
            <a:solidFill>
              <a:srgbClr val="00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411280" y="1484280"/>
            <a:ext cx="2455920" cy="2089080"/>
          </a:xfrm>
          <a:custGeom>
            <a:avLst/>
            <a:gdLst/>
            <a:ahLst/>
            <a:rect l="l" t="t" r="r" b="b"/>
            <a:pathLst>
              <a:path w="1547" h="1316">
                <a:moveTo>
                  <a:pt x="138" y="1307"/>
                </a:moveTo>
                <a:lnTo>
                  <a:pt x="0" y="1316"/>
                </a:lnTo>
                <a:lnTo>
                  <a:pt x="0" y="0"/>
                </a:lnTo>
                <a:lnTo>
                  <a:pt x="1547" y="4"/>
                </a:lnTo>
              </a:path>
            </a:pathLst>
          </a:custGeom>
          <a:noFill/>
          <a:ln w="28440">
            <a:solidFill>
              <a:srgbClr val="00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C1415-6919-41A6-B24E-8ACCF83A035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Commentaires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437920" y="836280"/>
            <a:ext cx="6705720" cy="57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Problèmes possib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éalité complexe et parfois difficile à modéliser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e modèle relationnel ne permet pas de tout modéliser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hoix et responsabilité du concepteur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mportance de la concep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Faire un effort d'analys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Démarrer avec un modèle simpl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Faire des tests avec quelques données (sur MS-Access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Mauvaise base de données = mauvaises fondation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mportance des conventions pour les no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Il y a beaucoup de noms </a:t>
            </a:r>
            <a:r>
              <a:rPr b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Adopter de bonnes convention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ratique d'avoir des colonnes uniques </a:t>
            </a:r>
            <a:r>
              <a:rPr b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Utiliser un préfix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Ne pas utiliser de caractères spéciaux (é ou espace, +, -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es objets apparaissent souvent par ordre alphabétiqu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possibilités de regroupement (ex. tables liées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2DFCB-09B5-4070-BC43-0BD438C733F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ccff99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000" y="2924280"/>
            <a:ext cx="6048360" cy="151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3300"/>
                </a:solidFill>
                <a:latin typeface="Arial Rounded MT Bold"/>
              </a:rPr>
              <a:t>1. Aperçu Général</a:t>
            </a: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Arial Narrow"/>
              </a:rPr>
              <a:t>Atelier de formation sous-régional </a:t>
            </a:r>
            <a:br>
              <a:rPr sz="2800"/>
            </a:br>
            <a:r>
              <a:rPr b="1" i="1" lang="fr-FR" sz="2800" spc="-1" strike="noStrike">
                <a:solidFill>
                  <a:srgbClr val="ffffff"/>
                </a:solidFill>
                <a:latin typeface="Arial Narrow"/>
              </a:rPr>
              <a:t> sur la mise en oeuvre du Centre d'Échange CHM </a:t>
            </a:r>
            <a:br>
              <a:rPr sz="2800"/>
            </a:br>
            <a:r>
              <a:rPr b="1" i="1" lang="fr-FR" sz="2800" spc="-1" strike="noStrike">
                <a:solidFill>
                  <a:srgbClr val="ffffff"/>
                </a:solidFill>
                <a:latin typeface="Arial Narrow"/>
              </a:rPr>
              <a:t>de la Convention sur  la Diversité Biologique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 Narrow"/>
              </a:rPr>
              <a:t>6-17 Novembre 2006                                   Antananarivo, Madagascar</a:t>
            </a:r>
            <a:endParaRPr b="1" i="1" lang="en-US" sz="2000" spc="-1" strike="noStrike">
              <a:solidFill>
                <a:srgbClr val="0033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ccff99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76000" y="2924280"/>
            <a:ext cx="6048360" cy="151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3300"/>
                </a:solidFill>
                <a:latin typeface="Arial Rounded MT Bold"/>
              </a:rPr>
              <a:t>4. Opérations SQL</a:t>
            </a: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Arial Narrow"/>
              </a:rPr>
              <a:t>Atelier de formation sous-régional </a:t>
            </a:r>
            <a:br>
              <a:rPr sz="2800"/>
            </a:br>
            <a:r>
              <a:rPr b="1" i="1" lang="fr-FR" sz="2800" spc="-1" strike="noStrike">
                <a:solidFill>
                  <a:srgbClr val="ffffff"/>
                </a:solidFill>
                <a:latin typeface="Arial Narrow"/>
              </a:rPr>
              <a:t> sur la mise en oeuvre du Centre d'Échange CHM </a:t>
            </a:r>
            <a:br>
              <a:rPr sz="2800"/>
            </a:br>
            <a:r>
              <a:rPr b="1" i="1" lang="fr-FR" sz="2800" spc="-1" strike="noStrike">
                <a:solidFill>
                  <a:srgbClr val="ffffff"/>
                </a:solidFill>
                <a:latin typeface="Arial Narrow"/>
              </a:rPr>
              <a:t>de la Convention sur  la Diversité Biologique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 Narrow"/>
              </a:rPr>
              <a:t>6-17 Novembre 2006                                   Antananarivo, Madagascar</a:t>
            </a:r>
            <a:endParaRPr b="1" i="1" lang="en-US" sz="2000" spc="-1" strike="noStrike">
              <a:solidFill>
                <a:srgbClr val="0033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Introduction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700000" y="907560"/>
            <a:ext cx="6443640" cy="534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Qu'est-ce que SQL?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résentat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Objectif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Fonctionnalité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Opérations SQ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QL couvre un vaste domain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e concentrer sur 4 opérations fondamentales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ELECT, INSERT, UPDATE, DELET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e concentrer sur les options les plus util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Remarques: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pplicable à tous les SGBD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a logique est plus importante que les détail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16339-DAED-4492-9C2D-9E0C8316C01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Présentation de SQL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556000" y="981000"/>
            <a:ext cx="6588000" cy="526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00"/>
                </a:solidFill>
                <a:latin typeface="Arial Narrow"/>
              </a:rPr>
              <a:t>SQL   = Structured Query Language</a:t>
            </a:r>
            <a:br>
              <a:rPr sz="2000"/>
            </a:br>
            <a:r>
              <a:rPr b="1" lang="fr-FR" sz="2000" spc="-1" strike="noStrike">
                <a:solidFill>
                  <a:srgbClr val="0033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3300"/>
                </a:solidFill>
                <a:latin typeface="Arial Narrow"/>
              </a:rPr>
              <a:t>   (Langage de Requêtes Structuré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Language de gestion de bases de données relationnel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Couvre toutes les opérations sur la base de donné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Standardisé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Supporté par tous les fournisseurs de SGBD Relationnel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CDB95-81F7-4128-B02F-45CA221B909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Origines et Évolution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556000" y="981000"/>
            <a:ext cx="6588000" cy="526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Dérivé de l'algèbre relationnelle et de SEQU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A été adopté par les premiers SGBD Relationnels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SQL/DS, DB2, ORACLE, ..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st devenu un standard qui évolu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3 versions normalisées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QL1 86: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angage de bas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QL1 89: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ddition de l'intégrité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(la plus supportée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QL2 92: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Nouvelle norme complèt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QL3 99: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Évolutions objets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(en préparation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018F6-C76B-479A-A2A1-A8EED2B1B48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Dialectes SQL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556000" y="1052280"/>
            <a:ext cx="6588000" cy="26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Variation dans les produits de chaque fabrica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aisons techniqu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aisons marketing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Dialectes SQ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Quelques problèmes de compatibilité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Quelques extensions pratiqu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a logique reste la mêm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4356000" y="3357720"/>
            <a:ext cx="4303800" cy="3375000"/>
            <a:chOff x="4356000" y="3357720"/>
            <a:chExt cx="4303800" cy="3375000"/>
          </a:xfrm>
        </p:grpSpPr>
        <p:sp>
          <p:nvSpPr>
            <p:cNvPr id="465" name=""/>
            <p:cNvSpPr/>
            <p:nvPr/>
          </p:nvSpPr>
          <p:spPr>
            <a:xfrm>
              <a:off x="5838840" y="3357720"/>
              <a:ext cx="1309680" cy="2944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356000" y="4699080"/>
              <a:ext cx="2620800" cy="1816200"/>
            </a:xfrm>
            <a:prstGeom prst="ellipse">
              <a:avLst/>
            </a:prstGeom>
            <a:solidFill>
              <a:srgbClr val="99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010200" y="4718160"/>
              <a:ext cx="2649600" cy="172224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267160" y="4280040"/>
              <a:ext cx="2359080" cy="2452680"/>
            </a:xfrm>
            <a:prstGeom prst="ellipse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40720" y="5014800"/>
              <a:ext cx="1116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 Narrow"/>
                </a:rPr>
                <a:t>SQL</a:t>
              </a:r>
              <a:br>
                <a:rPr sz="1600"/>
              </a:br>
              <a:r>
                <a:rPr b="1" lang="en-US" sz="1600" spc="-1" strike="noStrike">
                  <a:solidFill>
                    <a:srgbClr val="003300"/>
                  </a:solidFill>
                  <a:latin typeface="Arial Narrow"/>
                </a:rPr>
                <a:t>STANDARD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500360" y="5302440"/>
              <a:ext cx="698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 Narrow"/>
                </a:rPr>
                <a:t>SQL</a:t>
              </a:r>
              <a:br>
                <a:rPr sz="1600"/>
              </a:br>
              <a:r>
                <a:rPr b="1" lang="en-US" sz="1600" spc="-1" strike="noStrike">
                  <a:solidFill>
                    <a:srgbClr val="003300"/>
                  </a:solidFill>
                  <a:latin typeface="Arial Narrow"/>
                </a:rPr>
                <a:t>Oracle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938200" y="3718080"/>
              <a:ext cx="1070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 Narrow"/>
                </a:rPr>
                <a:t>SQL</a:t>
              </a:r>
              <a:br>
                <a:rPr sz="1600"/>
              </a:br>
              <a:r>
                <a:rPr b="1" lang="en-US" sz="1600" spc="-1" strike="noStrike">
                  <a:solidFill>
                    <a:srgbClr val="003300"/>
                  </a:solidFill>
                  <a:latin typeface="Arial Narrow"/>
                </a:rPr>
                <a:t>MS-Access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620120" y="5230800"/>
              <a:ext cx="828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 Narrow"/>
                </a:rPr>
                <a:t>SQL</a:t>
              </a:r>
              <a:br>
                <a:rPr sz="1600"/>
              </a:br>
              <a:r>
                <a:rPr b="1" lang="en-US" sz="1600" spc="-1" strike="noStrike">
                  <a:solidFill>
                    <a:srgbClr val="003300"/>
                  </a:solidFill>
                  <a:latin typeface="Arial Narrow"/>
                </a:rPr>
                <a:t>MS-SQL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 Narrow"/>
                </a:rPr>
                <a:t>Server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494F2-F00B-459A-B3E5-DACCD3E4CF6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Fonctionnalités de SQL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43280" y="981000"/>
            <a:ext cx="6300720" cy="526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SQL couvre de nombreux aspects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Définition de schéma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(Tables, Vues, Droi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Manipulation des données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(Sélection et mises à jou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Modules appelables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(Procédur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ntégration aux langages de programmation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(Curseur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EE721-FD32-4D3F-BE64-53FD7333B70A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2914560" y="2494080"/>
            <a:ext cx="935280" cy="12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297080"/>
            <a:ext cx="223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Principales instructions SQL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437920" y="914040"/>
            <a:ext cx="67057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Language de DEFINITION de donné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REATE TABL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REATE VIEW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Language de MANIPULATION de donné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ELECT             OPE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INSERT              FETCH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UPDATE            CLOS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DELET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Language de CONTRÔLE de donné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GRANT et REVOK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BEGIN et END TRANSACT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OMMIT et ROLLBACK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3EA8B-4B53-4A14-B8E4-0FE41918D46C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Les 4 Opérations de Manipulation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340000" y="981000"/>
            <a:ext cx="6804000" cy="56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Selectionner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LECTUR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our rechercher des lignes (complètes ou partielles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envoie une liste de lign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Exemple: Rechercher les noms des Personnes du Burundi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NSERT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nsérer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ff0000"/>
                </a:solidFill>
                <a:latin typeface="Arial Narrow"/>
              </a:rPr>
              <a:t>ÉCRITUR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our rajouter des lignes dans une tabl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Exemple: Ajouter une nouvelle Personn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UPDATE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Modifier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ff0000"/>
                </a:solidFill>
                <a:latin typeface="Arial Narrow"/>
              </a:rPr>
              <a:t>ÉCRITUR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our mettre à jour des lignes existantes (complètes ou partielles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Exemple: Modifier l'adresse e-mai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DELETE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Détruire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ff0000"/>
                </a:solidFill>
                <a:latin typeface="Arial Narrow"/>
              </a:rPr>
              <a:t>ÉCRITUR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our supprimer des lignes d'une tabl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Exemple: Supprimer une Personn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2E43E-6395-4346-AF98-59079C67952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Sélectionner - SELECT (simple)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437920" y="914040"/>
            <a:ext cx="67057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Syntaxe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&lt;Colonne1&gt;, &lt;Colonne2&gt; ..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FROM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&lt;Table&gt;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WHERE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&lt;Condition&gt;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ORDER BY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&lt;ColonneOrdre1&gt;, &lt;ColonneOrdre2&gt; ..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xemple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Nom, Preno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ersonn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WHERE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ays = 'Burundi'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ORDER BY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Nom, Preno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66AD2-45BB-4268-9F19-1AD731E8ED1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Sélection de Colonnes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5580000" y="1052640"/>
          <a:ext cx="3052800" cy="1911240"/>
        </p:xfrm>
        <a:graphic>
          <a:graphicData uri="http://schemas.openxmlformats.org/drawingml/2006/table">
            <a:tbl>
              <a:tblPr/>
              <a:tblGrid>
                <a:gridCol w="579240"/>
                <a:gridCol w="717840"/>
                <a:gridCol w="877680"/>
                <a:gridCol w="878040"/>
              </a:tblGrid>
              <a:tr h="395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ersonne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PersID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Nom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Prenom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Pays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ebeau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acques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ris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oger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Zoe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vry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oe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ohn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ris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erry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ule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lenton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843280" y="3499920"/>
            <a:ext cx="266544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Nom, Preno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Personn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5580000" y="4653000"/>
          <a:ext cx="3052800" cy="1911240"/>
        </p:xfrm>
        <a:graphic>
          <a:graphicData uri="http://schemas.openxmlformats.org/drawingml/2006/table">
            <a:tbl>
              <a:tblPr/>
              <a:tblGrid>
                <a:gridCol w="579600"/>
                <a:gridCol w="717480"/>
                <a:gridCol w="877680"/>
                <a:gridCol w="878040"/>
              </a:tblGrid>
              <a:tr h="395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ersonne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cc00"/>
                          </a:solidFill>
                          <a:latin typeface="Arial Narrow"/>
                        </a:rPr>
                        <a:t>PersID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Nom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Prenom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cc00"/>
                          </a:solidFill>
                          <a:latin typeface="Arial Narrow"/>
                        </a:rPr>
                        <a:t>Ville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30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cc00"/>
                          </a:solidFill>
                          <a:latin typeface="Arial Narrow"/>
                        </a:rPr>
                        <a:t>1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ebeau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acques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cc00"/>
                          </a:solidFill>
                          <a:latin typeface="Arial Narrow"/>
                        </a:rPr>
                        <a:t>Paris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cc00"/>
                          </a:solidFill>
                          <a:latin typeface="Arial Narrow"/>
                        </a:rPr>
                        <a:t>2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oger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Zoe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cc00"/>
                          </a:solidFill>
                          <a:latin typeface="Arial Narrow"/>
                        </a:rPr>
                        <a:t>Evry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cc00"/>
                          </a:solidFill>
                          <a:latin typeface="Arial Narrow"/>
                        </a:rPr>
                        <a:t>3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oe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ohn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cc00"/>
                          </a:solidFill>
                          <a:latin typeface="Arial Narrow"/>
                        </a:rPr>
                        <a:t>Paris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cc00"/>
                          </a:solidFill>
                          <a:latin typeface="Arial Narrow"/>
                        </a:rPr>
                        <a:t>4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erry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ule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cc00"/>
                          </a:solidFill>
                          <a:latin typeface="Arial Narrow"/>
                        </a:rPr>
                        <a:t>Valenton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487" name=""/>
          <p:cNvSpPr/>
          <p:nvPr/>
        </p:nvSpPr>
        <p:spPr>
          <a:xfrm rot="5400000">
            <a:off x="5008320" y="3763800"/>
            <a:ext cx="1771560" cy="380880"/>
          </a:xfrm>
          <a:prstGeom prst="rightArrow">
            <a:avLst>
              <a:gd name="adj1" fmla="val 50000"/>
              <a:gd name="adj2" fmla="val 116281"/>
            </a:avLst>
          </a:prstGeom>
          <a:solidFill>
            <a:srgbClr val="008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435640" y="3429000"/>
            <a:ext cx="890640" cy="843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 Narrow"/>
              </a:rPr>
              <a:t>C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EA304-E71C-4A45-A7B7-AA60600F39A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Pourquoi les bases de données? 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700000" y="1052640"/>
            <a:ext cx="6443640" cy="52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Société de l'information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Données omniprésentes dans notre vie quotidienn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nfinité d'exemp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istes d'adresses et de participant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artes d'identités / Passeport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Gestion de stock, vent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omptes bancaires / transactions financièr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Inscriptions, Réservation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echerches sur Interne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Outil indispensable pour une gestion professionnelle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t efficace des informa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 rot="5400000">
            <a:off x="-57600" y="219096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3ACEE-DC51-44EC-89D5-1618110836DC}" type="slidenum">
              <a:t>6</a:t>
            </a:fld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Sélection de Lignes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2843280" y="3212640"/>
            <a:ext cx="2448000" cy="15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*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Personn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WHERE Ville = 'Paris'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508720" y="1052640"/>
          <a:ext cx="3052800" cy="1911240"/>
        </p:xfrm>
        <a:graphic>
          <a:graphicData uri="http://schemas.openxmlformats.org/drawingml/2006/table">
            <a:tbl>
              <a:tblPr/>
              <a:tblGrid>
                <a:gridCol w="579240"/>
                <a:gridCol w="717840"/>
                <a:gridCol w="877680"/>
                <a:gridCol w="878040"/>
              </a:tblGrid>
              <a:tr h="395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ersonne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Pers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Nom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Prénom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Ville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30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ebeau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acques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ris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oger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Zoe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vry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oe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ohn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ris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erry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ule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lenton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5580000" y="4541760"/>
          <a:ext cx="3052800" cy="1911240"/>
        </p:xfrm>
        <a:graphic>
          <a:graphicData uri="http://schemas.openxmlformats.org/drawingml/2006/table">
            <a:tbl>
              <a:tblPr/>
              <a:tblGrid>
                <a:gridCol w="579600"/>
                <a:gridCol w="717480"/>
                <a:gridCol w="877680"/>
                <a:gridCol w="878040"/>
              </a:tblGrid>
              <a:tr h="395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ersonne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Pers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Nom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Prénom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Ville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ebeau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acques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ris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cc00"/>
                          </a:solidFill>
                          <a:latin typeface="Arial Narrow"/>
                        </a:rPr>
                        <a:t>2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cc00"/>
                          </a:solidFill>
                          <a:latin typeface="Arial Narrow"/>
                        </a:rPr>
                        <a:t>Troger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cc00"/>
                          </a:solidFill>
                          <a:latin typeface="Arial Narrow"/>
                        </a:rPr>
                        <a:t>Zoe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cc00"/>
                          </a:solidFill>
                          <a:latin typeface="Arial Narrow"/>
                        </a:rPr>
                        <a:t>Evry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30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oe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ohn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ris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cc00"/>
                          </a:solidFill>
                          <a:latin typeface="Arial Narrow"/>
                        </a:rPr>
                        <a:t>4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cc00"/>
                          </a:solidFill>
                          <a:latin typeface="Arial Narrow"/>
                        </a:rPr>
                        <a:t>Perry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cc00"/>
                          </a:solidFill>
                          <a:latin typeface="Arial Narrow"/>
                        </a:rPr>
                        <a:t>Paule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cc00"/>
                          </a:solidFill>
                          <a:latin typeface="Arial Narrow"/>
                        </a:rPr>
                        <a:t>Valenton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493" name=""/>
          <p:cNvSpPr/>
          <p:nvPr/>
        </p:nvSpPr>
        <p:spPr>
          <a:xfrm rot="5400000">
            <a:off x="5008320" y="3763800"/>
            <a:ext cx="1771560" cy="380880"/>
          </a:xfrm>
          <a:prstGeom prst="rightArrow">
            <a:avLst>
              <a:gd name="adj1" fmla="val 50000"/>
              <a:gd name="adj2" fmla="val 116281"/>
            </a:avLst>
          </a:prstGeom>
          <a:solidFill>
            <a:srgbClr val="008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35640" y="3429000"/>
            <a:ext cx="890640" cy="843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 Narrow"/>
              </a:rPr>
              <a:t>L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1DFD5-BF11-470E-B12A-D426EE9F2B4F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Critères de Sélection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437920" y="914040"/>
            <a:ext cx="6705720" cy="568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Forme générale de la condi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&lt;search condition&gt; ::= [NOT]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&lt;nom_colonne&gt;  </a:t>
            </a:r>
            <a:r>
              <a:rPr b="1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  constante </a:t>
            </a:r>
            <a:r>
              <a:rPr b="1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 &lt;nom_colonne&gt;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&lt;nom_colonne&gt; LIKE &lt;modèle_de_chaîne&gt;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&lt;nom_colonne&gt; IN &lt;liste_de_valeurs&gt;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&lt;nom_colonne&gt; </a:t>
            </a:r>
            <a:r>
              <a:rPr b="1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 (ALL </a:t>
            </a:r>
            <a:r>
              <a:rPr b="1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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ANY </a:t>
            </a:r>
            <a:r>
              <a:rPr b="1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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SOME)</a:t>
            </a:r>
            <a:r>
              <a:rPr b="1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 &lt;liste_de_valeurs&gt;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EXISTS &lt;liste_de_valeurs&gt;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UNIQUE &lt;liste_de_valeurs&gt;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&lt;tuple&gt; MATCH [UNIQUE] &lt;liste_de_tuples&gt;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&lt;nom_colonne&gt; BETWEEN constante AND constante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&lt;search condition&gt; AND </a:t>
            </a:r>
            <a:r>
              <a:rPr b="1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 OR &lt;search condition&gt;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avec  </a:t>
            </a:r>
            <a:r>
              <a:rPr b="1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::= &lt; </a:t>
            </a:r>
            <a:r>
              <a:rPr b="1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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= </a:t>
            </a:r>
            <a:r>
              <a:rPr b="1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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&gt; </a:t>
            </a:r>
            <a:r>
              <a:rPr b="1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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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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Principaux critèr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NOT, AND, OR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=,  &gt;,  &gt;=,  &lt;,  &lt;= 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IKE &lt;forme&gt;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BETWEEN &lt;valeur1&gt; AND &lt;valeur2&gt;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IN (&lt;valeur1&gt;, &lt;valeur2&gt;, &lt;valeur3&gt;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02907-AB11-42CA-9942-A5C1D175BFB6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Sélection avec LIKE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437920" y="914040"/>
            <a:ext cx="6705720" cy="568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Caractères spéciaux de la &lt;forme&gt; LIK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%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N'importe quoi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_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1 caractèr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Note: Variante MS-Access 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(héritage du DO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*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N'importe quoi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?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1 caractèr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xemple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Nom, Preno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ersonn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WHERE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ays LIKE 'B%'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ORDER BY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Nom, Preno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7ECD0-50BD-49AC-83CD-15CA2F448806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Insérer - INSERT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411280" y="981000"/>
            <a:ext cx="6732720" cy="526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Syntaxe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INSERT INTO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&lt;Table&gt;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(&lt;Colonne1&gt;, &lt;Colonne1&gt; ...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VALUES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(&lt;Valeur1&gt;, &lt;Valeur2&gt; ...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xemple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INSERT INTO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ersonn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(Nom, Prenom, Email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VALUES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('Nogueira', 'Arthur', 'arthur.nogueira@biodiv.org'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8C357-A54A-4529-B2F3-22373485013A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Modifier - UPDATE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484000" y="907560"/>
            <a:ext cx="6659640" cy="534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Syntaxe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UPDATE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&lt;Table&gt;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ET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&lt;Colonne1&gt; = &lt;Valeur1&gt;,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&lt;Colonne2&gt; = &lt;Valeur2&gt; ..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WHERE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&lt;Condition&gt;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xemple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UPDATE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ersonn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ET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Email='marcos.silva@biodiv.org'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WHERE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Nom='Silva'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76E59-17F2-43BD-A3D0-EA0CAFB51B01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Détruire - DELETE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556000" y="981000"/>
            <a:ext cx="6588000" cy="526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Syntaxe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DELETE FROM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 &lt;Tables&gt;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WHERE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 &lt;Condition&gt;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xemple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DELETE FROM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 Personn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WHERE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 PersID=10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6EB8F-D449-40F3-8655-B2C541186525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Sélections avancées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700000" y="907920"/>
            <a:ext cx="644364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Jointures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(Combinaisons de colonn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INNER JOI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EFT JOIN, RIGHT JOIN, FULL OUTER JOI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Unions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(Combinaison de lign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Sous-Sélections 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(Requêtes imbriqué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Fonctions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(Calculs de colonn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Agrégats 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(Statistiqu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OUNT, SUM, AVG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MIN, MAX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EB435-0FB2-417C-A953-F71C30460E86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Sélections avec Jointure - SELECT &amp; JOIN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340000" y="914040"/>
            <a:ext cx="6804000" cy="57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Combiner les colonnes de plusieurs tab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l faut que les lignes correspondent bie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Spécifier comment joindre les tab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Indiquer les colonnes qui doivent correspondr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Indiquer que faire lorsqu'aucune correspondance exist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Syntaxe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ELECT &lt;Colonnes&gt;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FROM &lt;Table1&gt; &lt;Alias1&gt;, &lt;Table2&gt; &lt;Alias2&gt;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&lt;Type&gt; JOIN ON &lt;Alias1&gt;.&lt;Colonne1&gt; = &lt;Alias2&gt;.&lt;Colonne2&gt;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Notes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&lt;Alias&gt;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bréviation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(ex. P pour Personnes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&lt;Type&gt;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INNER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eulement les lignes qui correspondent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EFT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Toutes les lignes de &lt;Table1&gt;  (gauche)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IGHT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Toutes les lignes de &lt;Table2&gt;  (droite)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FULL OUTER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Toutes les lignes des 2 tabl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EAF75-0181-4CDF-81D4-F2D28E34FCEC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492360" y="5019840"/>
            <a:ext cx="3062520" cy="328320"/>
          </a:xfrm>
          <a:custGeom>
            <a:avLst/>
            <a:gdLst/>
            <a:ahLst/>
            <a:rect l="l" t="t" r="r" b="b"/>
            <a:pathLst>
              <a:path w="1929" h="207">
                <a:moveTo>
                  <a:pt x="1929" y="205"/>
                </a:moveTo>
                <a:lnTo>
                  <a:pt x="1925" y="10"/>
                </a:lnTo>
                <a:lnTo>
                  <a:pt x="0" y="0"/>
                </a:lnTo>
                <a:lnTo>
                  <a:pt x="0" y="207"/>
                </a:lnTo>
              </a:path>
            </a:pathLst>
          </a:custGeom>
          <a:noFill/>
          <a:ln w="76320">
            <a:solidFill>
              <a:srgbClr val="00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16360" y="3716280"/>
            <a:ext cx="2233800" cy="1595520"/>
          </a:xfrm>
          <a:custGeom>
            <a:avLst/>
            <a:gdLst/>
            <a:ahLst/>
            <a:rect l="l" t="t" r="r" b="b"/>
            <a:pathLst>
              <a:path w="4085" h="3130">
                <a:moveTo>
                  <a:pt x="0" y="0"/>
                </a:moveTo>
                <a:lnTo>
                  <a:pt x="522" y="0"/>
                </a:lnTo>
                <a:lnTo>
                  <a:pt x="636" y="155"/>
                </a:lnTo>
                <a:lnTo>
                  <a:pt x="748" y="305"/>
                </a:lnTo>
                <a:lnTo>
                  <a:pt x="871" y="467"/>
                </a:lnTo>
                <a:lnTo>
                  <a:pt x="1013" y="650"/>
                </a:lnTo>
                <a:lnTo>
                  <a:pt x="1144" y="826"/>
                </a:lnTo>
                <a:lnTo>
                  <a:pt x="1264" y="983"/>
                </a:lnTo>
                <a:lnTo>
                  <a:pt x="1368" y="1128"/>
                </a:lnTo>
                <a:lnTo>
                  <a:pt x="1465" y="1266"/>
                </a:lnTo>
                <a:lnTo>
                  <a:pt x="1575" y="1431"/>
                </a:lnTo>
                <a:lnTo>
                  <a:pt x="1662" y="1573"/>
                </a:lnTo>
                <a:lnTo>
                  <a:pt x="1754" y="1729"/>
                </a:lnTo>
                <a:lnTo>
                  <a:pt x="1846" y="1904"/>
                </a:lnTo>
                <a:lnTo>
                  <a:pt x="1924" y="2063"/>
                </a:lnTo>
                <a:lnTo>
                  <a:pt x="1994" y="2234"/>
                </a:lnTo>
                <a:lnTo>
                  <a:pt x="2052" y="2082"/>
                </a:lnTo>
                <a:lnTo>
                  <a:pt x="2115" y="1899"/>
                </a:lnTo>
                <a:lnTo>
                  <a:pt x="2194" y="1705"/>
                </a:lnTo>
                <a:lnTo>
                  <a:pt x="2278" y="1510"/>
                </a:lnTo>
                <a:lnTo>
                  <a:pt x="2369" y="1321"/>
                </a:lnTo>
                <a:lnTo>
                  <a:pt x="2473" y="1134"/>
                </a:lnTo>
                <a:lnTo>
                  <a:pt x="2599" y="933"/>
                </a:lnTo>
                <a:lnTo>
                  <a:pt x="2780" y="694"/>
                </a:lnTo>
                <a:lnTo>
                  <a:pt x="2922" y="518"/>
                </a:lnTo>
                <a:lnTo>
                  <a:pt x="3077" y="352"/>
                </a:lnTo>
                <a:lnTo>
                  <a:pt x="3237" y="211"/>
                </a:lnTo>
                <a:lnTo>
                  <a:pt x="3512" y="0"/>
                </a:lnTo>
                <a:lnTo>
                  <a:pt x="4085" y="0"/>
                </a:lnTo>
                <a:lnTo>
                  <a:pt x="3884" y="164"/>
                </a:lnTo>
                <a:lnTo>
                  <a:pt x="3677" y="366"/>
                </a:lnTo>
                <a:lnTo>
                  <a:pt x="3498" y="550"/>
                </a:lnTo>
                <a:lnTo>
                  <a:pt x="3329" y="732"/>
                </a:lnTo>
                <a:lnTo>
                  <a:pt x="3147" y="954"/>
                </a:lnTo>
                <a:lnTo>
                  <a:pt x="2987" y="1171"/>
                </a:lnTo>
                <a:lnTo>
                  <a:pt x="2876" y="1331"/>
                </a:lnTo>
                <a:lnTo>
                  <a:pt x="2758" y="1540"/>
                </a:lnTo>
                <a:lnTo>
                  <a:pt x="2657" y="1725"/>
                </a:lnTo>
                <a:lnTo>
                  <a:pt x="2583" y="1880"/>
                </a:lnTo>
                <a:lnTo>
                  <a:pt x="2497" y="2076"/>
                </a:lnTo>
                <a:lnTo>
                  <a:pt x="2436" y="2232"/>
                </a:lnTo>
                <a:lnTo>
                  <a:pt x="2396" y="2339"/>
                </a:lnTo>
                <a:lnTo>
                  <a:pt x="2351" y="2480"/>
                </a:lnTo>
                <a:lnTo>
                  <a:pt x="2317" y="2599"/>
                </a:lnTo>
                <a:lnTo>
                  <a:pt x="2606" y="2599"/>
                </a:lnTo>
                <a:lnTo>
                  <a:pt x="2071" y="3130"/>
                </a:lnTo>
                <a:lnTo>
                  <a:pt x="1494" y="2599"/>
                </a:lnTo>
                <a:lnTo>
                  <a:pt x="1782" y="2599"/>
                </a:lnTo>
                <a:lnTo>
                  <a:pt x="1758" y="2508"/>
                </a:lnTo>
                <a:lnTo>
                  <a:pt x="1717" y="2397"/>
                </a:lnTo>
                <a:lnTo>
                  <a:pt x="1657" y="2283"/>
                </a:lnTo>
                <a:lnTo>
                  <a:pt x="1580" y="2142"/>
                </a:lnTo>
                <a:lnTo>
                  <a:pt x="1492" y="1999"/>
                </a:lnTo>
                <a:lnTo>
                  <a:pt x="1415" y="1876"/>
                </a:lnTo>
                <a:lnTo>
                  <a:pt x="1334" y="1752"/>
                </a:lnTo>
                <a:lnTo>
                  <a:pt x="1241" y="1614"/>
                </a:lnTo>
                <a:lnTo>
                  <a:pt x="1164" y="1500"/>
                </a:lnTo>
                <a:lnTo>
                  <a:pt x="1075" y="1364"/>
                </a:lnTo>
                <a:lnTo>
                  <a:pt x="903" y="1126"/>
                </a:lnTo>
                <a:lnTo>
                  <a:pt x="769" y="947"/>
                </a:lnTo>
                <a:lnTo>
                  <a:pt x="659" y="803"/>
                </a:lnTo>
                <a:lnTo>
                  <a:pt x="564" y="683"/>
                </a:lnTo>
                <a:lnTo>
                  <a:pt x="418" y="504"/>
                </a:lnTo>
                <a:lnTo>
                  <a:pt x="284" y="337"/>
                </a:lnTo>
                <a:lnTo>
                  <a:pt x="147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Sélection avec Jointure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2700360" y="1989000"/>
          <a:ext cx="3052800" cy="1717560"/>
        </p:xfrm>
        <a:graphic>
          <a:graphicData uri="http://schemas.openxmlformats.org/drawingml/2006/table">
            <a:tbl>
              <a:tblPr/>
              <a:tblGrid>
                <a:gridCol w="579240"/>
                <a:gridCol w="717840"/>
                <a:gridCol w="877680"/>
                <a:gridCol w="878040"/>
              </a:tblGrid>
              <a:tr h="337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ersonne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PersID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Nom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Prenom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Ville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26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ebeau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acques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ris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oger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Zoe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vry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oe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ohn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ris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0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erry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ule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lenton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5940360" y="1989000"/>
          <a:ext cx="3014640" cy="1727280"/>
        </p:xfrm>
        <a:graphic>
          <a:graphicData uri="http://schemas.openxmlformats.org/drawingml/2006/table">
            <a:tbl>
              <a:tblPr/>
              <a:tblGrid>
                <a:gridCol w="539640"/>
                <a:gridCol w="519120"/>
                <a:gridCol w="540000"/>
                <a:gridCol w="820800"/>
                <a:gridCol w="595080"/>
              </a:tblGrid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          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actures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ServID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PersID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FactID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Date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Prix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26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 juin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0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27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 août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0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 juillet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0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 mars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0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4" name=""/>
          <p:cNvGraphicFramePr/>
          <p:nvPr/>
        </p:nvGraphicFramePr>
        <p:xfrm>
          <a:off x="3132000" y="5359320"/>
          <a:ext cx="5481720" cy="1382760"/>
        </p:xfrm>
        <a:graphic>
          <a:graphicData uri="http://schemas.openxmlformats.org/drawingml/2006/table">
            <a:tbl>
              <a:tblPr/>
              <a:tblGrid>
                <a:gridCol w="519120"/>
                <a:gridCol w="708120"/>
                <a:gridCol w="785880"/>
                <a:gridCol w="539640"/>
                <a:gridCol w="540000"/>
                <a:gridCol w="519120"/>
                <a:gridCol w="539640"/>
                <a:gridCol w="820800"/>
                <a:gridCol w="5094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PersID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Nom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Prénom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Ville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ServID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PersID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FactID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Date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99ff66"/>
                          </a:solidFill>
                          <a:latin typeface="Arial Narrow"/>
                        </a:rPr>
                        <a:t>Prix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26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ebeau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acques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ris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 août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0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26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oger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Zoe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vry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 juin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0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0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oger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Zoe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vry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 juillet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0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0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oe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ohn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ris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 mars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0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5" name=""/>
          <p:cNvSpPr/>
          <p:nvPr/>
        </p:nvSpPr>
        <p:spPr>
          <a:xfrm>
            <a:off x="5337000" y="3933720"/>
            <a:ext cx="890640" cy="843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 Narrow"/>
              </a:rPr>
              <a:t>J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84000" y="1052280"/>
            <a:ext cx="648036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SELECT * FROM Personnes P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NNER JOIN Factures Fact ON Pers.PersID = Fact.PersI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7" name=""/>
          <p:cNvSpPr/>
          <p:nvPr/>
        </p:nvSpPr>
        <p:spPr>
          <a:xfrm>
            <a:off x="3008160" y="1995480"/>
            <a:ext cx="3724560" cy="339840"/>
          </a:xfrm>
          <a:custGeom>
            <a:avLst/>
            <a:gdLst/>
            <a:ahLst/>
            <a:rect l="l" t="t" r="r" b="b"/>
            <a:pathLst>
              <a:path w="2346" h="214">
                <a:moveTo>
                  <a:pt x="2346" y="214"/>
                </a:moveTo>
                <a:lnTo>
                  <a:pt x="2345" y="10"/>
                </a:lnTo>
                <a:lnTo>
                  <a:pt x="0" y="0"/>
                </a:lnTo>
                <a:lnTo>
                  <a:pt x="0" y="207"/>
                </a:lnTo>
              </a:path>
            </a:pathLst>
          </a:custGeom>
          <a:noFill/>
          <a:ln w="76320">
            <a:solidFill>
              <a:srgbClr val="00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85D05-9DE6-478C-8E67-0A3B5E158EA7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42920" y="-360"/>
            <a:ext cx="6049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Éxécution de la jointure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19" name=""/>
          <p:cNvSpPr/>
          <p:nvPr/>
        </p:nvSpPr>
        <p:spPr>
          <a:xfrm>
            <a:off x="6316200" y="6284880"/>
            <a:ext cx="1041840" cy="459720"/>
          </a:xfrm>
          <a:prstGeom prst="rect">
            <a:avLst/>
          </a:pr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00"/>
                </a:solidFill>
                <a:latin typeface="Arial Narrow"/>
              </a:rPr>
              <a:t>Table 2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4559400" y="1341000"/>
            <a:ext cx="2609640" cy="4947120"/>
            <a:chOff x="4559400" y="1341000"/>
            <a:chExt cx="2609640" cy="4947120"/>
          </a:xfrm>
        </p:grpSpPr>
        <p:sp>
          <p:nvSpPr>
            <p:cNvPr id="521" name=""/>
            <p:cNvSpPr/>
            <p:nvPr/>
          </p:nvSpPr>
          <p:spPr>
            <a:xfrm flipH="1" flipV="1">
              <a:off x="5796000" y="3341880"/>
              <a:ext cx="1069920" cy="96840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4765680" y="3343320"/>
              <a:ext cx="1069920" cy="96840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5805360" y="1341000"/>
              <a:ext cx="0" cy="207180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457960" y="2997360"/>
              <a:ext cx="698400" cy="722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00"/>
                  </a:solidFill>
                  <a:latin typeface="Arial Rounded MT Bold"/>
                </a:rPr>
                <a:t>J</a:t>
              </a:r>
              <a:endParaRPr b="0" lang="en-US" sz="4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56160" y="1706760"/>
              <a:ext cx="698400" cy="722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00"/>
                  </a:solidFill>
                  <a:latin typeface="Arial Rounded MT Bold"/>
                </a:rPr>
                <a:t>C</a:t>
              </a:r>
              <a:endParaRPr b="0" lang="en-US" sz="4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 flipV="1">
              <a:off x="6819480" y="4106520"/>
              <a:ext cx="3240" cy="217188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470640" y="3811680"/>
              <a:ext cx="698400" cy="722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00"/>
                  </a:solidFill>
                  <a:latin typeface="Arial Rounded MT Bold"/>
                </a:rPr>
                <a:t>C</a:t>
              </a:r>
              <a:endParaRPr b="0" lang="en-US" sz="4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472080" y="4924440"/>
              <a:ext cx="696960" cy="722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00"/>
                  </a:solidFill>
                  <a:latin typeface="Arial Rounded MT Bold"/>
                </a:rPr>
                <a:t>L</a:t>
              </a:r>
              <a:endParaRPr b="0" lang="en-US" sz="4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 flipV="1">
              <a:off x="4908240" y="4116600"/>
              <a:ext cx="3240" cy="217152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59400" y="3821040"/>
              <a:ext cx="698400" cy="722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00"/>
                  </a:solidFill>
                  <a:latin typeface="Arial Rounded MT Bold"/>
                </a:rPr>
                <a:t>C</a:t>
              </a:r>
              <a:endParaRPr b="0" lang="en-US" sz="4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560840" y="4934160"/>
              <a:ext cx="696960" cy="722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00"/>
                  </a:solidFill>
                  <a:latin typeface="Arial Rounded MT Bold"/>
                </a:rPr>
                <a:t>L</a:t>
              </a:r>
              <a:endParaRPr b="0" lang="en-US" sz="4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4371480" y="6284880"/>
            <a:ext cx="1041840" cy="459720"/>
          </a:xfrm>
          <a:prstGeom prst="rect">
            <a:avLst/>
          </a:pr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00"/>
                </a:solidFill>
                <a:latin typeface="Arial Narrow"/>
              </a:rPr>
              <a:t>Table 1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195520" y="836640"/>
            <a:ext cx="1305360" cy="459720"/>
          </a:xfrm>
          <a:prstGeom prst="rect">
            <a:avLst/>
          </a:pr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00"/>
                </a:solidFill>
                <a:latin typeface="Arial Narrow"/>
              </a:rPr>
              <a:t>Résultat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ABBAF-D2CE-41F1-9B8C-67F7F14D9CDB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Définitions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843280" y="4076640"/>
            <a:ext cx="597672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Notes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nformations structurées selon un modè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Notion d'utilisation (recherche, mise à jour,...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Le SGBD garde et gère les données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Définir la structure donné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Manipuler et rechercher les donné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ontrôler et sécuriser les donné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-57600" y="219096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16360" y="981000"/>
            <a:ext cx="532764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Base de donné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16360" y="1413000"/>
            <a:ext cx="5327640" cy="1008720"/>
          </a:xfrm>
          <a:prstGeom prst="rect">
            <a:avLst/>
          </a:prstGeom>
          <a:solidFill>
            <a:srgbClr val="dddddd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Ensemble structuré d'information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organisées selon un modèle de donné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en vue d'une utilisation ultérieur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16360" y="2565360"/>
            <a:ext cx="532764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Système de gestion de base de données (SGBD)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16360" y="2995560"/>
            <a:ext cx="5327640" cy="703800"/>
          </a:xfrm>
          <a:prstGeom prst="rect">
            <a:avLst/>
          </a:prstGeom>
          <a:solidFill>
            <a:srgbClr val="dddddd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Logiciel permettant une gestion efficace et performante de la base de données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1E6C2-08DC-4107-8226-FCF731C61C50}" type="slidenum">
              <a:t>7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Sélections avec Union - SELECT &amp; UNION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340000" y="914040"/>
            <a:ext cx="6804000" cy="57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Combiner les lignes de plusieurs tab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l faut que les colonnes correspondent bie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On peut renommer certaines colonn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Syntaxe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ELECT &lt;ColonneA&gt;, &lt;ColonneB&gt; ..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FROM &lt;Table1&gt;  WHERE &lt;Condition1&gt;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UN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ELECT &lt;ColonneA&gt;, &lt;ColonneC&gt; AS &lt;ColonneB&gt;..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FROM &lt;Table2&gt;  WHERE &lt;Condition2&gt;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xemple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ELECT Nom, Prenom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FROM Personn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UN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ELECT LastName as Nom, FirstName AS Preno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FROM User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3FA9C-BD85-4BF6-9312-FF86DF95217F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Sous-Sélections - SELECT &amp; SELECT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340000" y="914040"/>
            <a:ext cx="6804000" cy="57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Utiliser les résultats d'une sélection dans une autre séle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Puissant mais parfois complex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Différents type d'imbrications: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N, EXISTS, ..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Syntaxe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ELECT &lt;Colonnes&gt;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FROM &lt;Table1&gt; &lt;Alias1&gt;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WHERE &lt;Alias1&gt;.&lt;Colonne1&gt; &lt;Type d'imbrications&gt;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(SELECT &lt;Alias2&gt;.&lt;Colonne2&gt; FROM &lt;Table2&gt; &lt;Alias2&gt;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xemple: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(Organisations qui ont au moins 1 membr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ELECT Org.No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FROM Organisations Org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WHERE Org.OrgID IN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(SELECT Pers.OrgID FROM Personnes Pers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EFE65-2CAE-4A7E-84AF-5D280DC005AC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Fonctions - SELECT &amp; Calculs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340000" y="914040"/>
            <a:ext cx="6804000" cy="57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Calculer certaines colonnes en fonction d'autres colonnes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(numériques, combinaisons de texte, ...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Beaucoup de fonctions sont disponib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Variations selon les SGB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Syntaxe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ELECT &lt;Colonne1&gt; &lt;Opération&gt; &lt;Colonne2&gt;,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&lt;Fonction&gt;(&lt;Colonne3&gt;, &lt;Colonne4&gt; ...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FROM &lt;Table&gt;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xemple: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(Nom Complet et Initia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ELECT Prenom + ' ' + Nom AS NomComplet,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EFT(Prenom,1) + Left(Nom,1) AS Initial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FROM Personn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DB878-243D-4EA8-8C39-EC60D79425F2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Agrégats - SELECT &amp; Statistiques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340000" y="914400"/>
            <a:ext cx="6804000" cy="58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Obtenir des informations globales sur un groupe de lignes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(Total, Mininum, Maximum, Moyenne, ...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Fonctions statistiques standard: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COUNT, SUM, MIN, MAX, AV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2 Clauses spéciales pour agrégats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GROUP BY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our spécifier le regroupemen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HAVING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our spécifier des conditions de regroupemen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Syntaxe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ELECT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&lt;Fonction&gt;, &lt;Colonnes&gt;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FROM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&lt;Table&gt;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GROUP BY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&lt;Colonnes1&gt;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HAVING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&lt;Condition de regroupement&gt;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xemple: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(Compter les personnes par Organisation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ELECT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OUNT(PersID) FROM Personn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HAVING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OrgID IS NOT NUL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GROUP BY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OrgID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E25B9-6102-4336-9BCF-AC16047FEC28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SQL - Récapitulation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437920" y="914040"/>
            <a:ext cx="67057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Langage très complet de gestion de base de donné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Différentes utilisations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onception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(Programmeurs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dministration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(Administrateurs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Mise à jour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(Opérateurs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echerche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(Utilisateurs, Managers, ...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Juste un bref aperçu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n pratique, se familiariser avec un SGBD particuli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E1B8A-7FAA-4B51-A87D-7D631BE1CDB1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ccff99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4360" y="2924280"/>
            <a:ext cx="7920000" cy="151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3300"/>
                </a:solidFill>
                <a:latin typeface="Arial Rounded MT Bold"/>
              </a:rPr>
              <a:t>5. Bases de Données sur Internet</a:t>
            </a: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Arial Narrow"/>
              </a:rPr>
              <a:t>Atelier de formation sous-régional </a:t>
            </a:r>
            <a:br>
              <a:rPr sz="2800"/>
            </a:br>
            <a:r>
              <a:rPr b="1" i="1" lang="fr-FR" sz="2800" spc="-1" strike="noStrike">
                <a:solidFill>
                  <a:srgbClr val="ffffff"/>
                </a:solidFill>
                <a:latin typeface="Arial Narrow"/>
              </a:rPr>
              <a:t> sur la mise en oeuvre du Centre d'Échange CHM </a:t>
            </a:r>
            <a:br>
              <a:rPr sz="2800"/>
            </a:br>
            <a:r>
              <a:rPr b="1" i="1" lang="fr-FR" sz="2800" spc="-1" strike="noStrike">
                <a:solidFill>
                  <a:srgbClr val="ffffff"/>
                </a:solidFill>
                <a:latin typeface="Arial Narrow"/>
              </a:rPr>
              <a:t>de la Convention sur  la Diversité Biologique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 Narrow"/>
              </a:rPr>
              <a:t>6-17 Novembre 2006                                   Antananarivo, Madagascar</a:t>
            </a:r>
            <a:endParaRPr b="1" i="1" lang="en-US" sz="2000" spc="-1" strike="noStrike">
              <a:solidFill>
                <a:srgbClr val="0033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Introduction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700000" y="981000"/>
            <a:ext cx="6443640" cy="526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Bases de données sur Intern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Une des applications des bases de donné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ujet vaste et très technique </a:t>
            </a:r>
            <a:r>
              <a:rPr b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brève introduct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Très utile aux webmaster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Contenu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Modèle client serveur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ages web statiqu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ages web dynamiqu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Technologies disponibl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7E938-5B44-402B-AE8F-876331B0FF0C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Modèle Client-Serveur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700000" y="3141720"/>
            <a:ext cx="6227640" cy="17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Serveur Web  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Pages web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Serveur de BD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nforma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Un Serveur peut servir plusieurs Clie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Un Serveur peut aussi être un Cli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0" name=""/>
          <p:cNvSpPr/>
          <p:nvPr/>
        </p:nvSpPr>
        <p:spPr>
          <a:xfrm>
            <a:off x="2771640" y="1484280"/>
            <a:ext cx="496908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 Narrow"/>
              </a:rPr>
              <a:t>       </a:t>
            </a:r>
            <a:r>
              <a:rPr b="1" lang="en-US" sz="2200" spc="-1" strike="noStrike">
                <a:solidFill>
                  <a:srgbClr val="003300"/>
                </a:solidFill>
                <a:latin typeface="Arial Narrow"/>
              </a:rPr>
              <a:t>1. Le Client  </a:t>
            </a:r>
            <a:r>
              <a:rPr b="1" lang="en-US" sz="2200" spc="-1" strike="noStrike">
                <a:solidFill>
                  <a:srgbClr val="003300"/>
                </a:solidFill>
                <a:latin typeface="Arial Narrow"/>
              </a:rPr>
              <a:t>	</a:t>
            </a:r>
            <a:r>
              <a:rPr b="1" lang="en-US" sz="2200" spc="-1" strike="noStrike">
                <a:solidFill>
                  <a:srgbClr val="003300"/>
                </a:solidFill>
                <a:latin typeface="Arial Narrow"/>
              </a:rPr>
              <a:t>	</a:t>
            </a:r>
            <a:r>
              <a:rPr b="1" lang="en-US" sz="2200" spc="-1" strike="noStrike">
                <a:solidFill>
                  <a:srgbClr val="003300"/>
                </a:solidFill>
                <a:latin typeface="Arial Narrow"/>
              </a:rPr>
              <a:t>  2. Le Serveur</a:t>
            </a:r>
            <a:br>
              <a:rPr sz="2200"/>
            </a:br>
            <a:r>
              <a:rPr b="1" lang="en-US" sz="2200" spc="-1" strike="noStrike">
                <a:solidFill>
                  <a:srgbClr val="003300"/>
                </a:solidFill>
                <a:latin typeface="Arial Narrow"/>
              </a:rPr>
              <a:t>       commande</a:t>
            </a:r>
            <a:r>
              <a:rPr b="1" lang="en-US" sz="2200" spc="-1" strike="noStrike">
                <a:solidFill>
                  <a:srgbClr val="003300"/>
                </a:solidFill>
                <a:latin typeface="Arial Narrow"/>
              </a:rPr>
              <a:t>	</a:t>
            </a:r>
            <a:r>
              <a:rPr b="1" lang="en-US" sz="2200" spc="-1" strike="noStrike">
                <a:solidFill>
                  <a:srgbClr val="003300"/>
                </a:solidFill>
                <a:latin typeface="Arial Narrow"/>
              </a:rPr>
              <a:t>	</a:t>
            </a:r>
            <a:r>
              <a:rPr b="1" lang="en-US" sz="2200" spc="-1" strike="noStrike">
                <a:solidFill>
                  <a:srgbClr val="003300"/>
                </a:solidFill>
                <a:latin typeface="Arial Narrow"/>
              </a:rPr>
              <a:t>  sert (renvoie)</a:t>
            </a:r>
            <a:br>
              <a:rPr sz="2200"/>
            </a:br>
            <a:r>
              <a:rPr b="1" lang="en-US" sz="2200" spc="-1" strike="noStrike">
                <a:solidFill>
                  <a:srgbClr val="003300"/>
                </a:solidFill>
                <a:latin typeface="Arial Narrow"/>
              </a:rPr>
              <a:t>  des informations</a:t>
            </a:r>
            <a:r>
              <a:rPr b="1" lang="en-US" sz="2200" spc="-1" strike="noStrike">
                <a:solidFill>
                  <a:srgbClr val="003300"/>
                </a:solidFill>
                <a:latin typeface="Arial Narrow"/>
              </a:rPr>
              <a:t>	</a:t>
            </a:r>
            <a:r>
              <a:rPr b="1" lang="en-US" sz="2200" spc="-1" strike="noStrike">
                <a:solidFill>
                  <a:srgbClr val="003300"/>
                </a:solidFill>
                <a:latin typeface="Arial Narrow"/>
              </a:rPr>
              <a:t>les informations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627280" y="909720"/>
            <a:ext cx="59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 Narrow"/>
              </a:rPr>
              <a:t>Analogie avec la réalité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8CDF2-A05D-4C61-A2C5-AFE5A8E31DA9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300720" y="1125360"/>
            <a:ext cx="2303640" cy="1872000"/>
          </a:xfrm>
          <a:prstGeom prst="roundRect">
            <a:avLst>
              <a:gd name="adj" fmla="val 16667"/>
            </a:avLst>
          </a:prstGeom>
          <a:solidFill>
            <a:srgbClr val="c0c0c0">
              <a:alpha val="30000"/>
            </a:srgbClr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411280" y="1125360"/>
            <a:ext cx="1584360" cy="18003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1800360"/>
              <a:gd name="textAreaBottom" fmla="*/ 1723320 h 1800360"/>
            </a:gdLst>
            <a:ahLst/>
            <a:rect l="textAreaLeft" t="textAreaTop" r="textAreaRight" b="textAreaBottom"/>
            <a:pathLst>
              <a:path w="21600" h="24544">
                <a:moveTo>
                  <a:pt x="3600" y="0"/>
                </a:moveTo>
                <a:arcTo wR="3600" hR="3600" stAng="16200000" swAng="-5400000"/>
                <a:lnTo>
                  <a:pt x="0" y="20944"/>
                </a:lnTo>
                <a:arcTo wR="3600" hR="3600" stAng="10800000" swAng="-5400000"/>
                <a:lnTo>
                  <a:pt x="18000" y="24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>
              <a:alpha val="30000"/>
            </a:srgbClr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Client-Serveur - Page web statique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484000" y="3860640"/>
            <a:ext cx="6551640" cy="28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2 Étapes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e Client envoie l'adresse d'une page web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e Serveur renvoie le contenu du fichier HTM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Notes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e serveur ne fait que renvoyer le contenu du fichier HTM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e contenu du fichier HTML a été préparé à l'avanc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Le fichier HTML est une PAGE WEB STATIQU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659640" y="1628640"/>
            <a:ext cx="504360" cy="1008000"/>
            <a:chOff x="6659640" y="1628640"/>
            <a:chExt cx="504360" cy="1008000"/>
          </a:xfrm>
        </p:grpSpPr>
        <p:sp>
          <p:nvSpPr>
            <p:cNvPr id="557" name=""/>
            <p:cNvSpPr/>
            <p:nvPr/>
          </p:nvSpPr>
          <p:spPr>
            <a:xfrm>
              <a:off x="7019280" y="2444760"/>
              <a:ext cx="144720" cy="180360"/>
            </a:xfrm>
            <a:custGeom>
              <a:avLst/>
              <a:gdLst/>
              <a:ahLst/>
              <a:rect l="l" t="t" r="r" b="b"/>
              <a:pathLst>
                <a:path w="433" h="640">
                  <a:moveTo>
                    <a:pt x="0" y="441"/>
                  </a:moveTo>
                  <a:lnTo>
                    <a:pt x="289" y="0"/>
                  </a:lnTo>
                  <a:lnTo>
                    <a:pt x="414" y="68"/>
                  </a:lnTo>
                  <a:lnTo>
                    <a:pt x="433" y="144"/>
                  </a:lnTo>
                  <a:lnTo>
                    <a:pt x="138" y="640"/>
                  </a:lnTo>
                  <a:lnTo>
                    <a:pt x="0" y="441"/>
                  </a:lnTo>
                  <a:lnTo>
                    <a:pt x="0" y="4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664680" y="1635120"/>
              <a:ext cx="411840" cy="997200"/>
            </a:xfrm>
            <a:custGeom>
              <a:avLst/>
              <a:gdLst/>
              <a:ahLst/>
              <a:rect l="l" t="t" r="r" b="b"/>
              <a:pathLst>
                <a:path w="1234" h="3549">
                  <a:moveTo>
                    <a:pt x="104" y="0"/>
                  </a:moveTo>
                  <a:lnTo>
                    <a:pt x="1074" y="19"/>
                  </a:lnTo>
                  <a:lnTo>
                    <a:pt x="1061" y="3289"/>
                  </a:lnTo>
                  <a:lnTo>
                    <a:pt x="1234" y="3549"/>
                  </a:lnTo>
                  <a:lnTo>
                    <a:pt x="0" y="3433"/>
                  </a:lnTo>
                  <a:lnTo>
                    <a:pt x="104" y="3247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62160" y="2559960"/>
              <a:ext cx="407880" cy="66600"/>
            </a:xfrm>
            <a:custGeom>
              <a:avLst/>
              <a:gdLst/>
              <a:ahLst/>
              <a:rect l="l" t="t" r="r" b="b"/>
              <a:pathLst>
                <a:path w="1223" h="238">
                  <a:moveTo>
                    <a:pt x="88" y="0"/>
                  </a:moveTo>
                  <a:lnTo>
                    <a:pt x="1122" y="80"/>
                  </a:lnTo>
                  <a:lnTo>
                    <a:pt x="1150" y="126"/>
                  </a:lnTo>
                  <a:lnTo>
                    <a:pt x="202" y="63"/>
                  </a:lnTo>
                  <a:lnTo>
                    <a:pt x="1188" y="164"/>
                  </a:lnTo>
                  <a:lnTo>
                    <a:pt x="1223" y="238"/>
                  </a:lnTo>
                  <a:lnTo>
                    <a:pt x="0" y="137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700320" y="1660680"/>
              <a:ext cx="65160" cy="883440"/>
            </a:xfrm>
            <a:custGeom>
              <a:avLst/>
              <a:gdLst/>
              <a:ahLst/>
              <a:rect l="l" t="t" r="r" b="b"/>
              <a:pathLst>
                <a:path w="198" h="3144">
                  <a:moveTo>
                    <a:pt x="4" y="0"/>
                  </a:moveTo>
                  <a:lnTo>
                    <a:pt x="53" y="4"/>
                  </a:lnTo>
                  <a:lnTo>
                    <a:pt x="61" y="57"/>
                  </a:lnTo>
                  <a:lnTo>
                    <a:pt x="194" y="61"/>
                  </a:lnTo>
                  <a:lnTo>
                    <a:pt x="198" y="354"/>
                  </a:lnTo>
                  <a:lnTo>
                    <a:pt x="61" y="365"/>
                  </a:lnTo>
                  <a:lnTo>
                    <a:pt x="76" y="3144"/>
                  </a:lnTo>
                  <a:lnTo>
                    <a:pt x="0" y="314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03560" y="1645920"/>
              <a:ext cx="304920" cy="921960"/>
            </a:xfrm>
            <a:custGeom>
              <a:avLst/>
              <a:gdLst/>
              <a:ahLst/>
              <a:rect l="l" t="t" r="r" b="b"/>
              <a:pathLst>
                <a:path w="912" h="3281">
                  <a:moveTo>
                    <a:pt x="45" y="0"/>
                  </a:moveTo>
                  <a:lnTo>
                    <a:pt x="49" y="42"/>
                  </a:lnTo>
                  <a:lnTo>
                    <a:pt x="104" y="42"/>
                  </a:lnTo>
                  <a:lnTo>
                    <a:pt x="104" y="97"/>
                  </a:lnTo>
                  <a:lnTo>
                    <a:pt x="213" y="105"/>
                  </a:lnTo>
                  <a:lnTo>
                    <a:pt x="216" y="405"/>
                  </a:lnTo>
                  <a:lnTo>
                    <a:pt x="97" y="439"/>
                  </a:lnTo>
                  <a:lnTo>
                    <a:pt x="140" y="3000"/>
                  </a:lnTo>
                  <a:lnTo>
                    <a:pt x="91" y="3022"/>
                  </a:lnTo>
                  <a:lnTo>
                    <a:pt x="11" y="3013"/>
                  </a:lnTo>
                  <a:lnTo>
                    <a:pt x="0" y="3197"/>
                  </a:lnTo>
                  <a:lnTo>
                    <a:pt x="908" y="3281"/>
                  </a:lnTo>
                  <a:lnTo>
                    <a:pt x="910" y="424"/>
                  </a:lnTo>
                  <a:lnTo>
                    <a:pt x="741" y="413"/>
                  </a:lnTo>
                  <a:lnTo>
                    <a:pt x="732" y="112"/>
                  </a:lnTo>
                  <a:lnTo>
                    <a:pt x="874" y="105"/>
                  </a:lnTo>
                  <a:lnTo>
                    <a:pt x="874" y="38"/>
                  </a:lnTo>
                  <a:lnTo>
                    <a:pt x="912" y="34"/>
                  </a:lnTo>
                  <a:lnTo>
                    <a:pt x="912" y="0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021440" y="1632960"/>
              <a:ext cx="118800" cy="933480"/>
            </a:xfrm>
            <a:custGeom>
              <a:avLst/>
              <a:gdLst/>
              <a:ahLst/>
              <a:rect l="l" t="t" r="r" b="b"/>
              <a:pathLst>
                <a:path w="358" h="3322">
                  <a:moveTo>
                    <a:pt x="0" y="0"/>
                  </a:moveTo>
                  <a:lnTo>
                    <a:pt x="14" y="3322"/>
                  </a:lnTo>
                  <a:lnTo>
                    <a:pt x="358" y="2824"/>
                  </a:lnTo>
                  <a:lnTo>
                    <a:pt x="301" y="1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691680" y="1628640"/>
              <a:ext cx="439920" cy="380880"/>
            </a:xfrm>
            <a:custGeom>
              <a:avLst/>
              <a:gdLst/>
              <a:ahLst/>
              <a:rect l="l" t="t" r="r" b="b"/>
              <a:pathLst>
                <a:path w="1318" h="1356">
                  <a:moveTo>
                    <a:pt x="0" y="0"/>
                  </a:moveTo>
                  <a:lnTo>
                    <a:pt x="991" y="2"/>
                  </a:lnTo>
                  <a:lnTo>
                    <a:pt x="1318" y="145"/>
                  </a:lnTo>
                  <a:lnTo>
                    <a:pt x="1314" y="1356"/>
                  </a:lnTo>
                  <a:lnTo>
                    <a:pt x="1269" y="164"/>
                  </a:lnTo>
                  <a:lnTo>
                    <a:pt x="980" y="40"/>
                  </a:lnTo>
                  <a:lnTo>
                    <a:pt x="33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664320" y="1628640"/>
              <a:ext cx="371880" cy="965880"/>
            </a:xfrm>
            <a:custGeom>
              <a:avLst/>
              <a:gdLst/>
              <a:ahLst/>
              <a:rect l="l" t="t" r="r" b="b"/>
              <a:pathLst>
                <a:path w="1114" h="3435">
                  <a:moveTo>
                    <a:pt x="85" y="0"/>
                  </a:moveTo>
                  <a:lnTo>
                    <a:pt x="85" y="3237"/>
                  </a:lnTo>
                  <a:lnTo>
                    <a:pt x="0" y="3435"/>
                  </a:lnTo>
                  <a:lnTo>
                    <a:pt x="129" y="3306"/>
                  </a:lnTo>
                  <a:lnTo>
                    <a:pt x="1085" y="3363"/>
                  </a:lnTo>
                  <a:lnTo>
                    <a:pt x="1114" y="3313"/>
                  </a:lnTo>
                  <a:lnTo>
                    <a:pt x="878" y="3306"/>
                  </a:lnTo>
                  <a:lnTo>
                    <a:pt x="829" y="3270"/>
                  </a:lnTo>
                  <a:lnTo>
                    <a:pt x="378" y="3237"/>
                  </a:lnTo>
                  <a:lnTo>
                    <a:pt x="348" y="3266"/>
                  </a:lnTo>
                  <a:lnTo>
                    <a:pt x="127" y="3237"/>
                  </a:lnTo>
                  <a:lnTo>
                    <a:pt x="129" y="38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736320" y="1760040"/>
              <a:ext cx="265680" cy="754200"/>
            </a:xfrm>
            <a:custGeom>
              <a:avLst/>
              <a:gdLst/>
              <a:ahLst/>
              <a:rect l="l" t="t" r="r" b="b"/>
              <a:pathLst>
                <a:path w="796" h="2684">
                  <a:moveTo>
                    <a:pt x="0" y="82"/>
                  </a:moveTo>
                  <a:lnTo>
                    <a:pt x="732" y="89"/>
                  </a:lnTo>
                  <a:lnTo>
                    <a:pt x="720" y="53"/>
                  </a:lnTo>
                  <a:lnTo>
                    <a:pt x="635" y="0"/>
                  </a:lnTo>
                  <a:lnTo>
                    <a:pt x="796" y="0"/>
                  </a:lnTo>
                  <a:lnTo>
                    <a:pt x="773" y="28"/>
                  </a:lnTo>
                  <a:lnTo>
                    <a:pt x="771" y="2684"/>
                  </a:lnTo>
                  <a:lnTo>
                    <a:pt x="728" y="1023"/>
                  </a:lnTo>
                  <a:lnTo>
                    <a:pt x="22" y="1002"/>
                  </a:lnTo>
                  <a:lnTo>
                    <a:pt x="43" y="981"/>
                  </a:lnTo>
                  <a:lnTo>
                    <a:pt x="732" y="994"/>
                  </a:lnTo>
                  <a:lnTo>
                    <a:pt x="732" y="808"/>
                  </a:lnTo>
                  <a:lnTo>
                    <a:pt x="19" y="791"/>
                  </a:lnTo>
                  <a:lnTo>
                    <a:pt x="19" y="762"/>
                  </a:lnTo>
                  <a:lnTo>
                    <a:pt x="735" y="779"/>
                  </a:lnTo>
                  <a:lnTo>
                    <a:pt x="728" y="555"/>
                  </a:lnTo>
                  <a:lnTo>
                    <a:pt x="7" y="540"/>
                  </a:lnTo>
                  <a:lnTo>
                    <a:pt x="11" y="515"/>
                  </a:lnTo>
                  <a:lnTo>
                    <a:pt x="745" y="515"/>
                  </a:lnTo>
                  <a:lnTo>
                    <a:pt x="713" y="135"/>
                  </a:lnTo>
                  <a:lnTo>
                    <a:pt x="631" y="122"/>
                  </a:lnTo>
                  <a:lnTo>
                    <a:pt x="566" y="139"/>
                  </a:lnTo>
                  <a:lnTo>
                    <a:pt x="108" y="135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85640" y="1802160"/>
              <a:ext cx="163440" cy="24480"/>
            </a:xfrm>
            <a:custGeom>
              <a:avLst/>
              <a:gdLst/>
              <a:ahLst/>
              <a:rect l="l" t="t" r="r" b="b"/>
              <a:pathLst>
                <a:path w="490" h="88">
                  <a:moveTo>
                    <a:pt x="2" y="8"/>
                  </a:moveTo>
                  <a:lnTo>
                    <a:pt x="487" y="0"/>
                  </a:lnTo>
                  <a:lnTo>
                    <a:pt x="490" y="40"/>
                  </a:lnTo>
                  <a:lnTo>
                    <a:pt x="338" y="42"/>
                  </a:lnTo>
                  <a:lnTo>
                    <a:pt x="338" y="88"/>
                  </a:lnTo>
                  <a:lnTo>
                    <a:pt x="310" y="61"/>
                  </a:lnTo>
                  <a:lnTo>
                    <a:pt x="165" y="63"/>
                  </a:lnTo>
                  <a:lnTo>
                    <a:pt x="154" y="36"/>
                  </a:lnTo>
                  <a:lnTo>
                    <a:pt x="0" y="38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910560" y="1816920"/>
              <a:ext cx="43200" cy="14040"/>
            </a:xfrm>
            <a:custGeom>
              <a:avLst/>
              <a:gdLst/>
              <a:ahLst/>
              <a:rect l="l" t="t" r="r" b="b"/>
              <a:pathLst>
                <a:path w="130" h="52">
                  <a:moveTo>
                    <a:pt x="6" y="33"/>
                  </a:moveTo>
                  <a:lnTo>
                    <a:pt x="99" y="33"/>
                  </a:lnTo>
                  <a:lnTo>
                    <a:pt x="101" y="16"/>
                  </a:lnTo>
                  <a:lnTo>
                    <a:pt x="6" y="16"/>
                  </a:lnTo>
                  <a:lnTo>
                    <a:pt x="2" y="2"/>
                  </a:lnTo>
                  <a:lnTo>
                    <a:pt x="128" y="0"/>
                  </a:lnTo>
                  <a:lnTo>
                    <a:pt x="130" y="52"/>
                  </a:lnTo>
                  <a:lnTo>
                    <a:pt x="0" y="48"/>
                  </a:lnTo>
                  <a:lnTo>
                    <a:pt x="6" y="33"/>
                  </a:lnTo>
                  <a:lnTo>
                    <a:pt x="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736320" y="1782360"/>
              <a:ext cx="7200" cy="127080"/>
            </a:xfrm>
            <a:custGeom>
              <a:avLst/>
              <a:gdLst/>
              <a:ahLst/>
              <a:rect l="l" t="t" r="r" b="b"/>
              <a:pathLst>
                <a:path w="22" h="452">
                  <a:moveTo>
                    <a:pt x="0" y="0"/>
                  </a:moveTo>
                  <a:lnTo>
                    <a:pt x="5" y="452"/>
                  </a:lnTo>
                  <a:lnTo>
                    <a:pt x="22" y="450"/>
                  </a:lnTo>
                  <a:lnTo>
                    <a:pt x="15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941160" y="1886400"/>
              <a:ext cx="29880" cy="1332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3" y="0"/>
                  </a:moveTo>
                  <a:lnTo>
                    <a:pt x="0" y="42"/>
                  </a:lnTo>
                  <a:lnTo>
                    <a:pt x="89" y="48"/>
                  </a:lnTo>
                  <a:lnTo>
                    <a:pt x="89" y="12"/>
                  </a:lnTo>
                  <a:lnTo>
                    <a:pt x="70" y="27"/>
                  </a:lnTo>
                  <a:lnTo>
                    <a:pt x="19" y="29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977520" y="1654200"/>
              <a:ext cx="19080" cy="21600"/>
            </a:xfrm>
            <a:custGeom>
              <a:avLst/>
              <a:gdLst/>
              <a:ahLst/>
              <a:rect l="l" t="t" r="r" b="b"/>
              <a:pathLst>
                <a:path w="57" h="77">
                  <a:moveTo>
                    <a:pt x="53" y="0"/>
                  </a:moveTo>
                  <a:lnTo>
                    <a:pt x="0" y="41"/>
                  </a:lnTo>
                  <a:lnTo>
                    <a:pt x="0" y="77"/>
                  </a:lnTo>
                  <a:lnTo>
                    <a:pt x="57" y="74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945840" y="1676880"/>
              <a:ext cx="8280" cy="84600"/>
            </a:xfrm>
            <a:custGeom>
              <a:avLst/>
              <a:gdLst/>
              <a:ahLst/>
              <a:rect l="l" t="t" r="r" b="b"/>
              <a:pathLst>
                <a:path w="25" h="303">
                  <a:moveTo>
                    <a:pt x="0" y="2"/>
                  </a:moveTo>
                  <a:lnTo>
                    <a:pt x="4" y="303"/>
                  </a:lnTo>
                  <a:lnTo>
                    <a:pt x="25" y="303"/>
                  </a:lnTo>
                  <a:lnTo>
                    <a:pt x="23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954480" y="1677960"/>
              <a:ext cx="51840" cy="80280"/>
            </a:xfrm>
            <a:custGeom>
              <a:avLst/>
              <a:gdLst/>
              <a:ahLst/>
              <a:rect l="l" t="t" r="r" b="b"/>
              <a:pathLst>
                <a:path w="155" h="287">
                  <a:moveTo>
                    <a:pt x="133" y="2"/>
                  </a:moveTo>
                  <a:lnTo>
                    <a:pt x="135" y="141"/>
                  </a:lnTo>
                  <a:lnTo>
                    <a:pt x="9" y="143"/>
                  </a:lnTo>
                  <a:lnTo>
                    <a:pt x="0" y="156"/>
                  </a:lnTo>
                  <a:lnTo>
                    <a:pt x="135" y="156"/>
                  </a:lnTo>
                  <a:lnTo>
                    <a:pt x="136" y="285"/>
                  </a:lnTo>
                  <a:lnTo>
                    <a:pt x="155" y="287"/>
                  </a:lnTo>
                  <a:lnTo>
                    <a:pt x="148" y="0"/>
                  </a:lnTo>
                  <a:lnTo>
                    <a:pt x="133" y="2"/>
                  </a:lnTo>
                  <a:lnTo>
                    <a:pt x="13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966000" y="1681920"/>
              <a:ext cx="25200" cy="20160"/>
            </a:xfrm>
            <a:custGeom>
              <a:avLst/>
              <a:gdLst/>
              <a:ahLst/>
              <a:rect l="l" t="t" r="r" b="b"/>
              <a:pathLst>
                <a:path w="76" h="73">
                  <a:moveTo>
                    <a:pt x="6" y="10"/>
                  </a:moveTo>
                  <a:lnTo>
                    <a:pt x="30" y="0"/>
                  </a:lnTo>
                  <a:lnTo>
                    <a:pt x="55" y="0"/>
                  </a:lnTo>
                  <a:lnTo>
                    <a:pt x="72" y="19"/>
                  </a:lnTo>
                  <a:lnTo>
                    <a:pt x="76" y="48"/>
                  </a:lnTo>
                  <a:lnTo>
                    <a:pt x="64" y="61"/>
                  </a:lnTo>
                  <a:lnTo>
                    <a:pt x="44" y="73"/>
                  </a:lnTo>
                  <a:lnTo>
                    <a:pt x="63" y="42"/>
                  </a:lnTo>
                  <a:lnTo>
                    <a:pt x="49" y="18"/>
                  </a:lnTo>
                  <a:lnTo>
                    <a:pt x="26" y="18"/>
                  </a:lnTo>
                  <a:lnTo>
                    <a:pt x="15" y="25"/>
                  </a:lnTo>
                  <a:lnTo>
                    <a:pt x="9" y="56"/>
                  </a:lnTo>
                  <a:lnTo>
                    <a:pt x="0" y="33"/>
                  </a:lnTo>
                  <a:lnTo>
                    <a:pt x="6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734880" y="1680840"/>
              <a:ext cx="25200" cy="20160"/>
            </a:xfrm>
            <a:custGeom>
              <a:avLst/>
              <a:gdLst/>
              <a:ahLst/>
              <a:rect l="l" t="t" r="r" b="b"/>
              <a:pathLst>
                <a:path w="76" h="72">
                  <a:moveTo>
                    <a:pt x="5" y="7"/>
                  </a:moveTo>
                  <a:lnTo>
                    <a:pt x="30" y="0"/>
                  </a:lnTo>
                  <a:lnTo>
                    <a:pt x="53" y="0"/>
                  </a:lnTo>
                  <a:lnTo>
                    <a:pt x="72" y="19"/>
                  </a:lnTo>
                  <a:lnTo>
                    <a:pt x="76" y="47"/>
                  </a:lnTo>
                  <a:lnTo>
                    <a:pt x="64" y="60"/>
                  </a:lnTo>
                  <a:lnTo>
                    <a:pt x="43" y="72"/>
                  </a:lnTo>
                  <a:lnTo>
                    <a:pt x="62" y="40"/>
                  </a:lnTo>
                  <a:lnTo>
                    <a:pt x="49" y="17"/>
                  </a:lnTo>
                  <a:lnTo>
                    <a:pt x="26" y="17"/>
                  </a:lnTo>
                  <a:lnTo>
                    <a:pt x="15" y="24"/>
                  </a:lnTo>
                  <a:lnTo>
                    <a:pt x="9" y="55"/>
                  </a:lnTo>
                  <a:lnTo>
                    <a:pt x="0" y="32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736320" y="1725120"/>
              <a:ext cx="25200" cy="19800"/>
            </a:xfrm>
            <a:custGeom>
              <a:avLst/>
              <a:gdLst/>
              <a:ahLst/>
              <a:rect l="l" t="t" r="r" b="b"/>
              <a:pathLst>
                <a:path w="76" h="73">
                  <a:moveTo>
                    <a:pt x="5" y="10"/>
                  </a:moveTo>
                  <a:lnTo>
                    <a:pt x="30" y="0"/>
                  </a:lnTo>
                  <a:lnTo>
                    <a:pt x="55" y="0"/>
                  </a:lnTo>
                  <a:lnTo>
                    <a:pt x="72" y="19"/>
                  </a:lnTo>
                  <a:lnTo>
                    <a:pt x="76" y="48"/>
                  </a:lnTo>
                  <a:lnTo>
                    <a:pt x="64" y="61"/>
                  </a:lnTo>
                  <a:lnTo>
                    <a:pt x="43" y="73"/>
                  </a:lnTo>
                  <a:lnTo>
                    <a:pt x="62" y="42"/>
                  </a:lnTo>
                  <a:lnTo>
                    <a:pt x="49" y="17"/>
                  </a:lnTo>
                  <a:lnTo>
                    <a:pt x="26" y="17"/>
                  </a:lnTo>
                  <a:lnTo>
                    <a:pt x="15" y="25"/>
                  </a:lnTo>
                  <a:lnTo>
                    <a:pt x="9" y="55"/>
                  </a:lnTo>
                  <a:lnTo>
                    <a:pt x="0" y="33"/>
                  </a:lnTo>
                  <a:lnTo>
                    <a:pt x="5" y="1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717600" y="1674000"/>
              <a:ext cx="57960" cy="100080"/>
            </a:xfrm>
            <a:custGeom>
              <a:avLst/>
              <a:gdLst/>
              <a:ahLst/>
              <a:rect l="l" t="t" r="r" b="b"/>
              <a:pathLst>
                <a:path w="173" h="355">
                  <a:moveTo>
                    <a:pt x="0" y="0"/>
                  </a:moveTo>
                  <a:lnTo>
                    <a:pt x="2" y="317"/>
                  </a:lnTo>
                  <a:lnTo>
                    <a:pt x="35" y="319"/>
                  </a:lnTo>
                  <a:lnTo>
                    <a:pt x="40" y="355"/>
                  </a:lnTo>
                  <a:lnTo>
                    <a:pt x="101" y="348"/>
                  </a:lnTo>
                  <a:lnTo>
                    <a:pt x="173" y="306"/>
                  </a:lnTo>
                  <a:lnTo>
                    <a:pt x="14" y="304"/>
                  </a:lnTo>
                  <a:lnTo>
                    <a:pt x="14" y="163"/>
                  </a:lnTo>
                  <a:lnTo>
                    <a:pt x="164" y="167"/>
                  </a:lnTo>
                  <a:lnTo>
                    <a:pt x="152" y="154"/>
                  </a:lnTo>
                  <a:lnTo>
                    <a:pt x="14" y="148"/>
                  </a:lnTo>
                  <a:lnTo>
                    <a:pt x="1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727680" y="1905480"/>
              <a:ext cx="29880" cy="599040"/>
            </a:xfrm>
            <a:custGeom>
              <a:avLst/>
              <a:gdLst/>
              <a:ahLst/>
              <a:rect l="l" t="t" r="r" b="b"/>
              <a:pathLst>
                <a:path w="89" h="2131">
                  <a:moveTo>
                    <a:pt x="0" y="2083"/>
                  </a:moveTo>
                  <a:lnTo>
                    <a:pt x="47" y="2079"/>
                  </a:lnTo>
                  <a:lnTo>
                    <a:pt x="38" y="0"/>
                  </a:lnTo>
                  <a:lnTo>
                    <a:pt x="89" y="2096"/>
                  </a:lnTo>
                  <a:lnTo>
                    <a:pt x="40" y="2131"/>
                  </a:lnTo>
                  <a:lnTo>
                    <a:pt x="0" y="2083"/>
                  </a:lnTo>
                  <a:lnTo>
                    <a:pt x="0" y="20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748200" y="2508120"/>
              <a:ext cx="250920" cy="43200"/>
            </a:xfrm>
            <a:custGeom>
              <a:avLst/>
              <a:gdLst/>
              <a:ahLst/>
              <a:rect l="l" t="t" r="r" b="b"/>
              <a:pathLst>
                <a:path w="753" h="154">
                  <a:moveTo>
                    <a:pt x="0" y="0"/>
                  </a:moveTo>
                  <a:lnTo>
                    <a:pt x="753" y="44"/>
                  </a:lnTo>
                  <a:lnTo>
                    <a:pt x="667" y="61"/>
                  </a:lnTo>
                  <a:lnTo>
                    <a:pt x="677" y="120"/>
                  </a:lnTo>
                  <a:lnTo>
                    <a:pt x="625" y="86"/>
                  </a:lnTo>
                  <a:lnTo>
                    <a:pt x="144" y="57"/>
                  </a:lnTo>
                  <a:lnTo>
                    <a:pt x="131" y="154"/>
                  </a:lnTo>
                  <a:lnTo>
                    <a:pt x="100" y="146"/>
                  </a:lnTo>
                  <a:lnTo>
                    <a:pt x="110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014600" y="1633680"/>
              <a:ext cx="13320" cy="938160"/>
            </a:xfrm>
            <a:custGeom>
              <a:avLst/>
              <a:gdLst/>
              <a:ahLst/>
              <a:rect l="l" t="t" r="r" b="b"/>
              <a:pathLst>
                <a:path w="40" h="3338">
                  <a:moveTo>
                    <a:pt x="0" y="0"/>
                  </a:moveTo>
                  <a:lnTo>
                    <a:pt x="0" y="3338"/>
                  </a:lnTo>
                  <a:lnTo>
                    <a:pt x="40" y="3338"/>
                  </a:lnTo>
                  <a:lnTo>
                    <a:pt x="3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659640" y="2481840"/>
              <a:ext cx="501480" cy="154800"/>
            </a:xfrm>
            <a:custGeom>
              <a:avLst/>
              <a:gdLst/>
              <a:ahLst/>
              <a:rect l="l" t="t" r="r" b="b"/>
              <a:pathLst>
                <a:path w="1503" h="551">
                  <a:moveTo>
                    <a:pt x="19" y="392"/>
                  </a:moveTo>
                  <a:lnTo>
                    <a:pt x="1193" y="500"/>
                  </a:lnTo>
                  <a:lnTo>
                    <a:pt x="1101" y="302"/>
                  </a:lnTo>
                  <a:lnTo>
                    <a:pt x="1240" y="447"/>
                  </a:lnTo>
                  <a:lnTo>
                    <a:pt x="1503" y="0"/>
                  </a:lnTo>
                  <a:lnTo>
                    <a:pt x="1246" y="551"/>
                  </a:lnTo>
                  <a:lnTo>
                    <a:pt x="0" y="433"/>
                  </a:lnTo>
                  <a:lnTo>
                    <a:pt x="19" y="392"/>
                  </a:lnTo>
                  <a:lnTo>
                    <a:pt x="19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018560" y="2430720"/>
              <a:ext cx="101520" cy="145080"/>
            </a:xfrm>
            <a:custGeom>
              <a:avLst/>
              <a:gdLst/>
              <a:ahLst/>
              <a:rect l="l" t="t" r="r" b="b"/>
              <a:pathLst>
                <a:path w="304" h="517">
                  <a:moveTo>
                    <a:pt x="0" y="476"/>
                  </a:moveTo>
                  <a:lnTo>
                    <a:pt x="300" y="0"/>
                  </a:lnTo>
                  <a:lnTo>
                    <a:pt x="304" y="63"/>
                  </a:lnTo>
                  <a:lnTo>
                    <a:pt x="36" y="517"/>
                  </a:lnTo>
                  <a:lnTo>
                    <a:pt x="0" y="476"/>
                  </a:lnTo>
                  <a:lnTo>
                    <a:pt x="0" y="4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34880" y="1655640"/>
              <a:ext cx="36720" cy="19440"/>
            </a:xfrm>
            <a:custGeom>
              <a:avLst/>
              <a:gdLst/>
              <a:ahLst/>
              <a:rect l="l" t="t" r="r" b="b"/>
              <a:pathLst>
                <a:path w="110" h="71">
                  <a:moveTo>
                    <a:pt x="0" y="0"/>
                  </a:moveTo>
                  <a:lnTo>
                    <a:pt x="2" y="69"/>
                  </a:lnTo>
                  <a:lnTo>
                    <a:pt x="110" y="71"/>
                  </a:lnTo>
                  <a:lnTo>
                    <a:pt x="24" y="46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967440" y="1729800"/>
              <a:ext cx="25200" cy="20160"/>
            </a:xfrm>
            <a:custGeom>
              <a:avLst/>
              <a:gdLst/>
              <a:ahLst/>
              <a:rect l="l" t="t" r="r" b="b"/>
              <a:pathLst>
                <a:path w="76" h="72">
                  <a:moveTo>
                    <a:pt x="5" y="9"/>
                  </a:moveTo>
                  <a:lnTo>
                    <a:pt x="30" y="0"/>
                  </a:lnTo>
                  <a:lnTo>
                    <a:pt x="55" y="0"/>
                  </a:lnTo>
                  <a:lnTo>
                    <a:pt x="72" y="19"/>
                  </a:lnTo>
                  <a:lnTo>
                    <a:pt x="76" y="47"/>
                  </a:lnTo>
                  <a:lnTo>
                    <a:pt x="64" y="60"/>
                  </a:lnTo>
                  <a:lnTo>
                    <a:pt x="43" y="72"/>
                  </a:lnTo>
                  <a:lnTo>
                    <a:pt x="62" y="41"/>
                  </a:lnTo>
                  <a:lnTo>
                    <a:pt x="49" y="17"/>
                  </a:lnTo>
                  <a:lnTo>
                    <a:pt x="26" y="17"/>
                  </a:lnTo>
                  <a:lnTo>
                    <a:pt x="15" y="24"/>
                  </a:lnTo>
                  <a:lnTo>
                    <a:pt x="9" y="55"/>
                  </a:lnTo>
                  <a:lnTo>
                    <a:pt x="0" y="34"/>
                  </a:lnTo>
                  <a:lnTo>
                    <a:pt x="5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773760" y="1798920"/>
              <a:ext cx="122040" cy="30960"/>
            </a:xfrm>
            <a:custGeom>
              <a:avLst/>
              <a:gdLst/>
              <a:ahLst/>
              <a:rect l="l" t="t" r="r" b="b"/>
              <a:pathLst>
                <a:path w="367" h="110">
                  <a:moveTo>
                    <a:pt x="0" y="0"/>
                  </a:moveTo>
                  <a:lnTo>
                    <a:pt x="0" y="110"/>
                  </a:lnTo>
                  <a:lnTo>
                    <a:pt x="367" y="110"/>
                  </a:lnTo>
                  <a:lnTo>
                    <a:pt x="338" y="80"/>
                  </a:lnTo>
                  <a:lnTo>
                    <a:pt x="207" y="81"/>
                  </a:lnTo>
                  <a:lnTo>
                    <a:pt x="194" y="91"/>
                  </a:lnTo>
                  <a:lnTo>
                    <a:pt x="15" y="91"/>
                  </a:lnTo>
                  <a:lnTo>
                    <a:pt x="15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756840" y="1851840"/>
              <a:ext cx="224280" cy="3600"/>
            </a:xfrm>
            <a:custGeom>
              <a:avLst/>
              <a:gdLst/>
              <a:ahLst/>
              <a:rect l="l" t="t" r="r" b="b"/>
              <a:pathLst>
                <a:path w="671" h="13">
                  <a:moveTo>
                    <a:pt x="0" y="0"/>
                  </a:moveTo>
                  <a:lnTo>
                    <a:pt x="671" y="0"/>
                  </a:lnTo>
                  <a:lnTo>
                    <a:pt x="666" y="13"/>
                  </a:lnTo>
                  <a:lnTo>
                    <a:pt x="4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747480" y="1840320"/>
              <a:ext cx="233640" cy="38160"/>
            </a:xfrm>
            <a:custGeom>
              <a:avLst/>
              <a:gdLst/>
              <a:ahLst/>
              <a:rect l="l" t="t" r="r" b="b"/>
              <a:pathLst>
                <a:path w="699" h="137">
                  <a:moveTo>
                    <a:pt x="19" y="17"/>
                  </a:moveTo>
                  <a:lnTo>
                    <a:pt x="15" y="110"/>
                  </a:lnTo>
                  <a:lnTo>
                    <a:pt x="699" y="124"/>
                  </a:lnTo>
                  <a:lnTo>
                    <a:pt x="699" y="137"/>
                  </a:lnTo>
                  <a:lnTo>
                    <a:pt x="2" y="133"/>
                  </a:lnTo>
                  <a:lnTo>
                    <a:pt x="0" y="0"/>
                  </a:lnTo>
                  <a:lnTo>
                    <a:pt x="19" y="17"/>
                  </a:lnTo>
                  <a:lnTo>
                    <a:pt x="19" y="17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53600" y="1846440"/>
              <a:ext cx="234360" cy="27360"/>
            </a:xfrm>
            <a:custGeom>
              <a:avLst/>
              <a:gdLst/>
              <a:ahLst/>
              <a:rect l="l" t="t" r="r" b="b"/>
              <a:pathLst>
                <a:path w="701" h="99">
                  <a:moveTo>
                    <a:pt x="0" y="0"/>
                  </a:moveTo>
                  <a:lnTo>
                    <a:pt x="0" y="97"/>
                  </a:lnTo>
                  <a:lnTo>
                    <a:pt x="701" y="99"/>
                  </a:lnTo>
                  <a:lnTo>
                    <a:pt x="698" y="85"/>
                  </a:lnTo>
                  <a:lnTo>
                    <a:pt x="11" y="85"/>
                  </a:lnTo>
                  <a:lnTo>
                    <a:pt x="7" y="15"/>
                  </a:lnTo>
                  <a:lnTo>
                    <a:pt x="698" y="17"/>
                  </a:lnTo>
                  <a:lnTo>
                    <a:pt x="69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2627280" y="1735200"/>
            <a:ext cx="954000" cy="83016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3995640" y="1917720"/>
            <a:ext cx="2305080" cy="1440"/>
          </a:xfrm>
          <a:prstGeom prst="line">
            <a:avLst/>
          </a:prstGeom>
          <a:ln w="255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95640" y="2276640"/>
            <a:ext cx="2305080" cy="0"/>
          </a:xfrm>
          <a:prstGeom prst="line">
            <a:avLst/>
          </a:prstGeom>
          <a:ln w="25560">
            <a:solidFill>
              <a:srgbClr val="00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484360" y="122076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 Narrow"/>
                <a:ea typeface="Arial"/>
              </a:rPr>
              <a:t>Client Internet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rot="16200000">
            <a:off x="4578840" y="1377000"/>
            <a:ext cx="1254240" cy="1468440"/>
          </a:xfrm>
          <a:prstGeom prst="cloudCallout">
            <a:avLst>
              <a:gd name="adj1" fmla="val -36837"/>
              <a:gd name="adj2" fmla="val -10217"/>
            </a:avLst>
          </a:prstGeom>
          <a:solidFill>
            <a:srgbClr val="ccec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Interne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300720" y="1220760"/>
            <a:ext cx="13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 Narrow"/>
                <a:ea typeface="Arial"/>
              </a:rPr>
              <a:t>Serveur Web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380360" y="1916280"/>
            <a:ext cx="1008000" cy="647640"/>
          </a:xfrm>
          <a:prstGeom prst="flowChartInternalStorage">
            <a:avLst/>
          </a:prstGeom>
          <a:solidFill>
            <a:srgbClr val="cce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 Narrow"/>
                <a:ea typeface="Arial"/>
              </a:rPr>
              <a:t>HTML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2410560" y="3141720"/>
            <a:ext cx="1584360" cy="647640"/>
          </a:xfrm>
          <a:prstGeom prst="wedgeRoundRectCallout">
            <a:avLst>
              <a:gd name="adj1" fmla="val 5310"/>
              <a:gd name="adj2" fmla="val -80884"/>
              <a:gd name="adj3" fmla="val 1666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00"/>
                </a:solidFill>
                <a:latin typeface="Arial Narrow"/>
              </a:rPr>
              <a:t>Zone du Client (Maison)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6659640" y="3213000"/>
            <a:ext cx="1728720" cy="647640"/>
          </a:xfrm>
          <a:prstGeom prst="wedgeRoundRectCallout">
            <a:avLst>
              <a:gd name="adj1" fmla="val -138"/>
              <a:gd name="adj2" fmla="val -82847"/>
              <a:gd name="adj3" fmla="val 1666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00"/>
                </a:solidFill>
                <a:latin typeface="Arial Narrow"/>
              </a:rPr>
              <a:t>Zone du Serveur (Organisation)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4067280" y="981000"/>
            <a:ext cx="1944720" cy="358920"/>
          </a:xfrm>
          <a:prstGeom prst="wedgeRoundRectCallout">
            <a:avLst>
              <a:gd name="adj1" fmla="val 46976"/>
              <a:gd name="adj2" fmla="val 207518"/>
              <a:gd name="adj3" fmla="val 1666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00"/>
                </a:solidFill>
                <a:latin typeface="Arial Narrow"/>
              </a:rPr>
              <a:t>1. Requête: Adress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4282920" y="2997360"/>
            <a:ext cx="1944720" cy="358560"/>
          </a:xfrm>
          <a:prstGeom prst="wedgeRoundRectCallout">
            <a:avLst>
              <a:gd name="adj1" fmla="val -46574"/>
              <a:gd name="adj2" fmla="val -249115"/>
              <a:gd name="adj3" fmla="val 1666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00"/>
                </a:solidFill>
                <a:latin typeface="Arial Narrow"/>
              </a:rPr>
              <a:t>2. Réponse: HTML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466400" y="1557360"/>
            <a:ext cx="92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 Narrow"/>
              </a:rPr>
              <a:t>page.htm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B8328-BADE-4FF6-A269-F8DE8093D82A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Pages web statiques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437920" y="980640"/>
            <a:ext cx="6705720" cy="554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Caractéristiq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e contenu de la page web a été préparé à l'avanc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e serveur web ne fait que renvoyer la page au clien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Avantag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ages faciles à préparer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eu de travail pour le serveur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nconvénie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Mise à jour manuelle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(fastidieuse et coûteuse en temps si beaucoup d'informations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a page NE FAIT RIEN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impossible que la page accède une base de donné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Solution 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Pages web DYNAMIQ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BA428-4681-4D23-AF82-9D69F07AC570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Comment structurer des données? 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700000" y="1052640"/>
            <a:ext cx="6443640" cy="52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Multiples façons </a:t>
            </a: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 compétition entre plusieurs modè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n 1970, apparition du modèle relationn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Développé par T. Codd (IBM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ogique simple (tables, clés et relations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onception par analyse de la réalité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Définition d'un langage de gestion des données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QL = Structured Query Languag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Succès </a:t>
            </a: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 Adopté par tous les grands fabrica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Oracl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Microsoft SQL Server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MySQL (Open Source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-57600" y="219096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EA86F-96F5-4EEB-A321-472F35584F0C}" type="slidenum">
              <a:t>8</a:t>
            </a:fld>
          </a:p>
        </p:txBody>
      </p:sp>
    </p:spTree>
  </p:cSld>
  <p:transition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6300720" y="1125360"/>
            <a:ext cx="2303640" cy="1872000"/>
          </a:xfrm>
          <a:prstGeom prst="roundRect">
            <a:avLst>
              <a:gd name="adj" fmla="val 16667"/>
            </a:avLst>
          </a:prstGeom>
          <a:solidFill>
            <a:srgbClr val="c0c0c0">
              <a:alpha val="30000"/>
            </a:srgbClr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411280" y="1125360"/>
            <a:ext cx="1584360" cy="18003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1800360"/>
              <a:gd name="textAreaBottom" fmla="*/ 1723320 h 1800360"/>
            </a:gdLst>
            <a:ahLst/>
            <a:rect l="textAreaLeft" t="textAreaTop" r="textAreaRight" b="textAreaBottom"/>
            <a:pathLst>
              <a:path w="21600" h="24544">
                <a:moveTo>
                  <a:pt x="3600" y="0"/>
                </a:moveTo>
                <a:arcTo wR="3600" hR="3600" stAng="16200000" swAng="-5400000"/>
                <a:lnTo>
                  <a:pt x="0" y="20944"/>
                </a:lnTo>
                <a:arcTo wR="3600" hR="3600" stAng="10800000" swAng="-5400000"/>
                <a:lnTo>
                  <a:pt x="18000" y="24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>
              <a:alpha val="30000"/>
            </a:srgbClr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Client-Serveur - Page web dynamique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484000" y="4581360"/>
            <a:ext cx="6551640" cy="21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3 Étapes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e Client envoie l'adresse d'une page web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a page dynamique exécute ses instructions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our générer son contenu HTM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e Serveur renvoie le contenu HTM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6659640" y="1628640"/>
            <a:ext cx="504360" cy="1008000"/>
            <a:chOff x="6659640" y="1628640"/>
            <a:chExt cx="504360" cy="1008000"/>
          </a:xfrm>
        </p:grpSpPr>
        <p:sp>
          <p:nvSpPr>
            <p:cNvPr id="607" name=""/>
            <p:cNvSpPr/>
            <p:nvPr/>
          </p:nvSpPr>
          <p:spPr>
            <a:xfrm>
              <a:off x="7019280" y="2444760"/>
              <a:ext cx="144720" cy="180360"/>
            </a:xfrm>
            <a:custGeom>
              <a:avLst/>
              <a:gdLst/>
              <a:ahLst/>
              <a:rect l="l" t="t" r="r" b="b"/>
              <a:pathLst>
                <a:path w="433" h="640">
                  <a:moveTo>
                    <a:pt x="0" y="441"/>
                  </a:moveTo>
                  <a:lnTo>
                    <a:pt x="289" y="0"/>
                  </a:lnTo>
                  <a:lnTo>
                    <a:pt x="414" y="68"/>
                  </a:lnTo>
                  <a:lnTo>
                    <a:pt x="433" y="144"/>
                  </a:lnTo>
                  <a:lnTo>
                    <a:pt x="138" y="640"/>
                  </a:lnTo>
                  <a:lnTo>
                    <a:pt x="0" y="441"/>
                  </a:lnTo>
                  <a:lnTo>
                    <a:pt x="0" y="4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664680" y="1635120"/>
              <a:ext cx="411840" cy="997200"/>
            </a:xfrm>
            <a:custGeom>
              <a:avLst/>
              <a:gdLst/>
              <a:ahLst/>
              <a:rect l="l" t="t" r="r" b="b"/>
              <a:pathLst>
                <a:path w="1234" h="3549">
                  <a:moveTo>
                    <a:pt x="104" y="0"/>
                  </a:moveTo>
                  <a:lnTo>
                    <a:pt x="1074" y="19"/>
                  </a:lnTo>
                  <a:lnTo>
                    <a:pt x="1061" y="3289"/>
                  </a:lnTo>
                  <a:lnTo>
                    <a:pt x="1234" y="3549"/>
                  </a:lnTo>
                  <a:lnTo>
                    <a:pt x="0" y="3433"/>
                  </a:lnTo>
                  <a:lnTo>
                    <a:pt x="104" y="3247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662160" y="2559960"/>
              <a:ext cx="407880" cy="66600"/>
            </a:xfrm>
            <a:custGeom>
              <a:avLst/>
              <a:gdLst/>
              <a:ahLst/>
              <a:rect l="l" t="t" r="r" b="b"/>
              <a:pathLst>
                <a:path w="1223" h="238">
                  <a:moveTo>
                    <a:pt x="88" y="0"/>
                  </a:moveTo>
                  <a:lnTo>
                    <a:pt x="1122" y="80"/>
                  </a:lnTo>
                  <a:lnTo>
                    <a:pt x="1150" y="126"/>
                  </a:lnTo>
                  <a:lnTo>
                    <a:pt x="202" y="63"/>
                  </a:lnTo>
                  <a:lnTo>
                    <a:pt x="1188" y="164"/>
                  </a:lnTo>
                  <a:lnTo>
                    <a:pt x="1223" y="238"/>
                  </a:lnTo>
                  <a:lnTo>
                    <a:pt x="0" y="137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700320" y="1660680"/>
              <a:ext cx="65160" cy="883440"/>
            </a:xfrm>
            <a:custGeom>
              <a:avLst/>
              <a:gdLst/>
              <a:ahLst/>
              <a:rect l="l" t="t" r="r" b="b"/>
              <a:pathLst>
                <a:path w="198" h="3144">
                  <a:moveTo>
                    <a:pt x="4" y="0"/>
                  </a:moveTo>
                  <a:lnTo>
                    <a:pt x="53" y="4"/>
                  </a:lnTo>
                  <a:lnTo>
                    <a:pt x="61" y="57"/>
                  </a:lnTo>
                  <a:lnTo>
                    <a:pt x="194" y="61"/>
                  </a:lnTo>
                  <a:lnTo>
                    <a:pt x="198" y="354"/>
                  </a:lnTo>
                  <a:lnTo>
                    <a:pt x="61" y="365"/>
                  </a:lnTo>
                  <a:lnTo>
                    <a:pt x="76" y="3144"/>
                  </a:lnTo>
                  <a:lnTo>
                    <a:pt x="0" y="314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703560" y="1645920"/>
              <a:ext cx="304920" cy="921960"/>
            </a:xfrm>
            <a:custGeom>
              <a:avLst/>
              <a:gdLst/>
              <a:ahLst/>
              <a:rect l="l" t="t" r="r" b="b"/>
              <a:pathLst>
                <a:path w="912" h="3281">
                  <a:moveTo>
                    <a:pt x="45" y="0"/>
                  </a:moveTo>
                  <a:lnTo>
                    <a:pt x="49" y="42"/>
                  </a:lnTo>
                  <a:lnTo>
                    <a:pt x="104" y="42"/>
                  </a:lnTo>
                  <a:lnTo>
                    <a:pt x="104" y="97"/>
                  </a:lnTo>
                  <a:lnTo>
                    <a:pt x="213" y="105"/>
                  </a:lnTo>
                  <a:lnTo>
                    <a:pt x="216" y="405"/>
                  </a:lnTo>
                  <a:lnTo>
                    <a:pt x="97" y="439"/>
                  </a:lnTo>
                  <a:lnTo>
                    <a:pt x="140" y="3000"/>
                  </a:lnTo>
                  <a:lnTo>
                    <a:pt x="91" y="3022"/>
                  </a:lnTo>
                  <a:lnTo>
                    <a:pt x="11" y="3013"/>
                  </a:lnTo>
                  <a:lnTo>
                    <a:pt x="0" y="3197"/>
                  </a:lnTo>
                  <a:lnTo>
                    <a:pt x="908" y="3281"/>
                  </a:lnTo>
                  <a:lnTo>
                    <a:pt x="910" y="424"/>
                  </a:lnTo>
                  <a:lnTo>
                    <a:pt x="741" y="413"/>
                  </a:lnTo>
                  <a:lnTo>
                    <a:pt x="732" y="112"/>
                  </a:lnTo>
                  <a:lnTo>
                    <a:pt x="874" y="105"/>
                  </a:lnTo>
                  <a:lnTo>
                    <a:pt x="874" y="38"/>
                  </a:lnTo>
                  <a:lnTo>
                    <a:pt x="912" y="34"/>
                  </a:lnTo>
                  <a:lnTo>
                    <a:pt x="912" y="0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021440" y="1632960"/>
              <a:ext cx="118800" cy="933480"/>
            </a:xfrm>
            <a:custGeom>
              <a:avLst/>
              <a:gdLst/>
              <a:ahLst/>
              <a:rect l="l" t="t" r="r" b="b"/>
              <a:pathLst>
                <a:path w="358" h="3322">
                  <a:moveTo>
                    <a:pt x="0" y="0"/>
                  </a:moveTo>
                  <a:lnTo>
                    <a:pt x="14" y="3322"/>
                  </a:lnTo>
                  <a:lnTo>
                    <a:pt x="358" y="2824"/>
                  </a:lnTo>
                  <a:lnTo>
                    <a:pt x="301" y="1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691680" y="1628640"/>
              <a:ext cx="439920" cy="380880"/>
            </a:xfrm>
            <a:custGeom>
              <a:avLst/>
              <a:gdLst/>
              <a:ahLst/>
              <a:rect l="l" t="t" r="r" b="b"/>
              <a:pathLst>
                <a:path w="1318" h="1356">
                  <a:moveTo>
                    <a:pt x="0" y="0"/>
                  </a:moveTo>
                  <a:lnTo>
                    <a:pt x="991" y="2"/>
                  </a:lnTo>
                  <a:lnTo>
                    <a:pt x="1318" y="145"/>
                  </a:lnTo>
                  <a:lnTo>
                    <a:pt x="1314" y="1356"/>
                  </a:lnTo>
                  <a:lnTo>
                    <a:pt x="1269" y="164"/>
                  </a:lnTo>
                  <a:lnTo>
                    <a:pt x="980" y="40"/>
                  </a:lnTo>
                  <a:lnTo>
                    <a:pt x="33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664320" y="1628640"/>
              <a:ext cx="371880" cy="965880"/>
            </a:xfrm>
            <a:custGeom>
              <a:avLst/>
              <a:gdLst/>
              <a:ahLst/>
              <a:rect l="l" t="t" r="r" b="b"/>
              <a:pathLst>
                <a:path w="1114" h="3435">
                  <a:moveTo>
                    <a:pt x="85" y="0"/>
                  </a:moveTo>
                  <a:lnTo>
                    <a:pt x="85" y="3237"/>
                  </a:lnTo>
                  <a:lnTo>
                    <a:pt x="0" y="3435"/>
                  </a:lnTo>
                  <a:lnTo>
                    <a:pt x="129" y="3306"/>
                  </a:lnTo>
                  <a:lnTo>
                    <a:pt x="1085" y="3363"/>
                  </a:lnTo>
                  <a:lnTo>
                    <a:pt x="1114" y="3313"/>
                  </a:lnTo>
                  <a:lnTo>
                    <a:pt x="878" y="3306"/>
                  </a:lnTo>
                  <a:lnTo>
                    <a:pt x="829" y="3270"/>
                  </a:lnTo>
                  <a:lnTo>
                    <a:pt x="378" y="3237"/>
                  </a:lnTo>
                  <a:lnTo>
                    <a:pt x="348" y="3266"/>
                  </a:lnTo>
                  <a:lnTo>
                    <a:pt x="127" y="3237"/>
                  </a:lnTo>
                  <a:lnTo>
                    <a:pt x="129" y="38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736320" y="1760040"/>
              <a:ext cx="265680" cy="754200"/>
            </a:xfrm>
            <a:custGeom>
              <a:avLst/>
              <a:gdLst/>
              <a:ahLst/>
              <a:rect l="l" t="t" r="r" b="b"/>
              <a:pathLst>
                <a:path w="796" h="2684">
                  <a:moveTo>
                    <a:pt x="0" y="82"/>
                  </a:moveTo>
                  <a:lnTo>
                    <a:pt x="732" y="89"/>
                  </a:lnTo>
                  <a:lnTo>
                    <a:pt x="720" y="53"/>
                  </a:lnTo>
                  <a:lnTo>
                    <a:pt x="635" y="0"/>
                  </a:lnTo>
                  <a:lnTo>
                    <a:pt x="796" y="0"/>
                  </a:lnTo>
                  <a:lnTo>
                    <a:pt x="773" y="28"/>
                  </a:lnTo>
                  <a:lnTo>
                    <a:pt x="771" y="2684"/>
                  </a:lnTo>
                  <a:lnTo>
                    <a:pt x="728" y="1023"/>
                  </a:lnTo>
                  <a:lnTo>
                    <a:pt x="22" y="1002"/>
                  </a:lnTo>
                  <a:lnTo>
                    <a:pt x="43" y="981"/>
                  </a:lnTo>
                  <a:lnTo>
                    <a:pt x="732" y="994"/>
                  </a:lnTo>
                  <a:lnTo>
                    <a:pt x="732" y="808"/>
                  </a:lnTo>
                  <a:lnTo>
                    <a:pt x="19" y="791"/>
                  </a:lnTo>
                  <a:lnTo>
                    <a:pt x="19" y="762"/>
                  </a:lnTo>
                  <a:lnTo>
                    <a:pt x="735" y="779"/>
                  </a:lnTo>
                  <a:lnTo>
                    <a:pt x="728" y="555"/>
                  </a:lnTo>
                  <a:lnTo>
                    <a:pt x="7" y="540"/>
                  </a:lnTo>
                  <a:lnTo>
                    <a:pt x="11" y="515"/>
                  </a:lnTo>
                  <a:lnTo>
                    <a:pt x="745" y="515"/>
                  </a:lnTo>
                  <a:lnTo>
                    <a:pt x="713" y="135"/>
                  </a:lnTo>
                  <a:lnTo>
                    <a:pt x="631" y="122"/>
                  </a:lnTo>
                  <a:lnTo>
                    <a:pt x="566" y="139"/>
                  </a:lnTo>
                  <a:lnTo>
                    <a:pt x="108" y="135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785640" y="1802160"/>
              <a:ext cx="163440" cy="24480"/>
            </a:xfrm>
            <a:custGeom>
              <a:avLst/>
              <a:gdLst/>
              <a:ahLst/>
              <a:rect l="l" t="t" r="r" b="b"/>
              <a:pathLst>
                <a:path w="490" h="88">
                  <a:moveTo>
                    <a:pt x="2" y="8"/>
                  </a:moveTo>
                  <a:lnTo>
                    <a:pt x="487" y="0"/>
                  </a:lnTo>
                  <a:lnTo>
                    <a:pt x="490" y="40"/>
                  </a:lnTo>
                  <a:lnTo>
                    <a:pt x="338" y="42"/>
                  </a:lnTo>
                  <a:lnTo>
                    <a:pt x="338" y="88"/>
                  </a:lnTo>
                  <a:lnTo>
                    <a:pt x="310" y="61"/>
                  </a:lnTo>
                  <a:lnTo>
                    <a:pt x="165" y="63"/>
                  </a:lnTo>
                  <a:lnTo>
                    <a:pt x="154" y="36"/>
                  </a:lnTo>
                  <a:lnTo>
                    <a:pt x="0" y="38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910560" y="1816920"/>
              <a:ext cx="43200" cy="14040"/>
            </a:xfrm>
            <a:custGeom>
              <a:avLst/>
              <a:gdLst/>
              <a:ahLst/>
              <a:rect l="l" t="t" r="r" b="b"/>
              <a:pathLst>
                <a:path w="130" h="52">
                  <a:moveTo>
                    <a:pt x="6" y="33"/>
                  </a:moveTo>
                  <a:lnTo>
                    <a:pt x="99" y="33"/>
                  </a:lnTo>
                  <a:lnTo>
                    <a:pt x="101" y="16"/>
                  </a:lnTo>
                  <a:lnTo>
                    <a:pt x="6" y="16"/>
                  </a:lnTo>
                  <a:lnTo>
                    <a:pt x="2" y="2"/>
                  </a:lnTo>
                  <a:lnTo>
                    <a:pt x="128" y="0"/>
                  </a:lnTo>
                  <a:lnTo>
                    <a:pt x="130" y="52"/>
                  </a:lnTo>
                  <a:lnTo>
                    <a:pt x="0" y="48"/>
                  </a:lnTo>
                  <a:lnTo>
                    <a:pt x="6" y="33"/>
                  </a:lnTo>
                  <a:lnTo>
                    <a:pt x="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736320" y="1782360"/>
              <a:ext cx="7200" cy="127080"/>
            </a:xfrm>
            <a:custGeom>
              <a:avLst/>
              <a:gdLst/>
              <a:ahLst/>
              <a:rect l="l" t="t" r="r" b="b"/>
              <a:pathLst>
                <a:path w="22" h="452">
                  <a:moveTo>
                    <a:pt x="0" y="0"/>
                  </a:moveTo>
                  <a:lnTo>
                    <a:pt x="5" y="452"/>
                  </a:lnTo>
                  <a:lnTo>
                    <a:pt x="22" y="450"/>
                  </a:lnTo>
                  <a:lnTo>
                    <a:pt x="15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941160" y="1886400"/>
              <a:ext cx="29880" cy="1332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3" y="0"/>
                  </a:moveTo>
                  <a:lnTo>
                    <a:pt x="0" y="42"/>
                  </a:lnTo>
                  <a:lnTo>
                    <a:pt x="89" y="48"/>
                  </a:lnTo>
                  <a:lnTo>
                    <a:pt x="89" y="12"/>
                  </a:lnTo>
                  <a:lnTo>
                    <a:pt x="70" y="27"/>
                  </a:lnTo>
                  <a:lnTo>
                    <a:pt x="19" y="29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977520" y="1654200"/>
              <a:ext cx="19080" cy="21600"/>
            </a:xfrm>
            <a:custGeom>
              <a:avLst/>
              <a:gdLst/>
              <a:ahLst/>
              <a:rect l="l" t="t" r="r" b="b"/>
              <a:pathLst>
                <a:path w="57" h="77">
                  <a:moveTo>
                    <a:pt x="53" y="0"/>
                  </a:moveTo>
                  <a:lnTo>
                    <a:pt x="0" y="41"/>
                  </a:lnTo>
                  <a:lnTo>
                    <a:pt x="0" y="77"/>
                  </a:lnTo>
                  <a:lnTo>
                    <a:pt x="57" y="74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945840" y="1676880"/>
              <a:ext cx="8280" cy="84600"/>
            </a:xfrm>
            <a:custGeom>
              <a:avLst/>
              <a:gdLst/>
              <a:ahLst/>
              <a:rect l="l" t="t" r="r" b="b"/>
              <a:pathLst>
                <a:path w="25" h="303">
                  <a:moveTo>
                    <a:pt x="0" y="2"/>
                  </a:moveTo>
                  <a:lnTo>
                    <a:pt x="4" y="303"/>
                  </a:lnTo>
                  <a:lnTo>
                    <a:pt x="25" y="303"/>
                  </a:lnTo>
                  <a:lnTo>
                    <a:pt x="23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954480" y="1677960"/>
              <a:ext cx="51840" cy="80280"/>
            </a:xfrm>
            <a:custGeom>
              <a:avLst/>
              <a:gdLst/>
              <a:ahLst/>
              <a:rect l="l" t="t" r="r" b="b"/>
              <a:pathLst>
                <a:path w="155" h="287">
                  <a:moveTo>
                    <a:pt x="133" y="2"/>
                  </a:moveTo>
                  <a:lnTo>
                    <a:pt x="135" y="141"/>
                  </a:lnTo>
                  <a:lnTo>
                    <a:pt x="9" y="143"/>
                  </a:lnTo>
                  <a:lnTo>
                    <a:pt x="0" y="156"/>
                  </a:lnTo>
                  <a:lnTo>
                    <a:pt x="135" y="156"/>
                  </a:lnTo>
                  <a:lnTo>
                    <a:pt x="136" y="285"/>
                  </a:lnTo>
                  <a:lnTo>
                    <a:pt x="155" y="287"/>
                  </a:lnTo>
                  <a:lnTo>
                    <a:pt x="148" y="0"/>
                  </a:lnTo>
                  <a:lnTo>
                    <a:pt x="133" y="2"/>
                  </a:lnTo>
                  <a:lnTo>
                    <a:pt x="13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966000" y="1681920"/>
              <a:ext cx="25200" cy="20160"/>
            </a:xfrm>
            <a:custGeom>
              <a:avLst/>
              <a:gdLst/>
              <a:ahLst/>
              <a:rect l="l" t="t" r="r" b="b"/>
              <a:pathLst>
                <a:path w="76" h="73">
                  <a:moveTo>
                    <a:pt x="6" y="10"/>
                  </a:moveTo>
                  <a:lnTo>
                    <a:pt x="30" y="0"/>
                  </a:lnTo>
                  <a:lnTo>
                    <a:pt x="55" y="0"/>
                  </a:lnTo>
                  <a:lnTo>
                    <a:pt x="72" y="19"/>
                  </a:lnTo>
                  <a:lnTo>
                    <a:pt x="76" y="48"/>
                  </a:lnTo>
                  <a:lnTo>
                    <a:pt x="64" y="61"/>
                  </a:lnTo>
                  <a:lnTo>
                    <a:pt x="44" y="73"/>
                  </a:lnTo>
                  <a:lnTo>
                    <a:pt x="63" y="42"/>
                  </a:lnTo>
                  <a:lnTo>
                    <a:pt x="49" y="18"/>
                  </a:lnTo>
                  <a:lnTo>
                    <a:pt x="26" y="18"/>
                  </a:lnTo>
                  <a:lnTo>
                    <a:pt x="15" y="25"/>
                  </a:lnTo>
                  <a:lnTo>
                    <a:pt x="9" y="56"/>
                  </a:lnTo>
                  <a:lnTo>
                    <a:pt x="0" y="33"/>
                  </a:lnTo>
                  <a:lnTo>
                    <a:pt x="6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734880" y="1680840"/>
              <a:ext cx="25200" cy="20160"/>
            </a:xfrm>
            <a:custGeom>
              <a:avLst/>
              <a:gdLst/>
              <a:ahLst/>
              <a:rect l="l" t="t" r="r" b="b"/>
              <a:pathLst>
                <a:path w="76" h="72">
                  <a:moveTo>
                    <a:pt x="5" y="7"/>
                  </a:moveTo>
                  <a:lnTo>
                    <a:pt x="30" y="0"/>
                  </a:lnTo>
                  <a:lnTo>
                    <a:pt x="53" y="0"/>
                  </a:lnTo>
                  <a:lnTo>
                    <a:pt x="72" y="19"/>
                  </a:lnTo>
                  <a:lnTo>
                    <a:pt x="76" y="47"/>
                  </a:lnTo>
                  <a:lnTo>
                    <a:pt x="64" y="60"/>
                  </a:lnTo>
                  <a:lnTo>
                    <a:pt x="43" y="72"/>
                  </a:lnTo>
                  <a:lnTo>
                    <a:pt x="62" y="40"/>
                  </a:lnTo>
                  <a:lnTo>
                    <a:pt x="49" y="17"/>
                  </a:lnTo>
                  <a:lnTo>
                    <a:pt x="26" y="17"/>
                  </a:lnTo>
                  <a:lnTo>
                    <a:pt x="15" y="24"/>
                  </a:lnTo>
                  <a:lnTo>
                    <a:pt x="9" y="55"/>
                  </a:lnTo>
                  <a:lnTo>
                    <a:pt x="0" y="32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736320" y="1725120"/>
              <a:ext cx="25200" cy="19800"/>
            </a:xfrm>
            <a:custGeom>
              <a:avLst/>
              <a:gdLst/>
              <a:ahLst/>
              <a:rect l="l" t="t" r="r" b="b"/>
              <a:pathLst>
                <a:path w="76" h="73">
                  <a:moveTo>
                    <a:pt x="5" y="10"/>
                  </a:moveTo>
                  <a:lnTo>
                    <a:pt x="30" y="0"/>
                  </a:lnTo>
                  <a:lnTo>
                    <a:pt x="55" y="0"/>
                  </a:lnTo>
                  <a:lnTo>
                    <a:pt x="72" y="19"/>
                  </a:lnTo>
                  <a:lnTo>
                    <a:pt x="76" y="48"/>
                  </a:lnTo>
                  <a:lnTo>
                    <a:pt x="64" y="61"/>
                  </a:lnTo>
                  <a:lnTo>
                    <a:pt x="43" y="73"/>
                  </a:lnTo>
                  <a:lnTo>
                    <a:pt x="62" y="42"/>
                  </a:lnTo>
                  <a:lnTo>
                    <a:pt x="49" y="17"/>
                  </a:lnTo>
                  <a:lnTo>
                    <a:pt x="26" y="17"/>
                  </a:lnTo>
                  <a:lnTo>
                    <a:pt x="15" y="25"/>
                  </a:lnTo>
                  <a:lnTo>
                    <a:pt x="9" y="55"/>
                  </a:lnTo>
                  <a:lnTo>
                    <a:pt x="0" y="33"/>
                  </a:lnTo>
                  <a:lnTo>
                    <a:pt x="5" y="1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717600" y="1674000"/>
              <a:ext cx="57960" cy="100080"/>
            </a:xfrm>
            <a:custGeom>
              <a:avLst/>
              <a:gdLst/>
              <a:ahLst/>
              <a:rect l="l" t="t" r="r" b="b"/>
              <a:pathLst>
                <a:path w="173" h="355">
                  <a:moveTo>
                    <a:pt x="0" y="0"/>
                  </a:moveTo>
                  <a:lnTo>
                    <a:pt x="2" y="317"/>
                  </a:lnTo>
                  <a:lnTo>
                    <a:pt x="35" y="319"/>
                  </a:lnTo>
                  <a:lnTo>
                    <a:pt x="40" y="355"/>
                  </a:lnTo>
                  <a:lnTo>
                    <a:pt x="101" y="348"/>
                  </a:lnTo>
                  <a:lnTo>
                    <a:pt x="173" y="306"/>
                  </a:lnTo>
                  <a:lnTo>
                    <a:pt x="14" y="304"/>
                  </a:lnTo>
                  <a:lnTo>
                    <a:pt x="14" y="163"/>
                  </a:lnTo>
                  <a:lnTo>
                    <a:pt x="164" y="167"/>
                  </a:lnTo>
                  <a:lnTo>
                    <a:pt x="152" y="154"/>
                  </a:lnTo>
                  <a:lnTo>
                    <a:pt x="14" y="148"/>
                  </a:lnTo>
                  <a:lnTo>
                    <a:pt x="1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727680" y="1905480"/>
              <a:ext cx="29880" cy="599040"/>
            </a:xfrm>
            <a:custGeom>
              <a:avLst/>
              <a:gdLst/>
              <a:ahLst/>
              <a:rect l="l" t="t" r="r" b="b"/>
              <a:pathLst>
                <a:path w="89" h="2131">
                  <a:moveTo>
                    <a:pt x="0" y="2083"/>
                  </a:moveTo>
                  <a:lnTo>
                    <a:pt x="47" y="2079"/>
                  </a:lnTo>
                  <a:lnTo>
                    <a:pt x="38" y="0"/>
                  </a:lnTo>
                  <a:lnTo>
                    <a:pt x="89" y="2096"/>
                  </a:lnTo>
                  <a:lnTo>
                    <a:pt x="40" y="2131"/>
                  </a:lnTo>
                  <a:lnTo>
                    <a:pt x="0" y="2083"/>
                  </a:lnTo>
                  <a:lnTo>
                    <a:pt x="0" y="20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748200" y="2508120"/>
              <a:ext cx="250920" cy="43200"/>
            </a:xfrm>
            <a:custGeom>
              <a:avLst/>
              <a:gdLst/>
              <a:ahLst/>
              <a:rect l="l" t="t" r="r" b="b"/>
              <a:pathLst>
                <a:path w="753" h="154">
                  <a:moveTo>
                    <a:pt x="0" y="0"/>
                  </a:moveTo>
                  <a:lnTo>
                    <a:pt x="753" y="44"/>
                  </a:lnTo>
                  <a:lnTo>
                    <a:pt x="667" y="61"/>
                  </a:lnTo>
                  <a:lnTo>
                    <a:pt x="677" y="120"/>
                  </a:lnTo>
                  <a:lnTo>
                    <a:pt x="625" y="86"/>
                  </a:lnTo>
                  <a:lnTo>
                    <a:pt x="144" y="57"/>
                  </a:lnTo>
                  <a:lnTo>
                    <a:pt x="131" y="154"/>
                  </a:lnTo>
                  <a:lnTo>
                    <a:pt x="100" y="146"/>
                  </a:lnTo>
                  <a:lnTo>
                    <a:pt x="110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014600" y="1633680"/>
              <a:ext cx="13320" cy="938160"/>
            </a:xfrm>
            <a:custGeom>
              <a:avLst/>
              <a:gdLst/>
              <a:ahLst/>
              <a:rect l="l" t="t" r="r" b="b"/>
              <a:pathLst>
                <a:path w="40" h="3338">
                  <a:moveTo>
                    <a:pt x="0" y="0"/>
                  </a:moveTo>
                  <a:lnTo>
                    <a:pt x="0" y="3338"/>
                  </a:lnTo>
                  <a:lnTo>
                    <a:pt x="40" y="3338"/>
                  </a:lnTo>
                  <a:lnTo>
                    <a:pt x="3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659640" y="2481840"/>
              <a:ext cx="501480" cy="154800"/>
            </a:xfrm>
            <a:custGeom>
              <a:avLst/>
              <a:gdLst/>
              <a:ahLst/>
              <a:rect l="l" t="t" r="r" b="b"/>
              <a:pathLst>
                <a:path w="1503" h="551">
                  <a:moveTo>
                    <a:pt x="19" y="392"/>
                  </a:moveTo>
                  <a:lnTo>
                    <a:pt x="1193" y="500"/>
                  </a:lnTo>
                  <a:lnTo>
                    <a:pt x="1101" y="302"/>
                  </a:lnTo>
                  <a:lnTo>
                    <a:pt x="1240" y="447"/>
                  </a:lnTo>
                  <a:lnTo>
                    <a:pt x="1503" y="0"/>
                  </a:lnTo>
                  <a:lnTo>
                    <a:pt x="1246" y="551"/>
                  </a:lnTo>
                  <a:lnTo>
                    <a:pt x="0" y="433"/>
                  </a:lnTo>
                  <a:lnTo>
                    <a:pt x="19" y="392"/>
                  </a:lnTo>
                  <a:lnTo>
                    <a:pt x="19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018560" y="2430720"/>
              <a:ext cx="101520" cy="145080"/>
            </a:xfrm>
            <a:custGeom>
              <a:avLst/>
              <a:gdLst/>
              <a:ahLst/>
              <a:rect l="l" t="t" r="r" b="b"/>
              <a:pathLst>
                <a:path w="304" h="517">
                  <a:moveTo>
                    <a:pt x="0" y="476"/>
                  </a:moveTo>
                  <a:lnTo>
                    <a:pt x="300" y="0"/>
                  </a:lnTo>
                  <a:lnTo>
                    <a:pt x="304" y="63"/>
                  </a:lnTo>
                  <a:lnTo>
                    <a:pt x="36" y="517"/>
                  </a:lnTo>
                  <a:lnTo>
                    <a:pt x="0" y="476"/>
                  </a:lnTo>
                  <a:lnTo>
                    <a:pt x="0" y="4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734880" y="1655640"/>
              <a:ext cx="36720" cy="19440"/>
            </a:xfrm>
            <a:custGeom>
              <a:avLst/>
              <a:gdLst/>
              <a:ahLst/>
              <a:rect l="l" t="t" r="r" b="b"/>
              <a:pathLst>
                <a:path w="110" h="71">
                  <a:moveTo>
                    <a:pt x="0" y="0"/>
                  </a:moveTo>
                  <a:lnTo>
                    <a:pt x="2" y="69"/>
                  </a:lnTo>
                  <a:lnTo>
                    <a:pt x="110" y="71"/>
                  </a:lnTo>
                  <a:lnTo>
                    <a:pt x="24" y="46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967440" y="1729800"/>
              <a:ext cx="25200" cy="20160"/>
            </a:xfrm>
            <a:custGeom>
              <a:avLst/>
              <a:gdLst/>
              <a:ahLst/>
              <a:rect l="l" t="t" r="r" b="b"/>
              <a:pathLst>
                <a:path w="76" h="72">
                  <a:moveTo>
                    <a:pt x="5" y="9"/>
                  </a:moveTo>
                  <a:lnTo>
                    <a:pt x="30" y="0"/>
                  </a:lnTo>
                  <a:lnTo>
                    <a:pt x="55" y="0"/>
                  </a:lnTo>
                  <a:lnTo>
                    <a:pt x="72" y="19"/>
                  </a:lnTo>
                  <a:lnTo>
                    <a:pt x="76" y="47"/>
                  </a:lnTo>
                  <a:lnTo>
                    <a:pt x="64" y="60"/>
                  </a:lnTo>
                  <a:lnTo>
                    <a:pt x="43" y="72"/>
                  </a:lnTo>
                  <a:lnTo>
                    <a:pt x="62" y="41"/>
                  </a:lnTo>
                  <a:lnTo>
                    <a:pt x="49" y="17"/>
                  </a:lnTo>
                  <a:lnTo>
                    <a:pt x="26" y="17"/>
                  </a:lnTo>
                  <a:lnTo>
                    <a:pt x="15" y="24"/>
                  </a:lnTo>
                  <a:lnTo>
                    <a:pt x="9" y="55"/>
                  </a:lnTo>
                  <a:lnTo>
                    <a:pt x="0" y="34"/>
                  </a:lnTo>
                  <a:lnTo>
                    <a:pt x="5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773760" y="1798920"/>
              <a:ext cx="122040" cy="30960"/>
            </a:xfrm>
            <a:custGeom>
              <a:avLst/>
              <a:gdLst/>
              <a:ahLst/>
              <a:rect l="l" t="t" r="r" b="b"/>
              <a:pathLst>
                <a:path w="367" h="110">
                  <a:moveTo>
                    <a:pt x="0" y="0"/>
                  </a:moveTo>
                  <a:lnTo>
                    <a:pt x="0" y="110"/>
                  </a:lnTo>
                  <a:lnTo>
                    <a:pt x="367" y="110"/>
                  </a:lnTo>
                  <a:lnTo>
                    <a:pt x="338" y="80"/>
                  </a:lnTo>
                  <a:lnTo>
                    <a:pt x="207" y="81"/>
                  </a:lnTo>
                  <a:lnTo>
                    <a:pt x="194" y="91"/>
                  </a:lnTo>
                  <a:lnTo>
                    <a:pt x="15" y="91"/>
                  </a:lnTo>
                  <a:lnTo>
                    <a:pt x="15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756840" y="1851840"/>
              <a:ext cx="224280" cy="3600"/>
            </a:xfrm>
            <a:custGeom>
              <a:avLst/>
              <a:gdLst/>
              <a:ahLst/>
              <a:rect l="l" t="t" r="r" b="b"/>
              <a:pathLst>
                <a:path w="671" h="13">
                  <a:moveTo>
                    <a:pt x="0" y="0"/>
                  </a:moveTo>
                  <a:lnTo>
                    <a:pt x="671" y="0"/>
                  </a:lnTo>
                  <a:lnTo>
                    <a:pt x="666" y="13"/>
                  </a:lnTo>
                  <a:lnTo>
                    <a:pt x="4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747480" y="1840320"/>
              <a:ext cx="233640" cy="38160"/>
            </a:xfrm>
            <a:custGeom>
              <a:avLst/>
              <a:gdLst/>
              <a:ahLst/>
              <a:rect l="l" t="t" r="r" b="b"/>
              <a:pathLst>
                <a:path w="699" h="137">
                  <a:moveTo>
                    <a:pt x="19" y="17"/>
                  </a:moveTo>
                  <a:lnTo>
                    <a:pt x="15" y="110"/>
                  </a:lnTo>
                  <a:lnTo>
                    <a:pt x="699" y="124"/>
                  </a:lnTo>
                  <a:lnTo>
                    <a:pt x="699" y="137"/>
                  </a:lnTo>
                  <a:lnTo>
                    <a:pt x="2" y="133"/>
                  </a:lnTo>
                  <a:lnTo>
                    <a:pt x="0" y="0"/>
                  </a:lnTo>
                  <a:lnTo>
                    <a:pt x="19" y="17"/>
                  </a:lnTo>
                  <a:lnTo>
                    <a:pt x="19" y="17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753600" y="1846440"/>
              <a:ext cx="234360" cy="27360"/>
            </a:xfrm>
            <a:custGeom>
              <a:avLst/>
              <a:gdLst/>
              <a:ahLst/>
              <a:rect l="l" t="t" r="r" b="b"/>
              <a:pathLst>
                <a:path w="701" h="99">
                  <a:moveTo>
                    <a:pt x="0" y="0"/>
                  </a:moveTo>
                  <a:lnTo>
                    <a:pt x="0" y="97"/>
                  </a:lnTo>
                  <a:lnTo>
                    <a:pt x="701" y="99"/>
                  </a:lnTo>
                  <a:lnTo>
                    <a:pt x="698" y="85"/>
                  </a:lnTo>
                  <a:lnTo>
                    <a:pt x="11" y="85"/>
                  </a:lnTo>
                  <a:lnTo>
                    <a:pt x="7" y="15"/>
                  </a:lnTo>
                  <a:lnTo>
                    <a:pt x="698" y="17"/>
                  </a:lnTo>
                  <a:lnTo>
                    <a:pt x="69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2627280" y="1735200"/>
            <a:ext cx="954000" cy="83016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3995640" y="1917720"/>
            <a:ext cx="2305080" cy="1440"/>
          </a:xfrm>
          <a:prstGeom prst="line">
            <a:avLst/>
          </a:prstGeom>
          <a:ln w="255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995640" y="2276640"/>
            <a:ext cx="2305080" cy="0"/>
          </a:xfrm>
          <a:prstGeom prst="line">
            <a:avLst/>
          </a:prstGeom>
          <a:ln w="25560">
            <a:solidFill>
              <a:srgbClr val="00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484360" y="122076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 Narrow"/>
                <a:ea typeface="Arial"/>
              </a:rPr>
              <a:t>Client Internet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rot="16200000">
            <a:off x="4578840" y="1377000"/>
            <a:ext cx="1254240" cy="1468440"/>
          </a:xfrm>
          <a:prstGeom prst="cloudCallout">
            <a:avLst>
              <a:gd name="adj1" fmla="val -36837"/>
              <a:gd name="adj2" fmla="val -10217"/>
            </a:avLst>
          </a:prstGeom>
          <a:solidFill>
            <a:srgbClr val="ccec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Interne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300720" y="1220760"/>
            <a:ext cx="13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 Narrow"/>
                <a:ea typeface="Arial"/>
              </a:rPr>
              <a:t>Serveur Web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236000" y="1916280"/>
            <a:ext cx="1223640" cy="865080"/>
          </a:xfrm>
          <a:prstGeom prst="flowChartInternalStorage">
            <a:avLst/>
          </a:prstGeom>
          <a:solidFill>
            <a:srgbClr val="cce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 Narrow"/>
                <a:ea typeface="Arial"/>
              </a:rPr>
              <a:t>HTML +</a:t>
            </a:r>
            <a:br>
              <a:rPr sz="1600"/>
            </a:br>
            <a:r>
              <a:rPr b="1" lang="en-US" sz="1600" spc="-1" strike="noStrike">
                <a:solidFill>
                  <a:srgbClr val="003300"/>
                </a:solidFill>
                <a:latin typeface="Arial Narrow"/>
                <a:ea typeface="Arial"/>
              </a:rPr>
              <a:t>Instruction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2410560" y="3141720"/>
            <a:ext cx="1584360" cy="647640"/>
          </a:xfrm>
          <a:prstGeom prst="wedgeRoundRectCallout">
            <a:avLst>
              <a:gd name="adj1" fmla="val 5310"/>
              <a:gd name="adj2" fmla="val -80884"/>
              <a:gd name="adj3" fmla="val 1666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00"/>
                </a:solidFill>
                <a:latin typeface="Arial Narrow"/>
              </a:rPr>
              <a:t>Zone du Client (Maison)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5076720" y="3573360"/>
            <a:ext cx="1728720" cy="647640"/>
          </a:xfrm>
          <a:prstGeom prst="wedgeRoundRectCallout">
            <a:avLst>
              <a:gd name="adj1" fmla="val -60101"/>
              <a:gd name="adj2" fmla="val -137013"/>
              <a:gd name="adj3" fmla="val 1666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00"/>
                </a:solidFill>
                <a:latin typeface="Arial Narrow"/>
              </a:rPr>
              <a:t>Zone du Serveur (Organisation)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4067280" y="981000"/>
            <a:ext cx="1944720" cy="358920"/>
          </a:xfrm>
          <a:prstGeom prst="wedgeRoundRectCallout">
            <a:avLst>
              <a:gd name="adj1" fmla="val 46976"/>
              <a:gd name="adj2" fmla="val 207518"/>
              <a:gd name="adj3" fmla="val 1666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00"/>
                </a:solidFill>
                <a:latin typeface="Arial Narrow"/>
              </a:rPr>
              <a:t>1. Requête: Adress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4282920" y="2997360"/>
            <a:ext cx="1944720" cy="358560"/>
          </a:xfrm>
          <a:prstGeom prst="wedgeRoundRectCallout">
            <a:avLst>
              <a:gd name="adj1" fmla="val -46574"/>
              <a:gd name="adj2" fmla="val -249115"/>
              <a:gd name="adj3" fmla="val 1666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00"/>
                </a:solidFill>
                <a:latin typeface="Arial Narrow"/>
              </a:rPr>
              <a:t>3. Réponse: HTML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473240" y="1557360"/>
            <a:ext cx="90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 Narrow"/>
              </a:rPr>
              <a:t>page.asp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7020000" y="3789360"/>
            <a:ext cx="1944720" cy="576360"/>
          </a:xfrm>
          <a:prstGeom prst="wedgeRoundRectCallout">
            <a:avLst>
              <a:gd name="adj1" fmla="val 25587"/>
              <a:gd name="adj2" fmla="val -251106"/>
              <a:gd name="adj3" fmla="val 1666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00"/>
                </a:solidFill>
                <a:latin typeface="Arial Narrow"/>
              </a:rPr>
              <a:t>2. Exécution des instruction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D71A7-C70D-4BF9-8B01-EBA5BAAB69E0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Pages web dynamiques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2700000" y="914040"/>
            <a:ext cx="6443640" cy="57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Caractéristiq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a page web peut FAIRE QUELQUE CHOSE sur le Serveur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Elle peut modifier son contenu </a:t>
            </a:r>
            <a:r>
              <a:rPr b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la page est dynamiqu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Avantag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apable d'accepter des paramètres de la part des client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ossible de construire la page en fonction des paramètr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apable d’accéder à une base de donné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éduction importante des mises à jour des pages web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ossibilité quasi-infini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nconvénie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equiert une technologie spéciale sur le serveur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equiert un langage de commande au niveau du serveur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(JavaScript, VBScript, PHP, ...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Mélange d'HTML et d'instructions spécial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Utilise du temps d'éxécution du serveur web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E9C18-FC02-405C-8F8D-AF3AE2DDE5F7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Technologies de pages web dynamiques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843280" y="914400"/>
            <a:ext cx="63007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CGI: Common Gatewa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remière technologie supporté par la plupart des serveur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eu performante </a:t>
            </a:r>
            <a:r>
              <a:rPr b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de moins en moins utilisé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ASP: Active Server Pag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erveurs Internet Information Server (systèmes Windows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ouvent utilisé avec SQL Server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PHP: Hypertext Preprocess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erveurs Apache (systèmes Unix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ouvent utilisé avec MySQ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Nombreuses autres technologi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JSP: Java Server Pag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SP.NET (successeur de ASP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Voir </a:t>
            </a:r>
            <a:r>
              <a:rPr b="1" lang="fr-FR" sz="2000" spc="-1" strike="noStrike" u="sng">
                <a:solidFill>
                  <a:srgbClr val="0000cc"/>
                </a:solidFill>
                <a:uFillTx/>
                <a:latin typeface="Arial Narrow"/>
                <a:hlinkClick r:id="rId1"/>
              </a:rPr>
              <a:t>http://www.commentcamarche.net/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3A351-F352-44C7-823F-51F2EFEF3C2D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2771640" y="1557360"/>
            <a:ext cx="3240360" cy="2951280"/>
          </a:xfrm>
          <a:prstGeom prst="roundRect">
            <a:avLst>
              <a:gd name="adj" fmla="val 16667"/>
            </a:avLst>
          </a:prstGeom>
          <a:solidFill>
            <a:srgbClr val="c0c0c0">
              <a:alpha val="30000"/>
            </a:srgbClr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Exemple de Page ASP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700360" y="4868640"/>
            <a:ext cx="6192720" cy="18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Notes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a page est un mélange d'HTML et d'instructions A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es instructions se trouvent entre &lt;% et %&gt;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voir </a:t>
            </a:r>
            <a:r>
              <a:rPr b="1" lang="fr-FR" sz="1800" spc="-1" strike="noStrike" u="sng">
                <a:solidFill>
                  <a:srgbClr val="0000cc"/>
                </a:solidFill>
                <a:uFillTx/>
                <a:latin typeface="Arial Narrow"/>
                <a:hlinkClick r:id="rId1"/>
              </a:rPr>
              <a:t>www.microsoft.co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8" name=""/>
          <p:cNvSpPr/>
          <p:nvPr/>
        </p:nvSpPr>
        <p:spPr>
          <a:xfrm>
            <a:off x="3059280" y="3141720"/>
            <a:ext cx="2808000" cy="71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627280" y="1628640"/>
            <a:ext cx="3384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&lt;html&gt; 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&lt;head&gt; 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  &lt;title&gt;Hello World&lt;/title&gt; 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&lt;/head&gt; 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&lt;body&gt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&lt;h1&gt;Test ASP&lt;/h1&gt;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&lt;% 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   Response.Write "Hello ASP!"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 %&gt; 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&lt;/body&gt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&lt;/html&gt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6588000" y="2637000"/>
            <a:ext cx="1656000" cy="647640"/>
          </a:xfrm>
          <a:prstGeom prst="wedgeRoundRectCallout">
            <a:avLst>
              <a:gd name="adj1" fmla="val 92087"/>
              <a:gd name="adj2" fmla="val 81615"/>
              <a:gd name="adj3" fmla="val 1666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00"/>
                </a:solidFill>
                <a:latin typeface="Arial Narrow"/>
              </a:rPr>
              <a:t>Instructions à exécuter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6443640" y="1557360"/>
            <a:ext cx="1944720" cy="576360"/>
          </a:xfrm>
          <a:prstGeom prst="wedgeRoundRectCallout">
            <a:avLst>
              <a:gd name="adj1" fmla="val 71629"/>
              <a:gd name="adj2" fmla="val 161569"/>
              <a:gd name="adj3" fmla="val 1666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00"/>
                </a:solidFill>
                <a:latin typeface="Arial Narrow"/>
              </a:rPr>
              <a:t>HTML normal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855600" y="1197000"/>
            <a:ext cx="99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 Narrow"/>
              </a:rPr>
              <a:t>page.asp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CC7E8-074B-400B-9FA0-2A66A22BE867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2771640" y="1557360"/>
            <a:ext cx="3240360" cy="2951280"/>
          </a:xfrm>
          <a:prstGeom prst="roundRect">
            <a:avLst>
              <a:gd name="adj" fmla="val 16667"/>
            </a:avLst>
          </a:prstGeom>
          <a:solidFill>
            <a:srgbClr val="c0c0c0">
              <a:alpha val="30000"/>
            </a:srgbClr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Exemple de Page PHP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700360" y="4868640"/>
            <a:ext cx="6192720" cy="18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Notes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a page est un mélange d'HTML et d'instructions PH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es instructions se trouvent entre &lt;? et ?&gt;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voir </a:t>
            </a:r>
            <a:r>
              <a:rPr b="1" lang="fr-FR" sz="1800" spc="-1" strike="noStrike" u="sng">
                <a:solidFill>
                  <a:srgbClr val="0000cc"/>
                </a:solidFill>
                <a:uFillTx/>
                <a:latin typeface="Arial Narrow"/>
                <a:hlinkClick r:id="rId1"/>
              </a:rPr>
              <a:t>www.phpinfo.ne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6" name=""/>
          <p:cNvSpPr/>
          <p:nvPr/>
        </p:nvSpPr>
        <p:spPr>
          <a:xfrm>
            <a:off x="3059280" y="3141720"/>
            <a:ext cx="2808000" cy="71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627280" y="1628640"/>
            <a:ext cx="3384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&lt;html&gt; 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&lt;head&gt; 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  &lt;title&gt;Hello World&lt;/title&gt; 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&lt;/head&gt; 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&lt;body&gt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&lt;h1&gt;Test ASP&lt;/h1&gt;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&lt;?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   echo "Hello PHP!";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 ?&gt; 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&lt;/body&gt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&lt;/html&gt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6588000" y="2637000"/>
            <a:ext cx="1656000" cy="647640"/>
          </a:xfrm>
          <a:prstGeom prst="wedgeRoundRectCallout">
            <a:avLst>
              <a:gd name="adj1" fmla="val 92087"/>
              <a:gd name="adj2" fmla="val 81615"/>
              <a:gd name="adj3" fmla="val 1666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00"/>
                </a:solidFill>
                <a:latin typeface="Arial Narrow"/>
              </a:rPr>
              <a:t>Instructions à exécuter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6443640" y="1557360"/>
            <a:ext cx="1944720" cy="576360"/>
          </a:xfrm>
          <a:prstGeom prst="wedgeRoundRectCallout">
            <a:avLst>
              <a:gd name="adj1" fmla="val 71629"/>
              <a:gd name="adj2" fmla="val 161569"/>
              <a:gd name="adj3" fmla="val 1666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00"/>
                </a:solidFill>
                <a:latin typeface="Arial Narrow"/>
              </a:rPr>
              <a:t>HTML normal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844800" y="119700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 Narrow"/>
              </a:rPr>
              <a:t>page.php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352B8-AA03-4C01-8221-B104D4C66367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3300"/>
                </a:solidFill>
                <a:latin typeface="Arial Narrow"/>
              </a:rPr>
              <a:t>Accès aux bases de données</a:t>
            </a: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2437920" y="764640"/>
            <a:ext cx="6705720" cy="20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ccès à une base de données en 4 étap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Connexion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à une base de données du serveur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Requête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Envoi d'une requête SQL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Lecture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Boucle pour lire chaque ligne de résultat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Déconnexion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Fermeture de la connex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Instructions correspondantes en ASP et PH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3" name=""/>
          <p:cNvSpPr/>
          <p:nvPr/>
        </p:nvSpPr>
        <p:spPr>
          <a:xfrm>
            <a:off x="2124000" y="2852640"/>
            <a:ext cx="37432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SP avec SQL Serve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oConnexion.Open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oRecordset.Open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While Not oRecordset.EOF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   Valeur = oRecordset(Col) 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Wend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oConnexion.Clos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68720" y="2854440"/>
            <a:ext cx="42116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HP avec MySQL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ysql_connec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ysql_select_db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ysql_quer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while($row=my_sql_fetch_array($result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{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$valeur = $row[$col]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ysql_clos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647800" y="3284640"/>
            <a:ext cx="6172200" cy="0"/>
          </a:xfrm>
          <a:prstGeom prst="line">
            <a:avLst/>
          </a:prstGeom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364000" y="2852640"/>
            <a:ext cx="0" cy="2952720"/>
          </a:xfrm>
          <a:prstGeom prst="line">
            <a:avLst/>
          </a:prstGeom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942D2-CF97-4697-986E-C9591FB91A80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6300720" y="1125360"/>
            <a:ext cx="2303640" cy="3743640"/>
          </a:xfrm>
          <a:custGeom>
            <a:avLst/>
            <a:gdLst>
              <a:gd name="textAreaLeft" fmla="*/ 112320 w 2303640"/>
              <a:gd name="textAreaRight" fmla="*/ 2191320 w 2303640"/>
              <a:gd name="textAreaTop" fmla="*/ 112320 h 3743640"/>
              <a:gd name="textAreaBottom" fmla="*/ 3631320 h 3743640"/>
            </a:gdLst>
            <a:ahLst/>
            <a:rect l="textAreaLeft" t="textAreaTop" r="textAreaRight" b="textAreaBottom"/>
            <a:pathLst>
              <a:path w="21600" h="35100">
                <a:moveTo>
                  <a:pt x="3600" y="0"/>
                </a:moveTo>
                <a:arcTo wR="3600" hR="3600" stAng="16200000" swAng="-5400000"/>
                <a:lnTo>
                  <a:pt x="0" y="31500"/>
                </a:lnTo>
                <a:arcTo wR="3600" hR="3600" stAng="10800000" swAng="-5400000"/>
                <a:lnTo>
                  <a:pt x="18000" y="351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>
              <a:alpha val="30000"/>
            </a:srgbClr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411280" y="1125360"/>
            <a:ext cx="1584360" cy="18003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1800360"/>
              <a:gd name="textAreaBottom" fmla="*/ 1723320 h 1800360"/>
            </a:gdLst>
            <a:ahLst/>
            <a:rect l="textAreaLeft" t="textAreaTop" r="textAreaRight" b="textAreaBottom"/>
            <a:pathLst>
              <a:path w="21600" h="24544">
                <a:moveTo>
                  <a:pt x="3600" y="0"/>
                </a:moveTo>
                <a:arcTo wR="3600" hR="3600" stAng="16200000" swAng="-5400000"/>
                <a:lnTo>
                  <a:pt x="0" y="20944"/>
                </a:lnTo>
                <a:arcTo wR="3600" hR="3600" stAng="10800000" swAng="-5400000"/>
                <a:lnTo>
                  <a:pt x="18000" y="24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>
              <a:alpha val="30000"/>
            </a:srgbClr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Client-Serveur - Page web avec BD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2484000" y="4581360"/>
            <a:ext cx="6551640" cy="21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3 Étapes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e Client envoie l'adresse d'une page web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a page dynamique exécute ses instructions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: connexion;  b: SQL;  c: résultats  d: déconnexion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our générer son contenu HTM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e Serveur renvoie le contenu HTM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6659640" y="1628640"/>
            <a:ext cx="504360" cy="1008000"/>
            <a:chOff x="6659640" y="1628640"/>
            <a:chExt cx="504360" cy="1008000"/>
          </a:xfrm>
        </p:grpSpPr>
        <p:sp>
          <p:nvSpPr>
            <p:cNvPr id="682" name=""/>
            <p:cNvSpPr/>
            <p:nvPr/>
          </p:nvSpPr>
          <p:spPr>
            <a:xfrm>
              <a:off x="7019280" y="2444760"/>
              <a:ext cx="144720" cy="180360"/>
            </a:xfrm>
            <a:custGeom>
              <a:avLst/>
              <a:gdLst/>
              <a:ahLst/>
              <a:rect l="l" t="t" r="r" b="b"/>
              <a:pathLst>
                <a:path w="433" h="640">
                  <a:moveTo>
                    <a:pt x="0" y="441"/>
                  </a:moveTo>
                  <a:lnTo>
                    <a:pt x="289" y="0"/>
                  </a:lnTo>
                  <a:lnTo>
                    <a:pt x="414" y="68"/>
                  </a:lnTo>
                  <a:lnTo>
                    <a:pt x="433" y="144"/>
                  </a:lnTo>
                  <a:lnTo>
                    <a:pt x="138" y="640"/>
                  </a:lnTo>
                  <a:lnTo>
                    <a:pt x="0" y="441"/>
                  </a:lnTo>
                  <a:lnTo>
                    <a:pt x="0" y="4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664680" y="1635120"/>
              <a:ext cx="411840" cy="997200"/>
            </a:xfrm>
            <a:custGeom>
              <a:avLst/>
              <a:gdLst/>
              <a:ahLst/>
              <a:rect l="l" t="t" r="r" b="b"/>
              <a:pathLst>
                <a:path w="1234" h="3549">
                  <a:moveTo>
                    <a:pt x="104" y="0"/>
                  </a:moveTo>
                  <a:lnTo>
                    <a:pt x="1074" y="19"/>
                  </a:lnTo>
                  <a:lnTo>
                    <a:pt x="1061" y="3289"/>
                  </a:lnTo>
                  <a:lnTo>
                    <a:pt x="1234" y="3549"/>
                  </a:lnTo>
                  <a:lnTo>
                    <a:pt x="0" y="3433"/>
                  </a:lnTo>
                  <a:lnTo>
                    <a:pt x="104" y="3247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662160" y="2559960"/>
              <a:ext cx="407880" cy="66600"/>
            </a:xfrm>
            <a:custGeom>
              <a:avLst/>
              <a:gdLst/>
              <a:ahLst/>
              <a:rect l="l" t="t" r="r" b="b"/>
              <a:pathLst>
                <a:path w="1223" h="238">
                  <a:moveTo>
                    <a:pt x="88" y="0"/>
                  </a:moveTo>
                  <a:lnTo>
                    <a:pt x="1122" y="80"/>
                  </a:lnTo>
                  <a:lnTo>
                    <a:pt x="1150" y="126"/>
                  </a:lnTo>
                  <a:lnTo>
                    <a:pt x="202" y="63"/>
                  </a:lnTo>
                  <a:lnTo>
                    <a:pt x="1188" y="164"/>
                  </a:lnTo>
                  <a:lnTo>
                    <a:pt x="1223" y="238"/>
                  </a:lnTo>
                  <a:lnTo>
                    <a:pt x="0" y="137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700320" y="1660680"/>
              <a:ext cx="65160" cy="883440"/>
            </a:xfrm>
            <a:custGeom>
              <a:avLst/>
              <a:gdLst/>
              <a:ahLst/>
              <a:rect l="l" t="t" r="r" b="b"/>
              <a:pathLst>
                <a:path w="198" h="3144">
                  <a:moveTo>
                    <a:pt x="4" y="0"/>
                  </a:moveTo>
                  <a:lnTo>
                    <a:pt x="53" y="4"/>
                  </a:lnTo>
                  <a:lnTo>
                    <a:pt x="61" y="57"/>
                  </a:lnTo>
                  <a:lnTo>
                    <a:pt x="194" y="61"/>
                  </a:lnTo>
                  <a:lnTo>
                    <a:pt x="198" y="354"/>
                  </a:lnTo>
                  <a:lnTo>
                    <a:pt x="61" y="365"/>
                  </a:lnTo>
                  <a:lnTo>
                    <a:pt x="76" y="3144"/>
                  </a:lnTo>
                  <a:lnTo>
                    <a:pt x="0" y="314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703560" y="1645920"/>
              <a:ext cx="304920" cy="921960"/>
            </a:xfrm>
            <a:custGeom>
              <a:avLst/>
              <a:gdLst/>
              <a:ahLst/>
              <a:rect l="l" t="t" r="r" b="b"/>
              <a:pathLst>
                <a:path w="912" h="3281">
                  <a:moveTo>
                    <a:pt x="45" y="0"/>
                  </a:moveTo>
                  <a:lnTo>
                    <a:pt x="49" y="42"/>
                  </a:lnTo>
                  <a:lnTo>
                    <a:pt x="104" y="42"/>
                  </a:lnTo>
                  <a:lnTo>
                    <a:pt x="104" y="97"/>
                  </a:lnTo>
                  <a:lnTo>
                    <a:pt x="213" y="105"/>
                  </a:lnTo>
                  <a:lnTo>
                    <a:pt x="216" y="405"/>
                  </a:lnTo>
                  <a:lnTo>
                    <a:pt x="97" y="439"/>
                  </a:lnTo>
                  <a:lnTo>
                    <a:pt x="140" y="3000"/>
                  </a:lnTo>
                  <a:lnTo>
                    <a:pt x="91" y="3022"/>
                  </a:lnTo>
                  <a:lnTo>
                    <a:pt x="11" y="3013"/>
                  </a:lnTo>
                  <a:lnTo>
                    <a:pt x="0" y="3197"/>
                  </a:lnTo>
                  <a:lnTo>
                    <a:pt x="908" y="3281"/>
                  </a:lnTo>
                  <a:lnTo>
                    <a:pt x="910" y="424"/>
                  </a:lnTo>
                  <a:lnTo>
                    <a:pt x="741" y="413"/>
                  </a:lnTo>
                  <a:lnTo>
                    <a:pt x="732" y="112"/>
                  </a:lnTo>
                  <a:lnTo>
                    <a:pt x="874" y="105"/>
                  </a:lnTo>
                  <a:lnTo>
                    <a:pt x="874" y="38"/>
                  </a:lnTo>
                  <a:lnTo>
                    <a:pt x="912" y="34"/>
                  </a:lnTo>
                  <a:lnTo>
                    <a:pt x="912" y="0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021440" y="1632960"/>
              <a:ext cx="118800" cy="933480"/>
            </a:xfrm>
            <a:custGeom>
              <a:avLst/>
              <a:gdLst/>
              <a:ahLst/>
              <a:rect l="l" t="t" r="r" b="b"/>
              <a:pathLst>
                <a:path w="358" h="3322">
                  <a:moveTo>
                    <a:pt x="0" y="0"/>
                  </a:moveTo>
                  <a:lnTo>
                    <a:pt x="14" y="3322"/>
                  </a:lnTo>
                  <a:lnTo>
                    <a:pt x="358" y="2824"/>
                  </a:lnTo>
                  <a:lnTo>
                    <a:pt x="301" y="1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691680" y="1628640"/>
              <a:ext cx="439920" cy="380880"/>
            </a:xfrm>
            <a:custGeom>
              <a:avLst/>
              <a:gdLst/>
              <a:ahLst/>
              <a:rect l="l" t="t" r="r" b="b"/>
              <a:pathLst>
                <a:path w="1318" h="1356">
                  <a:moveTo>
                    <a:pt x="0" y="0"/>
                  </a:moveTo>
                  <a:lnTo>
                    <a:pt x="991" y="2"/>
                  </a:lnTo>
                  <a:lnTo>
                    <a:pt x="1318" y="145"/>
                  </a:lnTo>
                  <a:lnTo>
                    <a:pt x="1314" y="1356"/>
                  </a:lnTo>
                  <a:lnTo>
                    <a:pt x="1269" y="164"/>
                  </a:lnTo>
                  <a:lnTo>
                    <a:pt x="980" y="40"/>
                  </a:lnTo>
                  <a:lnTo>
                    <a:pt x="33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664320" y="1628640"/>
              <a:ext cx="371880" cy="965880"/>
            </a:xfrm>
            <a:custGeom>
              <a:avLst/>
              <a:gdLst/>
              <a:ahLst/>
              <a:rect l="l" t="t" r="r" b="b"/>
              <a:pathLst>
                <a:path w="1114" h="3435">
                  <a:moveTo>
                    <a:pt x="85" y="0"/>
                  </a:moveTo>
                  <a:lnTo>
                    <a:pt x="85" y="3237"/>
                  </a:lnTo>
                  <a:lnTo>
                    <a:pt x="0" y="3435"/>
                  </a:lnTo>
                  <a:lnTo>
                    <a:pt x="129" y="3306"/>
                  </a:lnTo>
                  <a:lnTo>
                    <a:pt x="1085" y="3363"/>
                  </a:lnTo>
                  <a:lnTo>
                    <a:pt x="1114" y="3313"/>
                  </a:lnTo>
                  <a:lnTo>
                    <a:pt x="878" y="3306"/>
                  </a:lnTo>
                  <a:lnTo>
                    <a:pt x="829" y="3270"/>
                  </a:lnTo>
                  <a:lnTo>
                    <a:pt x="378" y="3237"/>
                  </a:lnTo>
                  <a:lnTo>
                    <a:pt x="348" y="3266"/>
                  </a:lnTo>
                  <a:lnTo>
                    <a:pt x="127" y="3237"/>
                  </a:lnTo>
                  <a:lnTo>
                    <a:pt x="129" y="38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736320" y="1760040"/>
              <a:ext cx="265680" cy="754200"/>
            </a:xfrm>
            <a:custGeom>
              <a:avLst/>
              <a:gdLst/>
              <a:ahLst/>
              <a:rect l="l" t="t" r="r" b="b"/>
              <a:pathLst>
                <a:path w="796" h="2684">
                  <a:moveTo>
                    <a:pt x="0" y="82"/>
                  </a:moveTo>
                  <a:lnTo>
                    <a:pt x="732" y="89"/>
                  </a:lnTo>
                  <a:lnTo>
                    <a:pt x="720" y="53"/>
                  </a:lnTo>
                  <a:lnTo>
                    <a:pt x="635" y="0"/>
                  </a:lnTo>
                  <a:lnTo>
                    <a:pt x="796" y="0"/>
                  </a:lnTo>
                  <a:lnTo>
                    <a:pt x="773" y="28"/>
                  </a:lnTo>
                  <a:lnTo>
                    <a:pt x="771" y="2684"/>
                  </a:lnTo>
                  <a:lnTo>
                    <a:pt x="728" y="1023"/>
                  </a:lnTo>
                  <a:lnTo>
                    <a:pt x="22" y="1002"/>
                  </a:lnTo>
                  <a:lnTo>
                    <a:pt x="43" y="981"/>
                  </a:lnTo>
                  <a:lnTo>
                    <a:pt x="732" y="994"/>
                  </a:lnTo>
                  <a:lnTo>
                    <a:pt x="732" y="808"/>
                  </a:lnTo>
                  <a:lnTo>
                    <a:pt x="19" y="791"/>
                  </a:lnTo>
                  <a:lnTo>
                    <a:pt x="19" y="762"/>
                  </a:lnTo>
                  <a:lnTo>
                    <a:pt x="735" y="779"/>
                  </a:lnTo>
                  <a:lnTo>
                    <a:pt x="728" y="555"/>
                  </a:lnTo>
                  <a:lnTo>
                    <a:pt x="7" y="540"/>
                  </a:lnTo>
                  <a:lnTo>
                    <a:pt x="11" y="515"/>
                  </a:lnTo>
                  <a:lnTo>
                    <a:pt x="745" y="515"/>
                  </a:lnTo>
                  <a:lnTo>
                    <a:pt x="713" y="135"/>
                  </a:lnTo>
                  <a:lnTo>
                    <a:pt x="631" y="122"/>
                  </a:lnTo>
                  <a:lnTo>
                    <a:pt x="566" y="139"/>
                  </a:lnTo>
                  <a:lnTo>
                    <a:pt x="108" y="135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785640" y="1802160"/>
              <a:ext cx="163440" cy="24480"/>
            </a:xfrm>
            <a:custGeom>
              <a:avLst/>
              <a:gdLst/>
              <a:ahLst/>
              <a:rect l="l" t="t" r="r" b="b"/>
              <a:pathLst>
                <a:path w="490" h="88">
                  <a:moveTo>
                    <a:pt x="2" y="8"/>
                  </a:moveTo>
                  <a:lnTo>
                    <a:pt x="487" y="0"/>
                  </a:lnTo>
                  <a:lnTo>
                    <a:pt x="490" y="40"/>
                  </a:lnTo>
                  <a:lnTo>
                    <a:pt x="338" y="42"/>
                  </a:lnTo>
                  <a:lnTo>
                    <a:pt x="338" y="88"/>
                  </a:lnTo>
                  <a:lnTo>
                    <a:pt x="310" y="61"/>
                  </a:lnTo>
                  <a:lnTo>
                    <a:pt x="165" y="63"/>
                  </a:lnTo>
                  <a:lnTo>
                    <a:pt x="154" y="36"/>
                  </a:lnTo>
                  <a:lnTo>
                    <a:pt x="0" y="38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910560" y="1816920"/>
              <a:ext cx="43200" cy="14040"/>
            </a:xfrm>
            <a:custGeom>
              <a:avLst/>
              <a:gdLst/>
              <a:ahLst/>
              <a:rect l="l" t="t" r="r" b="b"/>
              <a:pathLst>
                <a:path w="130" h="52">
                  <a:moveTo>
                    <a:pt x="6" y="33"/>
                  </a:moveTo>
                  <a:lnTo>
                    <a:pt x="99" y="33"/>
                  </a:lnTo>
                  <a:lnTo>
                    <a:pt x="101" y="16"/>
                  </a:lnTo>
                  <a:lnTo>
                    <a:pt x="6" y="16"/>
                  </a:lnTo>
                  <a:lnTo>
                    <a:pt x="2" y="2"/>
                  </a:lnTo>
                  <a:lnTo>
                    <a:pt x="128" y="0"/>
                  </a:lnTo>
                  <a:lnTo>
                    <a:pt x="130" y="52"/>
                  </a:lnTo>
                  <a:lnTo>
                    <a:pt x="0" y="48"/>
                  </a:lnTo>
                  <a:lnTo>
                    <a:pt x="6" y="33"/>
                  </a:lnTo>
                  <a:lnTo>
                    <a:pt x="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736320" y="1782360"/>
              <a:ext cx="7200" cy="127080"/>
            </a:xfrm>
            <a:custGeom>
              <a:avLst/>
              <a:gdLst/>
              <a:ahLst/>
              <a:rect l="l" t="t" r="r" b="b"/>
              <a:pathLst>
                <a:path w="22" h="452">
                  <a:moveTo>
                    <a:pt x="0" y="0"/>
                  </a:moveTo>
                  <a:lnTo>
                    <a:pt x="5" y="452"/>
                  </a:lnTo>
                  <a:lnTo>
                    <a:pt x="22" y="450"/>
                  </a:lnTo>
                  <a:lnTo>
                    <a:pt x="15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941160" y="1886400"/>
              <a:ext cx="29880" cy="1332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3" y="0"/>
                  </a:moveTo>
                  <a:lnTo>
                    <a:pt x="0" y="42"/>
                  </a:lnTo>
                  <a:lnTo>
                    <a:pt x="89" y="48"/>
                  </a:lnTo>
                  <a:lnTo>
                    <a:pt x="89" y="12"/>
                  </a:lnTo>
                  <a:lnTo>
                    <a:pt x="70" y="27"/>
                  </a:lnTo>
                  <a:lnTo>
                    <a:pt x="19" y="29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977520" y="1654200"/>
              <a:ext cx="19080" cy="21600"/>
            </a:xfrm>
            <a:custGeom>
              <a:avLst/>
              <a:gdLst/>
              <a:ahLst/>
              <a:rect l="l" t="t" r="r" b="b"/>
              <a:pathLst>
                <a:path w="57" h="77">
                  <a:moveTo>
                    <a:pt x="53" y="0"/>
                  </a:moveTo>
                  <a:lnTo>
                    <a:pt x="0" y="41"/>
                  </a:lnTo>
                  <a:lnTo>
                    <a:pt x="0" y="77"/>
                  </a:lnTo>
                  <a:lnTo>
                    <a:pt x="57" y="74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945840" y="1676880"/>
              <a:ext cx="8280" cy="84600"/>
            </a:xfrm>
            <a:custGeom>
              <a:avLst/>
              <a:gdLst/>
              <a:ahLst/>
              <a:rect l="l" t="t" r="r" b="b"/>
              <a:pathLst>
                <a:path w="25" h="303">
                  <a:moveTo>
                    <a:pt x="0" y="2"/>
                  </a:moveTo>
                  <a:lnTo>
                    <a:pt x="4" y="303"/>
                  </a:lnTo>
                  <a:lnTo>
                    <a:pt x="25" y="303"/>
                  </a:lnTo>
                  <a:lnTo>
                    <a:pt x="23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954480" y="1677960"/>
              <a:ext cx="51840" cy="80280"/>
            </a:xfrm>
            <a:custGeom>
              <a:avLst/>
              <a:gdLst/>
              <a:ahLst/>
              <a:rect l="l" t="t" r="r" b="b"/>
              <a:pathLst>
                <a:path w="155" h="287">
                  <a:moveTo>
                    <a:pt x="133" y="2"/>
                  </a:moveTo>
                  <a:lnTo>
                    <a:pt x="135" y="141"/>
                  </a:lnTo>
                  <a:lnTo>
                    <a:pt x="9" y="143"/>
                  </a:lnTo>
                  <a:lnTo>
                    <a:pt x="0" y="156"/>
                  </a:lnTo>
                  <a:lnTo>
                    <a:pt x="135" y="156"/>
                  </a:lnTo>
                  <a:lnTo>
                    <a:pt x="136" y="285"/>
                  </a:lnTo>
                  <a:lnTo>
                    <a:pt x="155" y="287"/>
                  </a:lnTo>
                  <a:lnTo>
                    <a:pt x="148" y="0"/>
                  </a:lnTo>
                  <a:lnTo>
                    <a:pt x="133" y="2"/>
                  </a:lnTo>
                  <a:lnTo>
                    <a:pt x="13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966000" y="1681920"/>
              <a:ext cx="25200" cy="20160"/>
            </a:xfrm>
            <a:custGeom>
              <a:avLst/>
              <a:gdLst/>
              <a:ahLst/>
              <a:rect l="l" t="t" r="r" b="b"/>
              <a:pathLst>
                <a:path w="76" h="73">
                  <a:moveTo>
                    <a:pt x="6" y="10"/>
                  </a:moveTo>
                  <a:lnTo>
                    <a:pt x="30" y="0"/>
                  </a:lnTo>
                  <a:lnTo>
                    <a:pt x="55" y="0"/>
                  </a:lnTo>
                  <a:lnTo>
                    <a:pt x="72" y="19"/>
                  </a:lnTo>
                  <a:lnTo>
                    <a:pt x="76" y="48"/>
                  </a:lnTo>
                  <a:lnTo>
                    <a:pt x="64" y="61"/>
                  </a:lnTo>
                  <a:lnTo>
                    <a:pt x="44" y="73"/>
                  </a:lnTo>
                  <a:lnTo>
                    <a:pt x="63" y="42"/>
                  </a:lnTo>
                  <a:lnTo>
                    <a:pt x="49" y="18"/>
                  </a:lnTo>
                  <a:lnTo>
                    <a:pt x="26" y="18"/>
                  </a:lnTo>
                  <a:lnTo>
                    <a:pt x="15" y="25"/>
                  </a:lnTo>
                  <a:lnTo>
                    <a:pt x="9" y="56"/>
                  </a:lnTo>
                  <a:lnTo>
                    <a:pt x="0" y="33"/>
                  </a:lnTo>
                  <a:lnTo>
                    <a:pt x="6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734880" y="1680840"/>
              <a:ext cx="25200" cy="20160"/>
            </a:xfrm>
            <a:custGeom>
              <a:avLst/>
              <a:gdLst/>
              <a:ahLst/>
              <a:rect l="l" t="t" r="r" b="b"/>
              <a:pathLst>
                <a:path w="76" h="72">
                  <a:moveTo>
                    <a:pt x="5" y="7"/>
                  </a:moveTo>
                  <a:lnTo>
                    <a:pt x="30" y="0"/>
                  </a:lnTo>
                  <a:lnTo>
                    <a:pt x="53" y="0"/>
                  </a:lnTo>
                  <a:lnTo>
                    <a:pt x="72" y="19"/>
                  </a:lnTo>
                  <a:lnTo>
                    <a:pt x="76" y="47"/>
                  </a:lnTo>
                  <a:lnTo>
                    <a:pt x="64" y="60"/>
                  </a:lnTo>
                  <a:lnTo>
                    <a:pt x="43" y="72"/>
                  </a:lnTo>
                  <a:lnTo>
                    <a:pt x="62" y="40"/>
                  </a:lnTo>
                  <a:lnTo>
                    <a:pt x="49" y="17"/>
                  </a:lnTo>
                  <a:lnTo>
                    <a:pt x="26" y="17"/>
                  </a:lnTo>
                  <a:lnTo>
                    <a:pt x="15" y="24"/>
                  </a:lnTo>
                  <a:lnTo>
                    <a:pt x="9" y="55"/>
                  </a:lnTo>
                  <a:lnTo>
                    <a:pt x="0" y="32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736320" y="1725120"/>
              <a:ext cx="25200" cy="19800"/>
            </a:xfrm>
            <a:custGeom>
              <a:avLst/>
              <a:gdLst/>
              <a:ahLst/>
              <a:rect l="l" t="t" r="r" b="b"/>
              <a:pathLst>
                <a:path w="76" h="73">
                  <a:moveTo>
                    <a:pt x="5" y="10"/>
                  </a:moveTo>
                  <a:lnTo>
                    <a:pt x="30" y="0"/>
                  </a:lnTo>
                  <a:lnTo>
                    <a:pt x="55" y="0"/>
                  </a:lnTo>
                  <a:lnTo>
                    <a:pt x="72" y="19"/>
                  </a:lnTo>
                  <a:lnTo>
                    <a:pt x="76" y="48"/>
                  </a:lnTo>
                  <a:lnTo>
                    <a:pt x="64" y="61"/>
                  </a:lnTo>
                  <a:lnTo>
                    <a:pt x="43" y="73"/>
                  </a:lnTo>
                  <a:lnTo>
                    <a:pt x="62" y="42"/>
                  </a:lnTo>
                  <a:lnTo>
                    <a:pt x="49" y="17"/>
                  </a:lnTo>
                  <a:lnTo>
                    <a:pt x="26" y="17"/>
                  </a:lnTo>
                  <a:lnTo>
                    <a:pt x="15" y="25"/>
                  </a:lnTo>
                  <a:lnTo>
                    <a:pt x="9" y="55"/>
                  </a:lnTo>
                  <a:lnTo>
                    <a:pt x="0" y="33"/>
                  </a:lnTo>
                  <a:lnTo>
                    <a:pt x="5" y="1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717600" y="1674000"/>
              <a:ext cx="57960" cy="100080"/>
            </a:xfrm>
            <a:custGeom>
              <a:avLst/>
              <a:gdLst/>
              <a:ahLst/>
              <a:rect l="l" t="t" r="r" b="b"/>
              <a:pathLst>
                <a:path w="173" h="355">
                  <a:moveTo>
                    <a:pt x="0" y="0"/>
                  </a:moveTo>
                  <a:lnTo>
                    <a:pt x="2" y="317"/>
                  </a:lnTo>
                  <a:lnTo>
                    <a:pt x="35" y="319"/>
                  </a:lnTo>
                  <a:lnTo>
                    <a:pt x="40" y="355"/>
                  </a:lnTo>
                  <a:lnTo>
                    <a:pt x="101" y="348"/>
                  </a:lnTo>
                  <a:lnTo>
                    <a:pt x="173" y="306"/>
                  </a:lnTo>
                  <a:lnTo>
                    <a:pt x="14" y="304"/>
                  </a:lnTo>
                  <a:lnTo>
                    <a:pt x="14" y="163"/>
                  </a:lnTo>
                  <a:lnTo>
                    <a:pt x="164" y="167"/>
                  </a:lnTo>
                  <a:lnTo>
                    <a:pt x="152" y="154"/>
                  </a:lnTo>
                  <a:lnTo>
                    <a:pt x="14" y="148"/>
                  </a:lnTo>
                  <a:lnTo>
                    <a:pt x="1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727680" y="1905480"/>
              <a:ext cx="29880" cy="599040"/>
            </a:xfrm>
            <a:custGeom>
              <a:avLst/>
              <a:gdLst/>
              <a:ahLst/>
              <a:rect l="l" t="t" r="r" b="b"/>
              <a:pathLst>
                <a:path w="89" h="2131">
                  <a:moveTo>
                    <a:pt x="0" y="2083"/>
                  </a:moveTo>
                  <a:lnTo>
                    <a:pt x="47" y="2079"/>
                  </a:lnTo>
                  <a:lnTo>
                    <a:pt x="38" y="0"/>
                  </a:lnTo>
                  <a:lnTo>
                    <a:pt x="89" y="2096"/>
                  </a:lnTo>
                  <a:lnTo>
                    <a:pt x="40" y="2131"/>
                  </a:lnTo>
                  <a:lnTo>
                    <a:pt x="0" y="2083"/>
                  </a:lnTo>
                  <a:lnTo>
                    <a:pt x="0" y="20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748200" y="2508120"/>
              <a:ext cx="250920" cy="43200"/>
            </a:xfrm>
            <a:custGeom>
              <a:avLst/>
              <a:gdLst/>
              <a:ahLst/>
              <a:rect l="l" t="t" r="r" b="b"/>
              <a:pathLst>
                <a:path w="753" h="154">
                  <a:moveTo>
                    <a:pt x="0" y="0"/>
                  </a:moveTo>
                  <a:lnTo>
                    <a:pt x="753" y="44"/>
                  </a:lnTo>
                  <a:lnTo>
                    <a:pt x="667" y="61"/>
                  </a:lnTo>
                  <a:lnTo>
                    <a:pt x="677" y="120"/>
                  </a:lnTo>
                  <a:lnTo>
                    <a:pt x="625" y="86"/>
                  </a:lnTo>
                  <a:lnTo>
                    <a:pt x="144" y="57"/>
                  </a:lnTo>
                  <a:lnTo>
                    <a:pt x="131" y="154"/>
                  </a:lnTo>
                  <a:lnTo>
                    <a:pt x="100" y="146"/>
                  </a:lnTo>
                  <a:lnTo>
                    <a:pt x="110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014600" y="1633680"/>
              <a:ext cx="13320" cy="938160"/>
            </a:xfrm>
            <a:custGeom>
              <a:avLst/>
              <a:gdLst/>
              <a:ahLst/>
              <a:rect l="l" t="t" r="r" b="b"/>
              <a:pathLst>
                <a:path w="40" h="3338">
                  <a:moveTo>
                    <a:pt x="0" y="0"/>
                  </a:moveTo>
                  <a:lnTo>
                    <a:pt x="0" y="3338"/>
                  </a:lnTo>
                  <a:lnTo>
                    <a:pt x="40" y="3338"/>
                  </a:lnTo>
                  <a:lnTo>
                    <a:pt x="3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659640" y="2481840"/>
              <a:ext cx="501480" cy="154800"/>
            </a:xfrm>
            <a:custGeom>
              <a:avLst/>
              <a:gdLst/>
              <a:ahLst/>
              <a:rect l="l" t="t" r="r" b="b"/>
              <a:pathLst>
                <a:path w="1503" h="551">
                  <a:moveTo>
                    <a:pt x="19" y="392"/>
                  </a:moveTo>
                  <a:lnTo>
                    <a:pt x="1193" y="500"/>
                  </a:lnTo>
                  <a:lnTo>
                    <a:pt x="1101" y="302"/>
                  </a:lnTo>
                  <a:lnTo>
                    <a:pt x="1240" y="447"/>
                  </a:lnTo>
                  <a:lnTo>
                    <a:pt x="1503" y="0"/>
                  </a:lnTo>
                  <a:lnTo>
                    <a:pt x="1246" y="551"/>
                  </a:lnTo>
                  <a:lnTo>
                    <a:pt x="0" y="433"/>
                  </a:lnTo>
                  <a:lnTo>
                    <a:pt x="19" y="392"/>
                  </a:lnTo>
                  <a:lnTo>
                    <a:pt x="19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018560" y="2430720"/>
              <a:ext cx="101520" cy="145080"/>
            </a:xfrm>
            <a:custGeom>
              <a:avLst/>
              <a:gdLst/>
              <a:ahLst/>
              <a:rect l="l" t="t" r="r" b="b"/>
              <a:pathLst>
                <a:path w="304" h="517">
                  <a:moveTo>
                    <a:pt x="0" y="476"/>
                  </a:moveTo>
                  <a:lnTo>
                    <a:pt x="300" y="0"/>
                  </a:lnTo>
                  <a:lnTo>
                    <a:pt x="304" y="63"/>
                  </a:lnTo>
                  <a:lnTo>
                    <a:pt x="36" y="517"/>
                  </a:lnTo>
                  <a:lnTo>
                    <a:pt x="0" y="476"/>
                  </a:lnTo>
                  <a:lnTo>
                    <a:pt x="0" y="4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734880" y="1655640"/>
              <a:ext cx="36720" cy="19440"/>
            </a:xfrm>
            <a:custGeom>
              <a:avLst/>
              <a:gdLst/>
              <a:ahLst/>
              <a:rect l="l" t="t" r="r" b="b"/>
              <a:pathLst>
                <a:path w="110" h="71">
                  <a:moveTo>
                    <a:pt x="0" y="0"/>
                  </a:moveTo>
                  <a:lnTo>
                    <a:pt x="2" y="69"/>
                  </a:lnTo>
                  <a:lnTo>
                    <a:pt x="110" y="71"/>
                  </a:lnTo>
                  <a:lnTo>
                    <a:pt x="24" y="46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967440" y="1729800"/>
              <a:ext cx="25200" cy="20160"/>
            </a:xfrm>
            <a:custGeom>
              <a:avLst/>
              <a:gdLst/>
              <a:ahLst/>
              <a:rect l="l" t="t" r="r" b="b"/>
              <a:pathLst>
                <a:path w="76" h="72">
                  <a:moveTo>
                    <a:pt x="5" y="9"/>
                  </a:moveTo>
                  <a:lnTo>
                    <a:pt x="30" y="0"/>
                  </a:lnTo>
                  <a:lnTo>
                    <a:pt x="55" y="0"/>
                  </a:lnTo>
                  <a:lnTo>
                    <a:pt x="72" y="19"/>
                  </a:lnTo>
                  <a:lnTo>
                    <a:pt x="76" y="47"/>
                  </a:lnTo>
                  <a:lnTo>
                    <a:pt x="64" y="60"/>
                  </a:lnTo>
                  <a:lnTo>
                    <a:pt x="43" y="72"/>
                  </a:lnTo>
                  <a:lnTo>
                    <a:pt x="62" y="41"/>
                  </a:lnTo>
                  <a:lnTo>
                    <a:pt x="49" y="17"/>
                  </a:lnTo>
                  <a:lnTo>
                    <a:pt x="26" y="17"/>
                  </a:lnTo>
                  <a:lnTo>
                    <a:pt x="15" y="24"/>
                  </a:lnTo>
                  <a:lnTo>
                    <a:pt x="9" y="55"/>
                  </a:lnTo>
                  <a:lnTo>
                    <a:pt x="0" y="34"/>
                  </a:lnTo>
                  <a:lnTo>
                    <a:pt x="5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773760" y="1798920"/>
              <a:ext cx="122040" cy="30960"/>
            </a:xfrm>
            <a:custGeom>
              <a:avLst/>
              <a:gdLst/>
              <a:ahLst/>
              <a:rect l="l" t="t" r="r" b="b"/>
              <a:pathLst>
                <a:path w="367" h="110">
                  <a:moveTo>
                    <a:pt x="0" y="0"/>
                  </a:moveTo>
                  <a:lnTo>
                    <a:pt x="0" y="110"/>
                  </a:lnTo>
                  <a:lnTo>
                    <a:pt x="367" y="110"/>
                  </a:lnTo>
                  <a:lnTo>
                    <a:pt x="338" y="80"/>
                  </a:lnTo>
                  <a:lnTo>
                    <a:pt x="207" y="81"/>
                  </a:lnTo>
                  <a:lnTo>
                    <a:pt x="194" y="91"/>
                  </a:lnTo>
                  <a:lnTo>
                    <a:pt x="15" y="91"/>
                  </a:lnTo>
                  <a:lnTo>
                    <a:pt x="15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756840" y="1851840"/>
              <a:ext cx="224280" cy="3600"/>
            </a:xfrm>
            <a:custGeom>
              <a:avLst/>
              <a:gdLst/>
              <a:ahLst/>
              <a:rect l="l" t="t" r="r" b="b"/>
              <a:pathLst>
                <a:path w="671" h="13">
                  <a:moveTo>
                    <a:pt x="0" y="0"/>
                  </a:moveTo>
                  <a:lnTo>
                    <a:pt x="671" y="0"/>
                  </a:lnTo>
                  <a:lnTo>
                    <a:pt x="666" y="13"/>
                  </a:lnTo>
                  <a:lnTo>
                    <a:pt x="4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747480" y="1840320"/>
              <a:ext cx="233640" cy="38160"/>
            </a:xfrm>
            <a:custGeom>
              <a:avLst/>
              <a:gdLst/>
              <a:ahLst/>
              <a:rect l="l" t="t" r="r" b="b"/>
              <a:pathLst>
                <a:path w="699" h="137">
                  <a:moveTo>
                    <a:pt x="19" y="17"/>
                  </a:moveTo>
                  <a:lnTo>
                    <a:pt x="15" y="110"/>
                  </a:lnTo>
                  <a:lnTo>
                    <a:pt x="699" y="124"/>
                  </a:lnTo>
                  <a:lnTo>
                    <a:pt x="699" y="137"/>
                  </a:lnTo>
                  <a:lnTo>
                    <a:pt x="2" y="133"/>
                  </a:lnTo>
                  <a:lnTo>
                    <a:pt x="0" y="0"/>
                  </a:lnTo>
                  <a:lnTo>
                    <a:pt x="19" y="17"/>
                  </a:lnTo>
                  <a:lnTo>
                    <a:pt x="19" y="17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753600" y="1846440"/>
              <a:ext cx="234360" cy="27360"/>
            </a:xfrm>
            <a:custGeom>
              <a:avLst/>
              <a:gdLst/>
              <a:ahLst/>
              <a:rect l="l" t="t" r="r" b="b"/>
              <a:pathLst>
                <a:path w="701" h="99">
                  <a:moveTo>
                    <a:pt x="0" y="0"/>
                  </a:moveTo>
                  <a:lnTo>
                    <a:pt x="0" y="97"/>
                  </a:lnTo>
                  <a:lnTo>
                    <a:pt x="701" y="99"/>
                  </a:lnTo>
                  <a:lnTo>
                    <a:pt x="698" y="85"/>
                  </a:lnTo>
                  <a:lnTo>
                    <a:pt x="11" y="85"/>
                  </a:lnTo>
                  <a:lnTo>
                    <a:pt x="7" y="15"/>
                  </a:lnTo>
                  <a:lnTo>
                    <a:pt x="698" y="17"/>
                  </a:lnTo>
                  <a:lnTo>
                    <a:pt x="69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2627280" y="1735200"/>
            <a:ext cx="954000" cy="83016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3995640" y="1917720"/>
            <a:ext cx="2305080" cy="1440"/>
          </a:xfrm>
          <a:prstGeom prst="line">
            <a:avLst/>
          </a:prstGeom>
          <a:ln w="255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995640" y="2276640"/>
            <a:ext cx="2305080" cy="0"/>
          </a:xfrm>
          <a:prstGeom prst="line">
            <a:avLst/>
          </a:prstGeom>
          <a:ln w="25560">
            <a:solidFill>
              <a:srgbClr val="00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484360" y="122076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 Narrow"/>
                <a:ea typeface="Arial"/>
              </a:rPr>
              <a:t>Client Internet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rot="16200000">
            <a:off x="4578840" y="1377000"/>
            <a:ext cx="1254240" cy="1468440"/>
          </a:xfrm>
          <a:prstGeom prst="cloudCallout">
            <a:avLst>
              <a:gd name="adj1" fmla="val -36837"/>
              <a:gd name="adj2" fmla="val -10217"/>
            </a:avLst>
          </a:prstGeom>
          <a:solidFill>
            <a:srgbClr val="ccec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Interne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300720" y="1220760"/>
            <a:ext cx="13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 Narrow"/>
                <a:ea typeface="Arial"/>
              </a:rPr>
              <a:t>Serveur Web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236000" y="1916280"/>
            <a:ext cx="1223640" cy="1081080"/>
          </a:xfrm>
          <a:prstGeom prst="flowChartInternalStorage">
            <a:avLst/>
          </a:prstGeom>
          <a:solidFill>
            <a:srgbClr val="cce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 Narrow"/>
                <a:ea typeface="Arial"/>
              </a:rPr>
              <a:t>HTML +</a:t>
            </a:r>
            <a:br>
              <a:rPr sz="1600"/>
            </a:br>
            <a:r>
              <a:rPr b="1" lang="en-US" sz="1600" spc="-1" strike="noStrike">
                <a:solidFill>
                  <a:srgbClr val="003300"/>
                </a:solidFill>
                <a:latin typeface="Arial Narrow"/>
                <a:ea typeface="Arial"/>
              </a:rPr>
              <a:t>Accès DB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2410560" y="3141720"/>
            <a:ext cx="1584360" cy="647640"/>
          </a:xfrm>
          <a:prstGeom prst="wedgeRoundRectCallout">
            <a:avLst>
              <a:gd name="adj1" fmla="val 5310"/>
              <a:gd name="adj2" fmla="val -80884"/>
              <a:gd name="adj3" fmla="val 1666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00"/>
                </a:solidFill>
                <a:latin typeface="Arial Narrow"/>
              </a:rPr>
              <a:t>Zone du Client (Maison)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4284720" y="4149720"/>
            <a:ext cx="1728720" cy="647640"/>
          </a:xfrm>
          <a:prstGeom prst="wedgeRoundRectCallout">
            <a:avLst>
              <a:gd name="adj1" fmla="val -66162"/>
              <a:gd name="adj2" fmla="val -21814"/>
              <a:gd name="adj3" fmla="val 1666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00"/>
                </a:solidFill>
                <a:latin typeface="Arial Narrow"/>
              </a:rPr>
              <a:t>Zone du Serveur (Organisation)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4067280" y="981000"/>
            <a:ext cx="1944720" cy="358920"/>
          </a:xfrm>
          <a:prstGeom prst="wedgeRoundRectCallout">
            <a:avLst>
              <a:gd name="adj1" fmla="val 46976"/>
              <a:gd name="adj2" fmla="val 207518"/>
              <a:gd name="adj3" fmla="val 1666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00"/>
                </a:solidFill>
                <a:latin typeface="Arial Narrow"/>
              </a:rPr>
              <a:t>1. Requête: Adress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3924360" y="2924280"/>
            <a:ext cx="1800000" cy="358560"/>
          </a:xfrm>
          <a:prstGeom prst="wedgeRoundRectCallout">
            <a:avLst>
              <a:gd name="adj1" fmla="val 29893"/>
              <a:gd name="adj2" fmla="val -230532"/>
              <a:gd name="adj3" fmla="val 1666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00"/>
                </a:solidFill>
                <a:latin typeface="Arial Narrow"/>
              </a:rPr>
              <a:t>3. Réponse: HTML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473240" y="1557360"/>
            <a:ext cx="90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 Narrow"/>
              </a:rPr>
              <a:t>page.asp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4139640" y="3429000"/>
            <a:ext cx="1942920" cy="576360"/>
          </a:xfrm>
          <a:prstGeom prst="wedgeRoundRectCallout">
            <a:avLst>
              <a:gd name="adj1" fmla="val -109069"/>
              <a:gd name="adj2" fmla="val -128791"/>
              <a:gd name="adj3" fmla="val 1666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00"/>
                </a:solidFill>
                <a:latin typeface="Arial Narrow"/>
              </a:rPr>
              <a:t>2. Exécution des instructions a,b,c,d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451640" y="3789360"/>
            <a:ext cx="863640" cy="93492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 Narrow"/>
                <a:ea typeface="Arial"/>
              </a:rPr>
              <a:t>Base de</a:t>
            </a:r>
            <a:br>
              <a:rPr sz="1600"/>
            </a:br>
            <a:r>
              <a:rPr b="1" lang="en-US" sz="1600" spc="-1" strike="noStrike">
                <a:solidFill>
                  <a:srgbClr val="003300"/>
                </a:solidFill>
                <a:latin typeface="Arial Narrow"/>
                <a:ea typeface="Arial"/>
              </a:rPr>
              <a:t>Donnée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740720" y="2997360"/>
            <a:ext cx="0" cy="792000"/>
          </a:xfrm>
          <a:prstGeom prst="line">
            <a:avLst/>
          </a:prstGeom>
          <a:ln w="255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451640" y="2997360"/>
            <a:ext cx="0" cy="936360"/>
          </a:xfrm>
          <a:prstGeom prst="line">
            <a:avLst/>
          </a:prstGeom>
          <a:ln w="255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8028000" y="2997360"/>
            <a:ext cx="0" cy="792000"/>
          </a:xfrm>
          <a:prstGeom prst="line">
            <a:avLst/>
          </a:prstGeom>
          <a:ln w="255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17080" y="2997360"/>
            <a:ext cx="0" cy="936360"/>
          </a:xfrm>
          <a:prstGeom prst="line">
            <a:avLst/>
          </a:prstGeom>
          <a:ln w="255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093080" y="313848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Arial Narrow"/>
              </a:rPr>
              <a:t>a     b     c    d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162E8-6A29-4432-BA2A-F32C4F0D2187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3300"/>
                </a:solidFill>
                <a:latin typeface="Arial Narrow"/>
              </a:rPr>
              <a:t>Exemple PHP avec MySQL</a:t>
            </a: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2437920" y="836280"/>
            <a:ext cx="6705720" cy="58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&lt;html&gt;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&lt;body&gt;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&lt;?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$serveur="serveur"; 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$nom="nom"; 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$secret="secret"; 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$bd="bd";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$sql="SELECT * FROM Personnes ORDER BY Nom, Prenom";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mysql_connect($serveur,$nom,$secret);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mysql_select_db($bd); 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$resultats = mysql_query($sql);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while ( $ligne = mysql_fetch_array($resultats))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$nom = $ligne["Nom"];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$prenom = $ligne["Prenom"];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echo "&lt;br&gt;" . $nom . ", " . $prenom;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mysql_close();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?&gt; 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&lt;/body&gt;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&lt;/html&gt;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6282D-77F0-4369-8412-61AF25837B04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3300"/>
                </a:solidFill>
                <a:latin typeface="Arial Narrow"/>
              </a:rPr>
              <a:t>Exemple ASP avec Access</a:t>
            </a: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437920" y="836280"/>
            <a:ext cx="6705720" cy="58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&lt;html&gt;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&lt;body&gt;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&lt;%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Dim BD, Connexion, SQL, Resultats 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Dim Nom, Prenom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BD = "Provider=Microsoft.Jet.OLEDB.4.0;User ID=Admin;"  &amp; _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   "Data Source=E:\SharedDocs\exercice7_db.mdb;"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Set Connexion = Server.CreateObject("ADODB.Connection")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Connexion.Open(BD)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SQL="SELECT * FROM Personnes ORDER BY Nom, Prenom"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Set Resultats = Server.CreateObject("ADODB.Recordset")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Resultats.Open SQL, Connexion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While Not Resultats.EOF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Nom = Resultats("Nom")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Prenom = Resultats("Prenom")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Response.Write "&lt;br&gt;" &amp; Nom &amp; "," &amp; Prenom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Resultats.MoveNext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Wend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Resultats.Close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Connexion.Close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%&gt; 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&lt;/body&gt;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&lt;/html&gt;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47AB9-E026-4CA1-8B24-A47746403C07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Interroger une page web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843280" y="914400"/>
            <a:ext cx="6300720" cy="56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nterroger une page web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On aimerait pouvoir faire une DEMANDE SPÉCIAL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ex.: Toute l'information sur une personne spécifiqu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Il faut pouvoir envoyer la demande spéciale à la pag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ossible via le QUERYSTRING (Chaîne de Requête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QUERYSTR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Liste de paires Nom = Valeur (séparées par &amp;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lacée après l'adresse de la page suivie de ?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Exemple: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ersonne.asp?PersID=2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Traitement du QueryStr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pécifique à la technologi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SP: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Valeur =  Request("Nom"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8" name=""/>
          <p:cNvSpPr/>
          <p:nvPr/>
        </p:nvSpPr>
        <p:spPr>
          <a:xfrm>
            <a:off x="3059280" y="3357720"/>
            <a:ext cx="5688000" cy="429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 Narrow"/>
              </a:rPr>
              <a:t>adresse?nom1=valeur1&amp;nom2=valeurs2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C47B0-86C8-47A4-B37A-62FE18DCFE65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Premier Contact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771280" y="1052280"/>
            <a:ext cx="637236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xemple simple de familiaris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llustre les opérations de bases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aisie de donné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echerche de donné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5 Éta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Entrer dans le SGBD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MS-Acces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réér une base de données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Ex-DB.mdb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réér une table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Personn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Saisir quelques données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3 personn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Effectuer une recherche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Sélect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865B3-0B62-489B-B7D0-EC8E9EE7AE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2987640" y="2852640"/>
            <a:ext cx="475308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3300"/>
                </a:solidFill>
                <a:latin typeface="Arial Narrow"/>
              </a:rPr>
              <a:t>Interroger une page web</a:t>
            </a:r>
            <a:endParaRPr b="1" i="1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2437920" y="836280"/>
            <a:ext cx="6705720" cy="58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&lt;table border='1' cellpadding='3' cellspacing='0'&gt;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&lt;%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Dim BD, Connexion, SQL, Resultats 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Dim PersID, Nom, Prenom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BD = "Provider=Microsoft.Jet.OLEDB.4.0;User ID=Admin;"  &amp; _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   "Data Source=E:\SharedDocs\exercice7_db.mdb;"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Set Connexion = Server.CreateObject("ADODB.Connection")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Connexion.Open(BD)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PersID = 0 + Request("id")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SQL="SELECT * FROM Personnes WHERE PersID=" &amp; PersID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Set Resultats = Server.CreateObject("ADODB.Recordset")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Resultats.Open SQL, Connexion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If Not Resultats.EOF Then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Response.Write "&lt;tr&gt;&lt;td&gt;&lt;b&gt;Nom    &lt;/b&gt;&lt;/td&gt;" &amp; _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"&lt;td&gt;" &amp; Resultats("PersNom")    &amp; "&lt;/td&gt;&lt;/tr&gt;"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Response.Write "&lt;tr&gt;&lt;td&gt;&lt;b&gt;Prénom &lt;/b&gt;&lt;/td&gt;" &amp; _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"&lt;td&gt;" &amp; Resultats("PersPrenom") &amp; "&lt;/td&gt;&lt;/tr&gt;"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Resultats.Close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End If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Connexion.Close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%&gt; 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&lt;/table&gt;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0E1C1-89AC-439E-B91F-D2B259244586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ccff99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476000" y="2924280"/>
            <a:ext cx="6048360" cy="151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3300"/>
                </a:solidFill>
                <a:latin typeface="Arial Rounded MT Bold"/>
              </a:rPr>
              <a:t>6. Conclusion</a:t>
            </a: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Arial Narrow"/>
              </a:rPr>
              <a:t>Atelier de formation sous-régional </a:t>
            </a:r>
            <a:br>
              <a:rPr sz="2800"/>
            </a:br>
            <a:r>
              <a:rPr b="1" i="1" lang="fr-FR" sz="2800" spc="-1" strike="noStrike">
                <a:solidFill>
                  <a:srgbClr val="ffffff"/>
                </a:solidFill>
                <a:latin typeface="Arial Narrow"/>
              </a:rPr>
              <a:t> sur la mise en oeuvre du Centre d'Échange CHM </a:t>
            </a:r>
            <a:br>
              <a:rPr sz="2800"/>
            </a:br>
            <a:r>
              <a:rPr b="1" i="1" lang="fr-FR" sz="2800" spc="-1" strike="noStrike">
                <a:solidFill>
                  <a:srgbClr val="ffffff"/>
                </a:solidFill>
                <a:latin typeface="Arial Narrow"/>
              </a:rPr>
              <a:t>de la Convention sur  la Diversité Biologique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 Narrow"/>
              </a:rPr>
              <a:t>6-17 Novembre 2006                                   Antananarivo, Madagascar</a:t>
            </a:r>
            <a:endParaRPr b="1" i="1" lang="en-US" sz="2000" spc="-1" strike="noStrike">
              <a:solidFill>
                <a:srgbClr val="0033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Récapitulation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2484000" y="907920"/>
            <a:ext cx="665964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Formation sur les bases de donné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oncepts relationnel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onception d'une base de données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Introduction à SQ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Bases de données sur Interne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Formation non axée sur un SGBD particuli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Même concepts valables pour tous les SGBD relationnel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Chaque SGBD a ses spécificité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6" name=""/>
          <p:cNvSpPr/>
          <p:nvPr/>
        </p:nvSpPr>
        <p:spPr>
          <a:xfrm rot="5400000">
            <a:off x="-57600" y="355752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5C36D-9F6E-46F4-BFA2-8FF4D74B6859}" type="slidenum">
              <a:t>92</a:t>
            </a:fld>
          </a:p>
        </p:txBody>
      </p:sp>
    </p:spTree>
  </p:cSld>
  <p:transition>
    <p:random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Évolutions des bases de données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84000" y="907920"/>
            <a:ext cx="665964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Adaptation à de nouveaux environneme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Gros systèmes </a:t>
            </a:r>
            <a:r>
              <a:rPr b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PME </a:t>
            </a:r>
            <a:r>
              <a:rPr b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PC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Entreprises </a:t>
            </a:r>
            <a:r>
              <a:rPr b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Internet </a:t>
            </a:r>
            <a:r>
              <a:rPr b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 Tél. Portables / Agenda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Adaptation à de nouvelles technologi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Orienté Obje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Orienté XM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9" name=""/>
          <p:cNvSpPr/>
          <p:nvPr/>
        </p:nvSpPr>
        <p:spPr>
          <a:xfrm rot="5400000">
            <a:off x="-57600" y="355752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4FF18-FA58-43F7-A2ED-98CC332C1D8E}" type="slidenum">
              <a:t>93</a:t>
            </a:fld>
          </a:p>
        </p:txBody>
      </p:sp>
    </p:spTree>
  </p:cSld>
  <p:transition>
    <p:random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03360" y="-360"/>
            <a:ext cx="6740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XML et bases de données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84000" y="907920"/>
            <a:ext cx="665964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Point commun: 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Structure de donné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Différen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DB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Modèle relationnel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Performanc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XML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Modèle hiérarchique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Interne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De plus en plus de convergen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eprésentation XML des données (Ex. Dataset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Extensions XML de SQ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Extensions BD de XM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Important de comprendre les deux environnement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2" name=""/>
          <p:cNvSpPr/>
          <p:nvPr/>
        </p:nvSpPr>
        <p:spPr>
          <a:xfrm rot="5400000">
            <a:off x="-57600" y="3557520"/>
            <a:ext cx="266760" cy="152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F897F-9AA7-4F0E-B8CD-87C8B1614274}" type="slidenum">
              <a:t>94</a:t>
            </a:fld>
          </a:p>
        </p:txBody>
      </p:sp>
    </p:spTree>
  </p:cSld>
  <p:transition>
    <p:random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664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00"/>
                </a:solidFill>
                <a:latin typeface="Arial Narrow"/>
              </a:rPr>
              <a:t>Quelques Références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437920" y="914040"/>
            <a:ext cx="67057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Tutoriel sur les bases de donné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cc"/>
                </a:solidFill>
                <a:uFillTx/>
                <a:latin typeface="Arial Narrow"/>
                <a:hlinkClick r:id="rId1"/>
              </a:rPr>
              <a:t>http://cerig.efpg.inpg.fr/tutoriel/bases-de-donne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Fournisseurs de SGB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cc"/>
                </a:solidFill>
                <a:uFillTx/>
                <a:latin typeface="Arial Narrow"/>
                <a:hlinkClick r:id="rId2"/>
              </a:rPr>
              <a:t>www.microsoft.co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cc"/>
                </a:solidFill>
                <a:uFillTx/>
                <a:latin typeface="Arial Narrow"/>
                <a:hlinkClick r:id="rId3"/>
              </a:rPr>
              <a:t>www.oracle.co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Bases de données et autres technologi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cc"/>
                </a:solidFill>
                <a:uFillTx/>
                <a:latin typeface="Arial Narrow"/>
                <a:hlinkClick r:id="rId4"/>
              </a:rPr>
              <a:t>www.commentcamarche.co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cc"/>
                </a:solidFill>
                <a:uFillTx/>
                <a:latin typeface="Arial Narrow"/>
                <a:hlinkClick r:id="rId5"/>
              </a:rPr>
              <a:t>www.developpez.co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Bases de données et Internet (ASP et PHP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cc"/>
                </a:solidFill>
                <a:uFillTx/>
                <a:latin typeface="Arial Narrow"/>
                <a:hlinkClick r:id="rId6"/>
              </a:rPr>
              <a:t>www.asp-php.ne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cc"/>
                </a:solidFill>
                <a:uFillTx/>
                <a:latin typeface="Arial Narrow"/>
                <a:hlinkClick r:id="rId7"/>
              </a:rPr>
              <a:t>www.phpinfo.ne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1BBED-B034-481A-9109-379E67C48BF5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ccff99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0" y="2491920"/>
            <a:ext cx="9144000" cy="23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i="1" lang="fr-FR" sz="3600" spc="-1" strike="noStrike">
                <a:solidFill>
                  <a:srgbClr val="003300"/>
                </a:solidFill>
                <a:latin typeface="Arial Rounded MT Bold"/>
              </a:rPr>
              <a:t>Introduction aux Bases de Données</a:t>
            </a:r>
            <a:br>
              <a:rPr sz="3200"/>
            </a:b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Arial Narrow"/>
              </a:rPr>
              <a:t>Atelier de formation sous-régional </a:t>
            </a:r>
            <a:br>
              <a:rPr sz="2800"/>
            </a:br>
            <a:r>
              <a:rPr b="1" i="1" lang="fr-FR" sz="2800" spc="-1" strike="noStrike">
                <a:solidFill>
                  <a:srgbClr val="ffffff"/>
                </a:solidFill>
                <a:latin typeface="Arial Narrow"/>
              </a:rPr>
              <a:t> sur la mise en oeuvre du Centre d'Échange CHM </a:t>
            </a:r>
            <a:br>
              <a:rPr sz="2800"/>
            </a:br>
            <a:r>
              <a:rPr b="1" i="1" lang="fr-FR" sz="2800" spc="-1" strike="noStrike">
                <a:solidFill>
                  <a:srgbClr val="ffffff"/>
                </a:solidFill>
                <a:latin typeface="Arial Narrow"/>
              </a:rPr>
              <a:t>de la Convention sur  la Diversité Biologique</a:t>
            </a:r>
            <a:endParaRPr b="1" i="1" lang="en-US" sz="2800" spc="-1" strike="noStrike">
              <a:solidFill>
                <a:srgbClr val="003300"/>
              </a:solidFill>
              <a:latin typeface="Arial Narrow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 Narrow"/>
              </a:rPr>
              <a:t>6-17 Novembre 2006                                   Antananarivo, Madagascar</a:t>
            </a:r>
            <a:endParaRPr b="1" i="1" lang="en-US" sz="20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57" name=""/>
          <p:cNvSpPr/>
          <p:nvPr/>
        </p:nvSpPr>
        <p:spPr>
          <a:xfrm>
            <a:off x="1258920" y="4076640"/>
            <a:ext cx="6613560" cy="0"/>
          </a:xfrm>
          <a:prstGeom prst="line">
            <a:avLst/>
          </a:prstGeom>
          <a:ln w="507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Olivier de Munck</dc:creator>
  <dc:description>Présenté à Ouagadougou, les 17 et 18 décembre 2003</dc:description>
  <cp:keywords>UNEP SCBD Biodiversity CHM XML</cp:keywords>
  <dc:language>en-US</dc:language>
  <cp:lastModifiedBy>Olivier de Munck</cp:lastModifiedBy>
  <cp:lastPrinted>1999-06-04T16:09:15Z</cp:lastPrinted>
  <dcterms:modified xsi:type="dcterms:W3CDTF">2006-11-15T13:26:34Z</dcterms:modified>
  <cp:revision>1129</cp:revision>
  <dc:subject>CHM, XML</dc:subject>
  <dc:title>Échanges d'Expériences CHM, Introductin à XML</dc:title>
</cp:coreProperties>
</file>