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B19D-3478-49D2-8D1C-6235E5AE7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40B4-2C3F-430C-AEA7-B73119D9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C61C-157A-498F-AE11-7C4243B69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C59F-FF87-4D6C-A1FD-425F41F11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A9D3-131D-4700-87AA-8282487AA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B746-ED0E-4CA5-ABCD-15F5599EE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525F-3449-47C3-99C9-46C4BB1B6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96EC-DDDD-4901-B302-478BFE68E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05F1-FC68-4B9A-9B8E-8F8659BFB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1FFE-F2F0-49B8-8057-F4A8A428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A618-BBC9-41F6-BFE1-3BBB9D90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1B74-971B-47FB-964F-51E34DAD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3f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a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6a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a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a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26920" y="6392520"/>
            <a:ext cx="381636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00006a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6a"/>
                </a:solidFill>
                <a:latin typeface="Tahoma"/>
              </a:rPr>
              <a:t>Formation sous-régionale CHM, 2006, T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a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27A68-68D4-485A-98F5-E1F65721A855}" type="slidenum">
              <a:rPr b="0" lang="en-US" sz="1200" spc="-1" strike="noStrike">
                <a:solidFill>
                  <a:srgbClr val="00006a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340840" y="6086520"/>
            <a:ext cx="498240" cy="6192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250920" y="6176880"/>
            <a:ext cx="565200" cy="56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3f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360" y="1483920"/>
            <a:ext cx="8153280" cy="35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 Rounded MT Bold"/>
                <a:ea typeface="Times New Roman"/>
              </a:rPr>
              <a:t>Le Centre d'échange d'information (CHM) </a:t>
            </a:r>
            <a:br>
              <a:rPr sz="2400"/>
            </a:br>
            <a:r>
              <a:rPr b="1" lang="fr-FR" sz="2400" spc="-1" strike="noStrike">
                <a:solidFill>
                  <a:srgbClr val="000099"/>
                </a:solidFill>
                <a:latin typeface="Arial Rounded MT Bold"/>
                <a:ea typeface="Times New Roman"/>
              </a:rPr>
              <a:t>dans le cadre de la Convention sur la diversité biologique: </a:t>
            </a:r>
            <a:br>
              <a:rPr sz="2400"/>
            </a:br>
            <a:r>
              <a:rPr b="1" lang="fr-FR" sz="2400" spc="-1" strike="noStrike">
                <a:solidFill>
                  <a:srgbClr val="000099"/>
                </a:solidFill>
                <a:latin typeface="Arial Rounded MT Bold"/>
                <a:ea typeface="Times New Roman"/>
              </a:rPr>
              <a:t>Le partenariat entre des pays en développement et la Belgique : des CHMs nationaux aux CHMs régionaux</a:t>
            </a:r>
            <a:br>
              <a:rPr sz="2800"/>
            </a:br>
            <a:br>
              <a:rPr sz="2800"/>
            </a:br>
            <a:r>
              <a:rPr b="1" lang="fr-BE" sz="2400" spc="-1" strike="noStrike">
                <a:solidFill>
                  <a:srgbClr val="00006a"/>
                </a:solidFill>
                <a:latin typeface="Tahoma"/>
              </a:rPr>
              <a:t>6 novembre 2006, Antananarivo</a:t>
            </a:r>
            <a:br>
              <a:rPr sz="2400"/>
            </a:br>
            <a:br>
              <a:rPr sz="2400"/>
            </a:br>
            <a:r>
              <a:rPr b="0" i="1" lang="en-GB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Par : Han de Koeijer, Anne Franklin, Arnaud Réveillon  et Jackie Van Goethem; </a:t>
            </a:r>
            <a:br>
              <a:rPr sz="1800"/>
            </a:br>
            <a:r>
              <a:rPr b="0" i="1" lang="en-GB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i="1" lang="fr-FR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Point focal belge pour la CBD, Institut royal des Sciences naturelles de Belgique, </a:t>
            </a:r>
            <a:br>
              <a:rPr sz="1800"/>
            </a:br>
            <a:r>
              <a:rPr b="0" i="1" lang="fr-FR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29 Rue Vautier, 1000 Bruxelles, Belgique</a:t>
            </a:r>
            <a:r>
              <a:rPr b="0" lang="fr-BE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6a"/>
              </a:solidFill>
              <a:latin typeface="Tahoma"/>
            </a:endParaRPr>
          </a:p>
        </p:txBody>
      </p:sp>
      <p:sp>
        <p:nvSpPr>
          <p:cNvPr id="44" name=""/>
          <p:cNvSpPr/>
          <p:nvPr/>
        </p:nvSpPr>
        <p:spPr>
          <a:xfrm>
            <a:off x="3111480" y="6248520"/>
            <a:ext cx="342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6a"/>
                </a:solidFill>
                <a:latin typeface="Tahoma"/>
              </a:rPr>
              <a:t>Formation sous-régionale CHM, 2006, T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3f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006a"/>
                </a:solidFill>
                <a:latin typeface="Tahoma"/>
              </a:rPr>
              <a:t>Sites miroirs</a:t>
            </a:r>
            <a:endParaRPr b="0" lang="en-US" sz="3600" spc="-1" strike="noStrike">
              <a:solidFill>
                <a:srgbClr val="00006a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7620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99"/>
                </a:solidFill>
                <a:latin typeface="Tahoma"/>
              </a:rPr>
              <a:t>Sites miroirs des pays avec CHM sur serveur national (Bénin, Burkina Faso, Madagascar, Rwanda, Djibouti (prochainement))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28440">
            <a:solidFill>
              <a:srgbClr val="0000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rmation sous-régionale CHM, 2005, Moro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A2F4-9FDF-4C1F-B74B-6CFDB95B5D2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3f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6a"/>
                </a:solidFill>
                <a:latin typeface="Tahoma"/>
              </a:rPr>
              <a:t>Formation des gestionnaires web CHM</a:t>
            </a:r>
            <a:endParaRPr b="0" lang="en-US" sz="3200" spc="-1" strike="noStrike">
              <a:solidFill>
                <a:srgbClr val="00006a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Tahoma"/>
              </a:rPr>
              <a:t>Sur demande des pays partenaires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Tahoma"/>
              </a:rPr>
              <a:t>Deux fois par an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Tahoma"/>
              </a:rPr>
              <a:t>3 à 4 participants par formation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Tahoma"/>
              </a:rPr>
              <a:t>Trois semaines sur la gestion et la mise en page web avec le PTK et le CHM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Tahoma"/>
              </a:rPr>
              <a:t>Suivi continu après la fin de la formation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Tahoma"/>
              </a:rPr>
              <a:t>Atelier d’échange des expériences des ex-stagiaires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28440">
            <a:solidFill>
              <a:srgbClr val="0000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867280" y="1628640"/>
            <a:ext cx="3124440" cy="196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rmation sous-régionale CHM, 2005, Moro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93FC-B65C-46E3-BF46-97A64777F71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3f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006a"/>
                </a:solidFill>
                <a:latin typeface="Tahoma"/>
              </a:rPr>
              <a:t>Contenu des formations CHM</a:t>
            </a:r>
            <a:endParaRPr b="0" lang="en-US" sz="3600" spc="-1" strike="noStrike">
              <a:solidFill>
                <a:srgbClr val="00006a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Tahoma"/>
              </a:rPr>
              <a:t>Histoire et utilisation du CHM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Tahoma"/>
              </a:rPr>
              <a:t>Informations de base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Tahoma"/>
              </a:rPr>
              <a:t>Mise en page des documents (p.e. rapports nationaux)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Tahoma"/>
              </a:rPr>
              <a:t>Html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Tahoma"/>
              </a:rPr>
              <a:t>PTK et logiciels pour la gestion des sites web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Tahoma"/>
              </a:rPr>
              <a:t>Exercices pratiques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Tahoma"/>
              </a:rPr>
              <a:t>Préparation du site national CHM 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Tahoma"/>
              </a:rPr>
              <a:t>Sensibilisation du public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28440">
            <a:solidFill>
              <a:srgbClr val="0000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rmation sous-régionale CHM, 2005, Moro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0900-040B-4D84-9C4B-07ADAA865A7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3f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6a"/>
                </a:solidFill>
                <a:latin typeface="Tahoma"/>
              </a:rPr>
              <a:t>Formation des gestionnaires web BCH</a:t>
            </a:r>
            <a:endParaRPr b="0" lang="en-US" sz="3200" spc="-1" strike="noStrike">
              <a:solidFill>
                <a:srgbClr val="00006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99"/>
                </a:solidFill>
                <a:latin typeface="Tahoma"/>
              </a:rPr>
              <a:t>Histoire du Protocol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99"/>
                </a:solidFill>
                <a:latin typeface="Tahoma"/>
              </a:rPr>
              <a:t>Informations obligatoires à mettre sur le portail BCH (http://bch.biodiv.org)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99"/>
                </a:solidFill>
                <a:latin typeface="Tahoma"/>
              </a:rPr>
              <a:t>Utilisation du portail central BCH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99"/>
                </a:solidFill>
                <a:latin typeface="Tahoma"/>
              </a:rPr>
              <a:t>Recherches dans le portail BCH pour renseignements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99"/>
                </a:solidFill>
                <a:latin typeface="Tahoma"/>
              </a:rPr>
              <a:t>Sensibilisation des partenaires nationaux pour partage des informations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28440">
            <a:solidFill>
              <a:srgbClr val="0000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rmation sous-régionale CHM, 2005, Moro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846F-1B87-40E4-9450-F156E1A1DD3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3f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006a"/>
                </a:solidFill>
                <a:latin typeface="Tahoma"/>
              </a:rPr>
              <a:t>Conseil technique</a:t>
            </a:r>
            <a:endParaRPr b="0" lang="en-US" sz="3600" spc="-1" strike="noStrike">
              <a:solidFill>
                <a:srgbClr val="00006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99"/>
                </a:solidFill>
                <a:latin typeface="Tahoma"/>
              </a:rPr>
              <a:t>Préparation des projets CHM pour FEM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99"/>
                </a:solidFill>
                <a:latin typeface="Tahoma"/>
              </a:rPr>
              <a:t>Développement de CHM régional (SACEP)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99"/>
                </a:solidFill>
                <a:latin typeface="Tahoma"/>
              </a:rPr>
              <a:t>Conseils sur le contenu et le développement technique du sit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28440">
            <a:solidFill>
              <a:srgbClr val="0000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rmation sous-régionale CHM, 2005, Moro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A05D-28C7-4EAD-8045-D74DF476D4D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3f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006a"/>
                </a:solidFill>
                <a:latin typeface="Tahoma"/>
              </a:rPr>
              <a:t>Sensibilisation du public cible</a:t>
            </a:r>
            <a:endParaRPr b="0" lang="en-US" sz="3600" spc="-1" strike="noStrike">
              <a:solidFill>
                <a:srgbClr val="00006a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99"/>
                </a:solidFill>
                <a:latin typeface="Tahoma"/>
              </a:rPr>
              <a:t>Présentations du partenariat CHM durant ateliers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99"/>
                </a:solidFill>
                <a:latin typeface="Tahoma"/>
              </a:rPr>
              <a:t>Rencontres avec partenaires nationaux des pays partenaires durant missions de suivi formation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99"/>
                </a:solidFill>
                <a:latin typeface="Tahoma"/>
              </a:rPr>
              <a:t>Contacts avec bailleurs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99"/>
                </a:solidFill>
                <a:latin typeface="Tahoma"/>
              </a:rPr>
              <a:t>Deux appels aux propositions de projets avec pays partenaires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28440">
            <a:solidFill>
              <a:srgbClr val="0000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rmation sous-régionale CHM, 2005, Moro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A656-3E0F-46B6-BFB4-4A31C8A3A7B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3f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006a"/>
                </a:solidFill>
                <a:latin typeface="Tahoma"/>
              </a:rPr>
              <a:t>Échanges d’expériences</a:t>
            </a:r>
            <a:endParaRPr b="0" lang="en-US" sz="3600" spc="-1" strike="noStrike">
              <a:solidFill>
                <a:srgbClr val="00006a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99"/>
                </a:solidFill>
                <a:latin typeface="Tahoma"/>
              </a:rPr>
              <a:t>Rencontres entre ex-stagiaires durant réunions internationales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99"/>
                </a:solidFill>
                <a:latin typeface="Tahoma"/>
              </a:rPr>
              <a:t>Atelier régional pour ex-stagiaires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99"/>
                </a:solidFill>
                <a:latin typeface="Tahoma"/>
              </a:rPr>
              <a:t>Liste de discussions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99"/>
                </a:solidFill>
                <a:latin typeface="Tahoma"/>
              </a:rPr>
              <a:t>Visites entre pfn CHM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28440">
            <a:solidFill>
              <a:srgbClr val="0000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435640" y="4005360"/>
            <a:ext cx="2857320" cy="190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rmation sous-régionale CHM, 2005, Moro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D6CF-3800-4468-9BB6-4A01F67A7D4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3f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6a"/>
                </a:solidFill>
                <a:latin typeface="Tahoma"/>
              </a:rPr>
              <a:t>CHMs régionaux : une double approche...</a:t>
            </a:r>
            <a:br>
              <a:rPr sz="2800"/>
            </a:br>
            <a:r>
              <a:rPr b="0" lang="fr-BE" sz="2800" spc="-1" strike="noStrike">
                <a:solidFill>
                  <a:srgbClr val="00006a"/>
                </a:solidFill>
                <a:latin typeface="Tahoma"/>
              </a:rPr>
              <a:t>Travailler avec les organisations régionales</a:t>
            </a:r>
            <a:endParaRPr b="0" lang="en-US" sz="2800" spc="-1" strike="noStrike">
              <a:solidFill>
                <a:srgbClr val="00006a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99"/>
                </a:solidFill>
                <a:latin typeface="Tahoma"/>
              </a:rPr>
              <a:t>Ces organisations stimulent leurs membres à travailler au niveau régiona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99"/>
                </a:solidFill>
                <a:latin typeface="Tahoma"/>
              </a:rPr>
              <a:t>Coopération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Tahoma"/>
              </a:rPr>
              <a:t>Commonwealth-SADC (Conseilles et formation en 2002-2003)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Tahoma"/>
              </a:rPr>
              <a:t>SACEP (Développement d’un projet et formation 2004)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Tahoma"/>
              </a:rPr>
              <a:t>COMIFAC (hébergement, formation en 2004 - 2006)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Tahoma"/>
              </a:rPr>
              <a:t>RAC/SPA (Conseilles et atelier en 2003 - 2006)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rmation sous-régionale CHM, 2005, Moro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421B-3B41-4734-8BCD-9E78E680371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3f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6a"/>
                </a:solidFill>
                <a:latin typeface="Tahoma"/>
              </a:rPr>
              <a:t>CHMs régionaux : une double approche…</a:t>
            </a:r>
            <a:br>
              <a:rPr sz="2800"/>
            </a:br>
            <a:r>
              <a:rPr b="0" lang="fr-BE" sz="3200" spc="-1" strike="noStrike">
                <a:solidFill>
                  <a:srgbClr val="00006a"/>
                </a:solidFill>
                <a:latin typeface="Tahoma"/>
              </a:rPr>
              <a:t>Travailler avec les pays</a:t>
            </a:r>
            <a:endParaRPr b="0" lang="en-US" sz="3200" spc="-1" strike="noStrike">
              <a:solidFill>
                <a:srgbClr val="00006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99"/>
                </a:solidFill>
                <a:latin typeface="Tahoma"/>
              </a:rPr>
              <a:t>Le Be-CHM travaille avec des pays de la même région et organise des ateliers et formations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99"/>
                </a:solidFill>
                <a:latin typeface="Tahoma"/>
              </a:rPr>
              <a:t>Ces formations sont des occasions pour les pfns CHM pour se rencontrer et travailler ensemble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99"/>
                </a:solidFill>
                <a:latin typeface="Tahoma"/>
              </a:rPr>
              <a:t>Cette coopération pourra résulter en la création d’un CHM régiona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rmation sous-régionale CHM, 2005, Moro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0682-4B9D-46D0-B000-460C87A2BE8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3f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6a"/>
                </a:solidFill>
                <a:latin typeface="Tahoma"/>
              </a:rPr>
              <a:t>CHMs régionaux : une double approche…</a:t>
            </a:r>
            <a:br>
              <a:rPr sz="2800"/>
            </a:br>
            <a:r>
              <a:rPr b="0" lang="fr-BE" sz="3200" spc="-1" strike="noStrike">
                <a:solidFill>
                  <a:srgbClr val="00006a"/>
                </a:solidFill>
                <a:latin typeface="Tahoma"/>
              </a:rPr>
              <a:t>Des pays aux régions : une suite logique</a:t>
            </a:r>
            <a:endParaRPr b="0" lang="en-US" sz="3200" spc="-1" strike="noStrike">
              <a:solidFill>
                <a:srgbClr val="00006a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71640" y="1700280"/>
            <a:ext cx="3024000" cy="1014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Tahoma"/>
              </a:rPr>
              <a:t>Formation d’un représentant en Belgique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343400" y="1828800"/>
            <a:ext cx="3581280" cy="762120"/>
            <a:chOff x="4343400" y="1828800"/>
            <a:chExt cx="3581280" cy="762120"/>
          </a:xfrm>
        </p:grpSpPr>
        <p:sp>
          <p:nvSpPr>
            <p:cNvPr id="94" name=""/>
            <p:cNvSpPr/>
            <p:nvPr/>
          </p:nvSpPr>
          <p:spPr>
            <a:xfrm>
              <a:off x="4343400" y="2057400"/>
              <a:ext cx="838080" cy="304920"/>
            </a:xfrm>
            <a:custGeom>
              <a:avLst/>
              <a:gdLst>
                <a:gd name="textAreaLeft" fmla="*/ 130680 w 838080"/>
                <a:gd name="textAreaRight" fmla="*/ 733320 w 8380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257800" y="1828800"/>
              <a:ext cx="2666880" cy="762120"/>
            </a:xfrm>
            <a:prstGeom prst="flowChartProcess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2400" spc="-1" strike="noStrike">
                  <a:solidFill>
                    <a:srgbClr val="0c3bb2"/>
                  </a:solidFill>
                  <a:latin typeface="Tahoma"/>
                </a:rPr>
                <a:t>Suivi dans les pay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4643280" y="3573360"/>
            <a:ext cx="3581640" cy="762120"/>
          </a:xfrm>
          <a:prstGeom prst="leftArrowCallout">
            <a:avLst>
              <a:gd name="adj1" fmla="val 25002"/>
              <a:gd name="adj2" fmla="val 25000"/>
              <a:gd name="adj3" fmla="val 64467"/>
              <a:gd name="adj4" fmla="val 7398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Atelier régional </a:t>
            </a:r>
            <a:br>
              <a:rPr sz="2400"/>
            </a:b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pour ex-stagia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5403600">
            <a:off x="6133320" y="2933280"/>
            <a:ext cx="838440" cy="304920"/>
          </a:xfrm>
          <a:custGeom>
            <a:avLst/>
            <a:gdLst>
              <a:gd name="textAreaLeft" fmla="*/ 131040 w 838440"/>
              <a:gd name="textAreaRight" fmla="*/ 733680 w 83844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9280" y="3581280"/>
            <a:ext cx="4464000" cy="7621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Recommandation: plus de </a:t>
            </a:r>
            <a:br>
              <a:rPr sz="2400"/>
            </a:b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formations pour plus de person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5403600">
            <a:off x="2095200" y="4686120"/>
            <a:ext cx="838080" cy="304560"/>
          </a:xfrm>
          <a:custGeom>
            <a:avLst/>
            <a:gdLst>
              <a:gd name="textAreaLeft" fmla="*/ 130680 w 838080"/>
              <a:gd name="textAreaRight" fmla="*/ 733320 w 8380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57800" y="5334120"/>
            <a:ext cx="3048120" cy="7617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Recommandation: </a:t>
            </a:r>
            <a:br>
              <a:rPr sz="2400"/>
            </a:b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CHM rég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0800000">
            <a:off x="1066680" y="5334120"/>
            <a:ext cx="4114800" cy="761760"/>
          </a:xfrm>
          <a:prstGeom prst="leftArrowCallout">
            <a:avLst>
              <a:gd name="adj1" fmla="val 25002"/>
              <a:gd name="adj2" fmla="val 25000"/>
              <a:gd name="adj3" fmla="val 74098"/>
              <a:gd name="adj4" fmla="val 7398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13120" y="55166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Formation régio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rmation sous-régionale CHM, 2005, Moron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1EB9-B13B-4F65-AC6C-34E21E1E909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3f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6a"/>
                </a:solidFill>
                <a:latin typeface="Tahoma"/>
              </a:rPr>
              <a:t>Contenu</a:t>
            </a:r>
            <a:endParaRPr b="0" lang="en-US" sz="3200" spc="-1" strike="noStrike">
              <a:solidFill>
                <a:srgbClr val="00006a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848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99"/>
                </a:solidFill>
                <a:latin typeface="Tahoma"/>
                <a:ea typeface="Arial Unicode MS"/>
              </a:rPr>
              <a:t>Histoir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99"/>
                </a:solidFill>
                <a:latin typeface="Tahoma"/>
                <a:ea typeface="Arial Unicode MS"/>
              </a:rPr>
              <a:t>Activités présentes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99"/>
                </a:solidFill>
                <a:latin typeface="Tahoma"/>
                <a:ea typeface="Arial Unicode MS"/>
              </a:rPr>
              <a:t>Contraintes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99"/>
                </a:solidFill>
                <a:latin typeface="Tahoma"/>
                <a:ea typeface="Arial Unicode MS"/>
              </a:rPr>
              <a:t>Activités futures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99"/>
                </a:solidFill>
                <a:latin typeface="Tahoma"/>
                <a:ea typeface="Arial Unicode MS"/>
              </a:rPr>
              <a:t>Pertinence du partenariat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99"/>
                </a:solidFill>
                <a:latin typeface="Tahoma"/>
              </a:rPr>
              <a:t>Conclusions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28440">
            <a:solidFill>
              <a:srgbClr val="0000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rmation sous-régionale CHM, 2005, Moro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5DD4-8516-4F8B-A3C7-B6E5DF02A9C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3f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006a"/>
                </a:solidFill>
                <a:latin typeface="Tahoma"/>
              </a:rPr>
              <a:t>Recommandations des </a:t>
            </a:r>
            <a:br>
              <a:rPr sz="3600"/>
            </a:br>
            <a:r>
              <a:rPr b="0" lang="fr-BE" sz="3600" spc="-1" strike="noStrike">
                <a:solidFill>
                  <a:srgbClr val="00006a"/>
                </a:solidFill>
                <a:latin typeface="Tahoma"/>
              </a:rPr>
              <a:t>ateliers sous-régionaux</a:t>
            </a:r>
            <a:endParaRPr b="0" lang="en-US" sz="3600" spc="-1" strike="noStrike">
              <a:solidFill>
                <a:srgbClr val="00006a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99"/>
                </a:solidFill>
                <a:latin typeface="Tahoma"/>
              </a:rPr>
              <a:t>Ouagadougou (2003)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Tahoma"/>
              </a:rPr>
              <a:t>Renforcement des capacités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Tahoma"/>
              </a:rPr>
              <a:t>Aide avec matériel informatique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Tahoma"/>
              </a:rPr>
              <a:t>Amélioration des infrastructures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99"/>
                </a:solidFill>
                <a:latin typeface="Tahoma"/>
              </a:rPr>
              <a:t>Bujumbura (2005)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Tahoma"/>
              </a:rPr>
              <a:t>Organiser un réseau des pf interinstitutionnels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Tahoma"/>
              </a:rPr>
              <a:t>Promouvoir sensibilisation sur le CHM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Tahoma"/>
              </a:rPr>
              <a:t>Création d’un CHM régional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28440">
            <a:solidFill>
              <a:srgbClr val="0000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084720" y="1844640"/>
            <a:ext cx="2424240" cy="208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rmation sous-régionale CHM, 2005, Moro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2BB2-D23F-4B76-ADA1-F8E9EB5E504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3f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006a"/>
                </a:solidFill>
                <a:latin typeface="Tahoma"/>
              </a:rPr>
              <a:t>Contraintes mentionnées par </a:t>
            </a:r>
            <a:br>
              <a:rPr sz="3600"/>
            </a:br>
            <a:r>
              <a:rPr b="0" lang="fr-BE" sz="3600" spc="-1" strike="noStrike">
                <a:solidFill>
                  <a:srgbClr val="00006a"/>
                </a:solidFill>
                <a:latin typeface="Tahoma"/>
              </a:rPr>
              <a:t>les ex-stagiaires</a:t>
            </a:r>
            <a:endParaRPr b="0" lang="en-US" sz="3600" spc="-1" strike="noStrike">
              <a:solidFill>
                <a:srgbClr val="00006a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99"/>
                </a:solidFill>
                <a:latin typeface="Tahoma"/>
              </a:rPr>
              <a:t>Support politique pour le PFN CDB et CHM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Tahoma"/>
              </a:rPr>
              <a:t>Manque de sensibilisation du public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Tahoma"/>
              </a:rPr>
              <a:t>Changement du personnel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99"/>
                </a:solidFill>
                <a:latin typeface="Tahoma"/>
              </a:rPr>
              <a:t>Capacités techniques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99"/>
                </a:solidFill>
                <a:latin typeface="Tahoma"/>
              </a:rPr>
              <a:t>Mise à jour des logiciels et ordinateurs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99"/>
                </a:solidFill>
                <a:latin typeface="Tahoma"/>
              </a:rPr>
              <a:t>Vol des ordinateurs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99"/>
                </a:solidFill>
                <a:latin typeface="Tahoma"/>
              </a:rPr>
              <a:t>Échange des expériences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28440">
            <a:solidFill>
              <a:srgbClr val="0000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724360" y="4221000"/>
            <a:ext cx="2448000" cy="163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rmation sous-régionale CHM, 2005, Moro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8D6B-99CA-4EAC-9BF7-58576FEFD6C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3f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006a"/>
                </a:solidFill>
                <a:latin typeface="Tahoma"/>
              </a:rPr>
              <a:t>Pertinence du partenariat</a:t>
            </a:r>
            <a:endParaRPr b="0" lang="en-US" sz="3600" spc="-1" strike="noStrike">
              <a:solidFill>
                <a:srgbClr val="00006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99"/>
                </a:solidFill>
                <a:latin typeface="Tahoma"/>
              </a:rPr>
              <a:t>Nombre des visiteurs des sites partenaires en constante augmentation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99"/>
                </a:solidFill>
                <a:latin typeface="Tahoma"/>
              </a:rPr>
              <a:t>Rapatriement des sites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99"/>
                </a:solidFill>
                <a:latin typeface="Tahoma"/>
              </a:rPr>
              <a:t>Plusieurs stagiaires sont nommés pfn CHM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99"/>
                </a:solidFill>
                <a:latin typeface="Tahoma"/>
              </a:rPr>
              <a:t>Plusieurs articles dans la presse écrites et interviews sur les radios nationales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28440">
            <a:solidFill>
              <a:srgbClr val="0000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rmation sous-régionale CHM, 2005, Moro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8AF6-D374-472C-883F-B4337E8F6B2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3f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006a"/>
                </a:solidFill>
                <a:latin typeface="Tahoma"/>
              </a:rPr>
              <a:t>Pertinence du partenariat (2)</a:t>
            </a:r>
            <a:endParaRPr b="0" lang="en-US" sz="3600" spc="-1" strike="noStrike">
              <a:solidFill>
                <a:srgbClr val="00006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99"/>
                </a:solidFill>
                <a:latin typeface="Tahoma"/>
              </a:rPr>
              <a:t>Organisation du réseau national et réunions de sensibilisation du public cible nationa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99"/>
                </a:solidFill>
                <a:latin typeface="Tahoma"/>
              </a:rPr>
              <a:t>Mise à jour des informations sur la biodiversité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99"/>
                </a:solidFill>
                <a:latin typeface="Tahoma"/>
              </a:rPr>
              <a:t>Conventions liées à la CDB veulent utiliser l’expérience du partenariat CHM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99"/>
                </a:solidFill>
                <a:latin typeface="Tahoma"/>
              </a:rPr>
              <a:t>D’autres pays offrent maintenant aussi un partenariat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99"/>
                </a:solidFill>
                <a:latin typeface="Tahoma"/>
              </a:rPr>
              <a:t>CHM prend rôle plus important depuis COP7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28440">
            <a:solidFill>
              <a:srgbClr val="0000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rmation sous-régionale CHM, 2005, Moro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7241-B88D-48BD-9B25-FE0DEB30F60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3f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006a"/>
                </a:solidFill>
                <a:latin typeface="Tahoma"/>
              </a:rPr>
              <a:t>Future activités du partenariat</a:t>
            </a:r>
            <a:endParaRPr b="0" lang="en-US" sz="3600" spc="-1" strike="noStrike">
              <a:solidFill>
                <a:srgbClr val="00006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99"/>
                </a:solidFill>
                <a:latin typeface="Tahoma"/>
              </a:rPr>
              <a:t>Sur demande des pays partenaires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99"/>
                </a:solidFill>
                <a:latin typeface="Tahoma"/>
              </a:rPr>
              <a:t>Formations sous-régionales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Tahoma"/>
              </a:rPr>
              <a:t>Maghreb  (début 2007)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Tahoma"/>
              </a:rPr>
              <a:t>Asie du sud (2007-2008)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99"/>
                </a:solidFill>
                <a:latin typeface="Tahoma"/>
              </a:rPr>
              <a:t>Formations CHM continuent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99"/>
                </a:solidFill>
                <a:latin typeface="Tahoma"/>
              </a:rPr>
              <a:t>Développement des formation approfondies sur demand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28440">
            <a:solidFill>
              <a:srgbClr val="0000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rmation sous-régionale CHM, 2005, Moro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50DC-582D-4056-A232-6017CB4AEEA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3f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006a"/>
                </a:solidFill>
                <a:latin typeface="Tahoma"/>
              </a:rPr>
              <a:t>Conclusions</a:t>
            </a:r>
            <a:endParaRPr b="0" lang="en-US" sz="3600" spc="-1" strike="noStrike">
              <a:solidFill>
                <a:srgbClr val="00006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99"/>
                </a:solidFill>
                <a:latin typeface="Tahoma"/>
              </a:rPr>
              <a:t>Besoins existants pour l’information fournie par le Centre d’échange d’information dans le cadre de la CDB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99"/>
                </a:solidFill>
                <a:latin typeface="Tahoma"/>
              </a:rPr>
              <a:t>La Belgique continuera les formations tant qu’il y a demande des pays partenaires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99"/>
                </a:solidFill>
                <a:latin typeface="Tahoma"/>
              </a:rPr>
              <a:t>Demande pour des autres formes de partenariat plus élaborées et approfondies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28440">
            <a:solidFill>
              <a:srgbClr val="0000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rmation sous-régionale CHM, 2005, Moro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E7BC-789E-4A31-AB5E-69D9FA19E5B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3f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24000" y="2130480"/>
            <a:ext cx="5976720" cy="39891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360" y="242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006a"/>
                </a:solidFill>
                <a:latin typeface="Tahoma"/>
              </a:rPr>
              <a:t>Merci pour votre attention</a:t>
            </a:r>
            <a:endParaRPr b="0" lang="en-US" sz="3600" spc="-1" strike="noStrike">
              <a:solidFill>
                <a:srgbClr val="00006a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435640" y="189000"/>
            <a:ext cx="3552840" cy="18860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2050920" y="189000"/>
            <a:ext cx="2857680" cy="19047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6443640" y="4149720"/>
            <a:ext cx="2376360" cy="158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rmation sous-régionale CHM, 2005, Moron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F236-D5BE-4FFB-B15C-0321914A389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3f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006a"/>
                </a:solidFill>
                <a:latin typeface="Tahoma"/>
              </a:rPr>
              <a:t>Histoire du partenariat belge </a:t>
            </a:r>
            <a:endParaRPr b="0" lang="en-US" sz="3600" spc="-1" strike="noStrike">
              <a:solidFill>
                <a:srgbClr val="00006a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620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Tahoma"/>
              </a:rPr>
              <a:t>1998-1999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Tahoma"/>
              </a:rPr>
              <a:t>- Demandes par plusieurs points focaux nationaux pour développer et héberger leur Centre d’échange CHM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Tahoma"/>
              </a:rPr>
              <a:t>2000-2006 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Tahoma"/>
              </a:rPr>
              <a:t>14 formations pour gestionnaires web CHM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Tahoma"/>
              </a:rPr>
              <a:t>cinq formations pour le CHM biosécurité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Tahoma"/>
              </a:rPr>
              <a:t>Suivi des stagiaires dans leurs pays (14 pays)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Tahoma"/>
              </a:rPr>
              <a:t>Un atelier régional pour l’Afrique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Tahoma"/>
              </a:rPr>
              <a:t>Deux formations sous-régionales en Afrique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28440">
            <a:solidFill>
              <a:srgbClr val="0000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rmation sous-régionale CHM, 2005, Moro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2397-1B75-45F0-B757-BAA752BEC9F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3f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440" y="1752120"/>
            <a:ext cx="7620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Tahoma"/>
              </a:rPr>
              <a:t>2000 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Tahoma"/>
              </a:rPr>
              <a:t>Demande par la RD Congo CHM PFN pour une formation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Tahoma"/>
              </a:rPr>
              <a:t>Première formation pour des gestionnaires web CHM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Tahoma"/>
              </a:rPr>
              <a:t>2001 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Tahoma"/>
              </a:rPr>
              <a:t>Mise à jour du site web de RD Congo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Tahoma"/>
              </a:rPr>
              <a:t>Deuxième et troisième formation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Tahoma"/>
              </a:rPr>
              <a:t>Demande pour une formation régionale en Afrique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28440">
            <a:solidFill>
              <a:srgbClr val="0000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304920" y="933480"/>
            <a:ext cx="9753840" cy="499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rmation sous-régionale CHM, 2005, Moron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2E21-D2CA-40E3-85CC-9AF9C3553A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3f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181080" y="765000"/>
            <a:ext cx="9525240" cy="487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rmation sous-régionale CHM, 2005, Moron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802E-A14B-4EBF-A0D3-92A5611990E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3f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190440" y="990720"/>
            <a:ext cx="9524880" cy="4876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rmation sous-régionale CHM, 2005, Moron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58EE-8369-484F-852F-47306D36F8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3f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190440" y="990720"/>
            <a:ext cx="9524880" cy="4876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rmation sous-régionale CHM, 2005, Moron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FB21-7F43-4F08-8092-0C9729FBFDA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3f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6a"/>
                </a:solidFill>
                <a:latin typeface="Tahoma"/>
              </a:rPr>
              <a:t>Pays partenaires </a:t>
            </a:r>
            <a:br>
              <a:rPr sz="3200"/>
            </a:br>
            <a:r>
              <a:rPr b="0" lang="fr-BE" sz="3200" spc="-1" strike="noStrike">
                <a:solidFill>
                  <a:srgbClr val="00006a"/>
                </a:solidFill>
                <a:latin typeface="Tahoma"/>
              </a:rPr>
              <a:t>et organisations régionales</a:t>
            </a:r>
            <a:endParaRPr b="0" lang="en-US" sz="3200" spc="-1" strike="noStrike">
              <a:solidFill>
                <a:srgbClr val="00006a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28440">
            <a:solidFill>
              <a:srgbClr val="0000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85800" y="1773360"/>
          <a:ext cx="7772400" cy="4441680"/>
        </p:xfrm>
        <a:graphic>
          <a:graphicData uri="http://schemas.openxmlformats.org/drawingml/2006/table">
            <a:tbl>
              <a:tblPr/>
              <a:tblGrid>
                <a:gridCol w="2838600"/>
                <a:gridCol w="2906640"/>
                <a:gridCol w="2027160"/>
              </a:tblGrid>
              <a:tr h="55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Bén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Burkina Fa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Burund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Camero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Rép. centrafrica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Con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Como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Côte d’Ivoi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RD Con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Djibou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0c3bb2"/>
                          </a:solidFill>
                          <a:latin typeface="Tahoma"/>
                        </a:rPr>
                        <a:t>Ethiop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Gab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Gh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Guiné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Lesoth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Madagas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Malaw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0c3bb2"/>
                          </a:solidFill>
                          <a:latin typeface="Tahoma"/>
                        </a:rPr>
                        <a:t>Maro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Mauritan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Nig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Rw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To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unis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Vietn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Zamb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SAC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COMIFA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rmation sous-régionale CHM, 2005, Moron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2F23-87D7-4F19-9356-C2BDEF560F1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3f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006a"/>
                </a:solidFill>
                <a:latin typeface="Tahoma"/>
              </a:rPr>
              <a:t>Activités</a:t>
            </a:r>
            <a:endParaRPr b="0" lang="en-US" sz="3600" spc="-1" strike="noStrike">
              <a:solidFill>
                <a:srgbClr val="00006a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041200"/>
            <a:ext cx="777384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Tahoma"/>
              </a:rPr>
              <a:t>Hébergement des sites CHM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Tahoma"/>
              </a:rPr>
              <a:t>Hébergement des sites miroirs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Tahoma"/>
              </a:rPr>
              <a:t>Formations des gestionnaires web CHM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Tahoma"/>
              </a:rPr>
              <a:t>Formations des gestionnaires BCH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Tahoma"/>
              </a:rPr>
              <a:t>Conseils techniques aux pays en développement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Tahoma"/>
              </a:rPr>
              <a:t>Sensibilisation du public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99"/>
                </a:solidFill>
                <a:latin typeface="Tahoma"/>
              </a:rPr>
              <a:t>Présentations dans des conférences et ateliers pour promouvoir la mise en œuvre du CHM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28440">
            <a:solidFill>
              <a:srgbClr val="0000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rmation sous-régionale CHM, 2005, Moron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9A70-81F7-425D-8F14-0D3F371482F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5T12:38:34Z</dcterms:created>
  <dc:creator>Afranklin</dc:creator>
  <dc:description/>
  <dc:language>en-US</dc:language>
  <cp:lastModifiedBy>areveillon</cp:lastModifiedBy>
  <dcterms:modified xsi:type="dcterms:W3CDTF">2006-10-27T09:41:37Z</dcterms:modified>
  <cp:revision>106</cp:revision>
  <dc:subject/>
  <dc:title>Informal workshop on ‘Concrete actions for cooperation between European national CHMs’ </dc:title>
</cp:coreProperties>
</file>