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9748838" cy="6850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748800" cy="68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535720" y="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085920" y="533160"/>
            <a:ext cx="363204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C309-A40E-450F-8581-EA4210DBFC9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10.xml"/><Relationship Id="rId7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13.xml"/><Relationship Id="rId7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3.xml"/><Relationship Id="rId7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5.xml"/><Relationship Id="rId7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6.xml"/><Relationship Id="rId7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8.xml"/><Relationship Id="rId7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61A-0A75-479A-84A2-C9A1185C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37C-53F5-45BC-82CF-09BFF8E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06D-83A7-475D-9DC6-17EA6DA8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860-3F0B-4A4A-8992-C257A021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ADF-8729-4392-8017-C67E4820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BD6-079D-4D01-84B2-76201568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973-4758-472B-BC3B-06879389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28F-5FF5-43D6-8CF4-581ECD6E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E6F-4127-4ECE-934F-3AC6F7E6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70C-7490-47FA-8728-2B94C2BC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75C-0D03-4707-BD3C-41698DE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A98-52EF-4D49-87A7-F4405E71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Formation sous-régiona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6 novembre 2006, 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1F0D-3876-476A-AC0B-FEB755E04769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617688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9201240" y="6093000"/>
            <a:ext cx="498240" cy="61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8840" y="1285920"/>
            <a:ext cx="831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Le EC CHM Portal ToolKit (PTK), </a:t>
            </a:r>
            <a:br>
              <a:rPr sz="2800"/>
            </a:br>
            <a:r>
              <a:rPr b="0" lang="fr-BE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outil pour améliorer la participation dans le CHM</a:t>
            </a:r>
            <a:br>
              <a:rPr sz="2800"/>
            </a:br>
            <a:r>
              <a:rPr b="0" lang="fr-BE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au niveau national et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575160"/>
            <a:ext cx="56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ar: Han de Koeijer et Arnaud Réveillon;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Point focal belge de la CDB et le CHM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titut royal des Sciences naturelles de Belgique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9 Rue Vautier, 1000 Bruxelles, Belgique</a:t>
            </a:r>
            <a:r>
              <a:rPr b="0" lang="fr-BE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78760" y="60480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util pour pays partenaires Be-C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3800" y="15526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commandations des pays partenairs lors des formations et ate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aciliter le mise à jour des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mplications des autres utilisateurs dans le CHM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nforcement des capacités dans nouvelles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entiment de la propriété nationale du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TK répond à ces recommandation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78760" y="60480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util pour pays partenaires Be-C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3800" y="155268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TK répond à ces recommandation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ulti-utilisateurs avec différents rô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Nouvelle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Hébergement virtuelle (URL peut être </a:t>
            </a:r>
            <a:r>
              <a:rPr b="1" lang="fr-BE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ttp://www.****.**</a:t>
            </a:r>
            <a:r>
              <a:rPr b="1" lang="fr-BE" sz="2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ise à jour instantanée après appro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72640" y="60480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util pour pays partenaires Be-C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3800" y="137160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ormations sur le P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Janvier 2006 : Ouagadougou, Burkina Faso formation régionale (Bénin, Burkina Faso, Côte d’Ivoire et Ni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c3bb2"/>
              </a:buClr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Bénin, Côte d’Ivoire et Niger décident d’utiliser le P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c3bb2"/>
              </a:buClr>
              <a:buFont typeface="Arial Rounded MT Bold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Burkina Faso vient de lancer son site CHM statique en décembre 2005 (difficile de changer toute de 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ars 2006 : Formation en Belgique (Ethiopie et Zamb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80560" y="60480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util pour pays partenaires Be-C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3800" y="1676520"/>
            <a:ext cx="77770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ai 2006 : Suivi des stagiaires lors de la formation BCH en Belgique (Comores et Côte d’Ivo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Juin 2006 : Formation en Belgique (Burundi, COMIFAC, RD Congo, R. Centrafrica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Juillet 2006 : formation nationale d’introduction (1 jour au Burun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ctobre 2006 : Formation en Belgique (Maroc, Togo, Tuni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42680" y="604800"/>
            <a:ext cx="69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vantages PTK selon pays parte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3800" y="1341360"/>
            <a:ext cx="777708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Toute le monde peut ajouter des données, pas besoin d’être un spécialiste/informatic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Les pages peuvent être ajoutées sans qu’ils sont toute de suite visible pour le monde en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Groupe de discussions pos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ucune frais d’hébergement, garantie de sauf garde des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ise à jour de logiciel garantie dans les années à venir par l’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64320" y="60480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3800" y="1676520"/>
            <a:ext cx="7777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TK est une outille adaptée aux demandes des CHMs nationaux avec garantie de soutien par EU pour futures dévelop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ys partenaires qui ont déjà reçus une formation sont très content avec l’outil et vont faire le transfert des 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Echange des données par RSS facilite la création d’un CHM ré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64320" y="60480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3800" y="1125360"/>
            <a:ext cx="777708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la Belgique s’engage à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tinuer des formations dans l’utilisation du PTK au niveau national et ré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Hébergement des sites PTK sera assuré dans la future (sites Frontpage ne seront plus hébergés à partir de la date que tous les pays partenaires ont reçu formation en PT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ise à jour des version du PTK dans la future pour tous les p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marques par rapport à l’utilisation seront transmis aux développeurs et EC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c3bb2"/>
                </a:solidFill>
                <a:latin typeface="Times New Roman"/>
              </a:rPr>
              <a:t>Merci pour votre attention </a:t>
            </a:r>
            <a:br>
              <a:rPr sz="4400"/>
            </a:br>
            <a:r>
              <a:rPr b="0" lang="fr-BE" sz="4400" spc="-1" strike="noStrike">
                <a:solidFill>
                  <a:srgbClr val="0c3bb2"/>
                </a:solidFill>
                <a:latin typeface="Times New Roman"/>
              </a:rPr>
              <a:t>et </a:t>
            </a:r>
            <a:r>
              <a:rPr b="0" lang="fr-BE" sz="4400" spc="-1" strike="noStrike">
                <a:solidFill>
                  <a:srgbClr val="00ff00"/>
                </a:solidFill>
                <a:latin typeface="Times New Roman"/>
              </a:rPr>
              <a:t>BON TRAV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65720" y="60480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</a:rPr>
              <a:t>Contenu de la 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19320"/>
            <a:ext cx="77774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European Community Clearing-House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érequis pour développement du EC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 du PTK ver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 du PTK vers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util pour pays partenaires Be-CHM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Avantages PTK selon pays parte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clusions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7960" y="604800"/>
            <a:ext cx="89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</a:rPr>
              <a:t>European Community Clearing-House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3800" y="167652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Union Européen : Partie contractante de la C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European Environmental Agency : pf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Partenair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Pays europé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Topic centre biodiver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E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EIO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NGOs et autres agences internat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74040" y="604800"/>
            <a:ext cx="76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érequis pour développement du EC C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557360"/>
            <a:ext cx="838512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Vi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acilité d’u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lusieurs 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ifférents rô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ges dynamiques avec méta-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108520" y="47628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 du PTK vers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0160" y="1320840"/>
            <a:ext cx="941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ppel d’offre 1999: Contrat avec Finsi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pen source </a:t>
            </a:r>
            <a:r>
              <a:rPr b="1" lang="fr-BE" sz="2400" spc="-1" strike="noStrike">
                <a:solidFill>
                  <a:srgbClr val="0c3bb2"/>
                </a:solidFill>
                <a:latin typeface="Wingdings"/>
                <a:ea typeface="Wingdings"/>
              </a:rPr>
              <a:t>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Z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Zope = Zope open programming environment (http://www.zope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Web application server écrit surtout avec langage 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Base de données des objets transactionnel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tenue, données, modèles HTML dynamiques, scripts, moteur de recherche, connexions et code avec bases de données rela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94120" y="60480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 du PTK vers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413000"/>
            <a:ext cx="853740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mplication de plusieurs pays européens avec CHM a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éunions annu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Échange d’expé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t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éreq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03 Utilisation par EC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jouts des fonctionnalités </a:t>
            </a:r>
            <a:r>
              <a:rPr b="1" lang="fr-BE" sz="2400" spc="-1" strike="noStrike">
                <a:solidFill>
                  <a:srgbClr val="0c3bb2"/>
                </a:solidFill>
                <a:latin typeface="Wingdings"/>
                <a:ea typeface="Wingdings"/>
              </a:rPr>
              <a:t>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PTK ver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05 Utilisateurs = Allemagne, Danemark et Esto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16440" y="60480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 du PTK vers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676520"/>
            <a:ext cx="777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commandations des réunions EC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ulti-lang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ossibilités de modifier le PTK selon g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Hébergement pour les sites européens sur serveur EC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ésultat : Projet d’amélioration PTK financé par EU 2004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94120" y="60660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 du PTK vers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3800" y="1413000"/>
            <a:ext cx="83530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Task forc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ECCHM, Finsiel, Allemagne, Belgique, Dane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méliorations basées su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commandations des p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AA compliant (http://www.w3.org/TR/WAI-WEBCONTENT/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Basé sur XHTML trans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Utilisation des 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teropérabilité entre sites par 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trôleur des li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orum de discussions, notifications et dépositoire des documents (optio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090880" y="60480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 du PTK vers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3800" y="167652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Lancement de la version 2, décembre 2005, Talinn, Esto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ys EU utilisateurs : </a:t>
            </a:r>
            <a:r>
              <a:rPr b="1" i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llemagne, Belgique, Danemark, Estonie, France, Roumanie, la Su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eule la Belgique n’héberge pas son site sur le serveur d’EC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ervice IT utilise déjà Zope pour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Hébergement de pays parte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utres utilisateurs: Guatemala, RAC/SPA, a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4:40:20Z</dcterms:created>
  <dc:creator>Han de Koeijer</dc:creator>
  <dc:description/>
  <dc:language>en-US</dc:language>
  <cp:lastModifiedBy>han</cp:lastModifiedBy>
  <dcterms:modified xsi:type="dcterms:W3CDTF">2006-11-05T15:37:20Z</dcterms:modified>
  <cp:revision>82</cp:revision>
  <dc:subject/>
  <dc:title>PowerPoint Presentation</dc:title>
</cp:coreProperties>
</file>