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whoosh.wav" ContentType="audio/x-wav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9748838" cy="6850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748800" cy="68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535720" y="0"/>
            <a:ext cx="4192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085920" y="533160"/>
            <a:ext cx="363204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64771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4194-E26D-4481-85A2-0E939653644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10.xml"/><Relationship Id="rId7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12.xml"/><Relationship Id="rId7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3.xml"/><Relationship Id="rId7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5.xml"/><Relationship Id="rId7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8.xml"/><Relationship Id="rId7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hyperlink" Target="http://www.biodiv.org/chm/default.asp?lg=2" TargetMode="External"/><Relationship Id="rId3" Type="http://schemas.openxmlformats.org/officeDocument/2006/relationships/hyperlink" Target="http://www.biodiv.org/chm/default.asp?lg=2" TargetMode="External"/><Relationship Id="rId4" Type="http://schemas.openxmlformats.org/officeDocument/2006/relationships/hyperlink" Target="http://www.biodiv.org/chm/default.asp?lg=2" TargetMode="External"/><Relationship Id="rId5" Type="http://schemas.openxmlformats.org/officeDocument/2006/relationships/hyperlink" Target="http://www.biodiv.org/chm/default.asp?lg=2" TargetMode="External"/><Relationship Id="rId6" Type="http://schemas.openxmlformats.org/officeDocument/2006/relationships/slide" Target="../slides/slide9.xml"/><Relationship Id="rId7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(CHM) sous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nvention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sur la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06C-1E24-4F01-AB22-15187AE8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E1C-0BEA-4A60-A7DE-E67833B4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6DD1-4251-4275-AA89-112E3B2E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ADA-6EAA-4B9E-98E5-F4F2C189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B9D-871C-469A-8478-6EC21687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3C2-BF22-44E6-92CF-2EEFD3AE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C2C-974A-4160-94E0-03BDCF00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EE3-8FB3-4F65-AFB6-67E00825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D0A-0F30-48B6-9A54-D47CD85B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F89-EF72-4B8C-84B3-58C51663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74B-9567-47C3-8C72-12C9359A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A57-F63D-4A0D-BCC6-1B626EFB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BE" sz="1200" spc="-1" strike="noStrike">
                <a:solidFill>
                  <a:srgbClr val="00006a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Formation sous-régiona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6 novembre 2006, T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68EA-AB92-49AC-8D40-86BE4A578A43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50920" y="6176880"/>
            <a:ext cx="565200" cy="565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9201240" y="6093000"/>
            <a:ext cx="498240" cy="61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13280" y="1285920"/>
            <a:ext cx="738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Coopération technique et scientifique </a:t>
            </a:r>
            <a:br>
              <a:rPr sz="2800"/>
            </a:br>
            <a:r>
              <a:rPr b="0" lang="fr-BE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par le Centre d’échange </a:t>
            </a:r>
            <a:br>
              <a:rPr sz="2800"/>
            </a:br>
            <a:r>
              <a:rPr b="0" lang="fr-BE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de la Convention sur la diversité bi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57240" y="357516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ar: Han de Koeijer, Arnaud Réveillon et Anne Franklin;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Point focal belge de la CDB et le CHM,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titut royal des Sciences naturelles de Belgique,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9 Rue Vautier, 1000 Bruxelles, Belgique</a:t>
            </a:r>
            <a:r>
              <a:rPr b="0" lang="fr-BE" sz="1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42160" y="604800"/>
            <a:ext cx="552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ite web national pour le C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3800" y="137160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Un des outils à la disposition du C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ortail à l’inform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ur la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Mise en œuvre au niveau national de la C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nformations sur la biodivers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op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utres sources d’informations sur l’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Utilisez les informations dispon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réez seulement des nouvelles informations 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si pas disponible ailleurs sur l’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35680" y="604800"/>
            <a:ext cx="552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ite web national pour le C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3800" y="137160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endre accessible les informations difficiles à obtenir dans et en dehors du p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ages les plus visitées sur les C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apports nation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Monograp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tratégies et Plans d’Actions nationaux sur la biodivers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Questions fréquemment posées sur la 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 Biodivers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14240" y="604800"/>
            <a:ext cx="51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nteropérabilité entre C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3800" y="1676520"/>
            <a:ext cx="777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ourquoi interopérabilité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romouvoir la coopération et l’échange 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d’informations entre pays 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Faciliter des recherches sur les différents CHMs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pour d’informations et “best practic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14240" y="604800"/>
            <a:ext cx="51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nteropérabilité entre C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3800" y="16765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mment promouvoir l’interopérabilité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tructurer l’Information de la même man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320" y="-2286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320" y="-2286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320" y="-2286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3800" y="1676520"/>
            <a:ext cx="77770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mment promouvoir l’interopérabilité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tructurer l’Information de la même man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jouter du codage XML aux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HMs basés sur le EC-CHM PTK peuvent échanger des données/informations par RSS et des recherches peuvent être faites sur tous les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240" y="604800"/>
            <a:ext cx="51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nteropérabilité entre C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76520" y="6048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nseils pra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1160" y="1447920"/>
            <a:ext cx="8156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Faire un recensement des sources d’informations exi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nclure les acteurs dans la domaine de la biodiversité dès le 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nférence sur l’utilité du CHM pour 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timuler une culture d’échange d’in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llaborer dès le début avec des réseaux nationaux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émergents liés à la CDB tels que: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CHM biosécurité, Programme mondial des espèces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envahissants, Forum mondial d’informations 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sur la biodiversité et au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000160" y="6048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nseils pra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1160" y="1447920"/>
            <a:ext cx="81565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artager les ressources et la capacité hum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Utiliser les statistiques web au niveau des pages 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les plus visitées pour améliorer les sources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d’informations les plus visit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ensibiliser les politiques sur le rôle et le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fonctionnement du C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65720" y="604800"/>
            <a:ext cx="50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</a:rPr>
              <a:t>Contenu de la pré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19320"/>
            <a:ext cx="77774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ntroduction au Centre d’échange d’in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opération et le C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Échange d’information et le CHM n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romouvoir des réseaux d’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opération entre pays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Le site web C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nseils pratiques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51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c3bb2"/>
                </a:solidFill>
                <a:latin typeface="Times New Roman"/>
              </a:rPr>
              <a:t>Merci pour votre atten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60" y="609480"/>
            <a:ext cx="89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3bb2"/>
                </a:solidFill>
                <a:latin typeface="Times New Roman"/>
                <a:ea typeface="Times New Roman"/>
              </a:rPr>
              <a:t>Introduction au Centre d’échange d’informations (CH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3800" y="16765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util pour promouvoir la coopération technique et scientifique sous la C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c3bb2"/>
                </a:solidFill>
                <a:uFillTx/>
                <a:latin typeface="Arial Rounded MT Bold"/>
                <a:ea typeface="Times New Roman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promouvoir et faciliter la coopération scientifique et technique (Article 18.3 de la CD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Mécanisme global pour l’échange de l’information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  et « best practices » (Article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Développer et promouvoir un réseau humain 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  et  techn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12800" y="604800"/>
            <a:ext cx="69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opération technique et scientifique </a:t>
            </a:r>
            <a:br>
              <a:rPr sz="2800"/>
            </a:b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ar le CHM 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981080"/>
            <a:ext cx="83851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Qui est votre public c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mment pouvez-vous stimuler la coopération 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entre eux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e quel type d’information ont-ils besoin pour choisir leurs collaborateur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Quel type d’information voudriez-vous rendre public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99600" y="476280"/>
            <a:ext cx="760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Échange d’informations pour promouvoir </a:t>
            </a:r>
            <a:br>
              <a:rPr sz="2800"/>
            </a:b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la coopération et la sensibilisation </a:t>
            </a:r>
            <a:br>
              <a:rPr sz="2800"/>
            </a:b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u public au niveau 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828800"/>
            <a:ext cx="8308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nformations sont disponibles, mais l’accès 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n’est pas toujours facile/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loi, recherches, “best practices”, trans-frontalier, opportunités pour fonds, qui fait quo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dentification des lacunes d’in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Validation de l’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centralisé versus centr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</a:rPr>
              <a:t>Droits de propriété intellect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6360" y="604800"/>
            <a:ext cx="760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Échange d’informations pour promouvoir </a:t>
            </a:r>
            <a:br>
              <a:rPr sz="2800"/>
            </a:b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la coopération et la sensibilisation </a:t>
            </a:r>
            <a:br>
              <a:rPr sz="2800"/>
            </a:b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u public au niveau 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165400"/>
            <a:ext cx="8537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ugmenter la sensibilisation publique sur la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Monographies, listes rouges, relation avec les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 conventions, curricula éducatif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Groupes ciblés: décideurs politiques, jeunes, maîtres d’écoles, public en géné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Motiver le public par des campagnes d’observation de la biodivers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c3b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6920" y="604800"/>
            <a:ext cx="64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velopper et assister des Rése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676520"/>
            <a:ext cx="77774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rogrammes thématiques sous la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Échange et provision d’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“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Best practic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nt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925360" y="606600"/>
            <a:ext cx="43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opération entre P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3800" y="1676520"/>
            <a:ext cx="777708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ujets u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“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Best practic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L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nformations pour la prise d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nformations transfrontal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922120" y="604800"/>
            <a:ext cx="43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opération entre P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3800" y="1676520"/>
            <a:ext cx="7777080" cy="35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Échange d’Information p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nférences et ate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Groupes de discussion par email/listes serv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Visites de ter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it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4:40:20Z</dcterms:created>
  <dc:creator>Han de Koeijer</dc:creator>
  <dc:description/>
  <dc:language>en-US</dc:language>
  <cp:lastModifiedBy>han</cp:lastModifiedBy>
  <dcterms:modified xsi:type="dcterms:W3CDTF">2006-11-05T15:25:23Z</dcterms:modified>
  <cp:revision>84</cp:revision>
  <dc:subject/>
  <dc:title>PowerPoint Presentation</dc:title>
</cp:coreProperties>
</file>