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1F48-8681-45A0-804C-294A89015F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063-13BC-47E5-B465-88BF6DA7A0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9E84-5363-406E-9E73-FD50755849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D569-E055-41BC-B115-BEC83FD425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1212-F1B6-4D1E-BDFE-0EEC0C0162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147-D364-4D12-8EB2-97F3D57376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CD1-AC02-43B3-B012-6AC2967396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F07-747B-4A8F-935D-B43D391D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87F-9047-4774-83CD-A2448DB5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C2F-C769-4E8E-846C-36BFDF25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24F-AB3A-4D3C-BB47-1DCF4F75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2E3-9CCE-4841-B231-9C6FF493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036-0D33-45D4-A138-0AA5295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675-7D74-4441-956A-C05D3D1B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117-7EA9-4412-B446-BCA4C3CD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BA6-61BB-4D11-B984-C60DB4C8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E25-FE7F-48F3-8885-E0FB01A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EBE-AC65-489F-83F2-4E16C67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AF8-F501-495A-A7ED-4DDE08B1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5 mars 2007, Ra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39D8-9144-458C-8FE7-4587E3C5E678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pfn-111-transparent_bg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ogochm-petit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04800" y="1844640"/>
            <a:ext cx="70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3 : Sensibilisation et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04920" y="357516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ar: Han de Koeijer et Marie-Lucie Susini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Institut royal des Sciences naturelles de Belgique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oint focal belge de la CDB et l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00cc99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louds-mad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2565720" y="604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Contenu de la 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3"/>
          <p:cNvSpPr/>
          <p:nvPr/>
        </p:nvSpPr>
        <p:spPr>
          <a:xfrm>
            <a:off x="1066680" y="1812960"/>
            <a:ext cx="77774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3-1 : Etudes de base donnent idée sur la sensibilisation et l’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3-2 : Sensibilisation et engagement sont renforc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3-3 : Résultats scientifiques sont diffu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24160" y="609480"/>
            <a:ext cx="91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3-1 : Etudes de base sensibilisation/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63800" y="126828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projet en 2014 / 2015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ventaires et définition des publics 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finir les indicateurs possibles pour les publics cho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r des méthodolog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Etudes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projet en 2018/2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85760" y="609480"/>
            <a:ext cx="95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3-2 : Sensibilisation et engagement sont renforc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063800" y="119700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proje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nsibilisation des publics cibles sous SO3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éveloppement des et soutien aux engagements pub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ritères de sél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atiques réplicables dans d’autres p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llaboration entre pays, ou au niveau de parcs transfronta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nsibilisation sur le Protocole de Nagoya (SO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rojets de 1-3 ans (sauf si sujet du 22 m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520" y="609480"/>
            <a:ext cx="78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3-3 : Résultats scientifique sont diffus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23840" y="148428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pro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Lien avec SO1-3 et S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849240" y="-1103400"/>
            <a:ext cx="8220240" cy="7961400"/>
          </a:xfrm>
          <a:prstGeom prst="rect">
            <a:avLst/>
          </a:prstGeom>
          <a:ln w="0">
            <a:noFill/>
          </a:ln>
        </p:spPr>
      </p:pic>
      <p:sp>
        <p:nvSpPr>
          <p:cNvPr id="67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549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c3bb2"/>
                </a:solidFill>
                <a:latin typeface="Arial Rounded MT Bold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dekoeijer</cp:lastModifiedBy>
  <dcterms:modified xsi:type="dcterms:W3CDTF">2013-03-26T11:36:57Z</dcterms:modified>
  <cp:revision>162</cp:revision>
  <dc:subject/>
  <dc:title>PowerPoint Presentation</dc:title>
</cp:coreProperties>
</file>