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907588" cy="6858000"/>
  <p:notesSz cx="9748838" cy="6850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748800" cy="68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535720" y="0"/>
            <a:ext cx="41925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085920" y="533160"/>
            <a:ext cx="363204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6477120"/>
            <a:ext cx="4191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5535720" y="6477120"/>
            <a:ext cx="41925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9969-B4DE-439D-8730-46B31FCEC2F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5535720" y="6477120"/>
            <a:ext cx="4192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69F2-6F4F-458C-BF93-1254A489C62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5535720" y="6477120"/>
            <a:ext cx="4192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C1C7-15E7-47D9-87C3-9B33A18CD99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Centre d'échange (CHM) sous la Convention sur la diversité biologique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5535720" y="6477120"/>
            <a:ext cx="4192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C104-CF65-427D-A387-1D328FA904D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Centre d'échange (CHM) sous la Convention sur la diversité biologique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5535720" y="6477120"/>
            <a:ext cx="4192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3EC3-463B-4E80-BD8E-E69DC84575F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Centre d'échange (CHM) sous la Convention sur la diversité biologique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535720" y="6477120"/>
            <a:ext cx="4192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368E-D22D-4175-9BB9-DA13801B2F1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 Centre d'échange (CHM) sous la Convention sur la diversité biologique (CDB) est un instrument d'échange d'information conçu pour promouvoir et faciliter la coopération technique et scientif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a pour but de réaliser les trois objectifs de la Con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l joue également un rôle important dans les programmes de sensibilisation du public à la réalisation de ces trois objecti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5535720" y="6477120"/>
            <a:ext cx="4192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61B3-A7FD-4E1A-9FE1-743A220C048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3086280" y="533520"/>
            <a:ext cx="3632040" cy="25146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65040" y="3276720"/>
            <a:ext cx="719604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23D0-62CD-4D1D-8302-163A5D83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E1DA-C248-42B9-BD08-1544AAD1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D03D-7458-4F42-9587-0F2CF66A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8D0E-5C17-43B8-B26E-C94DAE691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6E12-8BF7-46AC-B6FF-83778878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90EF-BEED-481D-B122-651EC312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1505-C0BA-40A8-966E-7840D57E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829E-6212-4733-AA35-710D99E2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75AA-435C-492E-93E6-D712AB68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7065-A973-43C3-9907-DF33E73B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04BA-D73E-4022-8A24-AD9FFB0E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0446-AD99-463B-ACAE-F32A21AC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373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BE" sz="1200" spc="-1" strike="noStrike">
                <a:solidFill>
                  <a:srgbClr val="00006a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Formation sous-régional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5 mars 2007, Rab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298E-BF80-45EC-9D8B-8E875531DD8E}" type="slidenum">
              <a:rPr b="0" lang="fr-B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4" descr="pfn-111-transparent_bg"/>
          <p:cNvPicPr/>
          <p:nvPr/>
        </p:nvPicPr>
        <p:blipFill>
          <a:blip r:embed="rId2"/>
          <a:stretch/>
        </p:blipFill>
        <p:spPr>
          <a:xfrm>
            <a:off x="250920" y="6176880"/>
            <a:ext cx="565200" cy="5652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5" descr="logochm-petit"/>
          <p:cNvPicPr/>
          <p:nvPr/>
        </p:nvPicPr>
        <p:blipFill>
          <a:blip r:embed="rId3"/>
          <a:stretch/>
        </p:blipFill>
        <p:spPr>
          <a:xfrm>
            <a:off x="9201240" y="6093000"/>
            <a:ext cx="498240" cy="618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Espace réservé du pied de page 2"/>
          <p:cNvSpPr/>
          <p:nvPr/>
        </p:nvSpPr>
        <p:spPr>
          <a:xfrm>
            <a:off x="3048120" y="62485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Atelier pays partenaires du CHM belge, </a:t>
            </a:r>
            <a:br>
              <a:rPr sz="1200"/>
            </a:b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11-14 mars 2013, Marrakech, Mar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716120" y="1844640"/>
            <a:ext cx="664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SO2 : Renforcement  de l’échange 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de l’utilisation de l’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104920" y="3575160"/>
            <a:ext cx="569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Par: Han de Koeijer et Marie –Lucie Susini; </a:t>
            </a:r>
            <a:br>
              <a:rPr sz="1800"/>
            </a:br>
            <a:r>
              <a:rPr b="1" i="1" lang="fr-BE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 Institut royal des Sciences naturelles de Belgique, </a:t>
            </a:r>
            <a:br>
              <a:rPr sz="1800"/>
            </a:br>
            <a:r>
              <a:rPr b="1" i="1" lang="fr-BE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Point focal belge de la CDB et le CHM, </a:t>
            </a:r>
            <a:br>
              <a:rPr sz="1800"/>
            </a:br>
            <a:r>
              <a:rPr b="1" i="1" lang="fr-BE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29 Rue Vautier, 1000 Bruxelles, Belgique</a:t>
            </a:r>
            <a:r>
              <a:rPr b="0" lang="fr-BE" sz="1800" spc="-1" strike="noStrike">
                <a:solidFill>
                  <a:srgbClr val="00cc99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clouds-mada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space réservé du pied de page 2"/>
          <p:cNvSpPr/>
          <p:nvPr/>
        </p:nvSpPr>
        <p:spPr>
          <a:xfrm>
            <a:off x="3048120" y="62485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Atelier pays partenaires du CHM belge, </a:t>
            </a:r>
            <a:br>
              <a:rPr sz="1200"/>
            </a:b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11-14 mars 2013, Marrakech, Mar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2"/>
          <p:cNvSpPr/>
          <p:nvPr/>
        </p:nvSpPr>
        <p:spPr>
          <a:xfrm>
            <a:off x="2565720" y="604800"/>
            <a:ext cx="50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c3bb2"/>
                </a:solidFill>
                <a:latin typeface="Arial Rounded MT Bold"/>
              </a:rPr>
              <a:t>Contenu de la pré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3"/>
          <p:cNvSpPr/>
          <p:nvPr/>
        </p:nvSpPr>
        <p:spPr>
          <a:xfrm>
            <a:off x="1066680" y="1812960"/>
            <a:ext cx="777744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d2db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2d2db9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2d2db9"/>
                </a:solidFill>
                <a:latin typeface="Arial Rounded MT Bold"/>
                <a:ea typeface="Times New Roman"/>
              </a:rPr>
              <a:t>SO2-1 : Renforcement de l’expertise en échange de l’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2d2db9"/>
                </a:solidFill>
                <a:latin typeface="Arial Rounded MT Bold"/>
                <a:ea typeface="Times New Roman"/>
              </a:rPr>
              <a:t>SO2-2 : L’échange de l’information est amélio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</a:t>
            </a: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SO2-3 : L’information est utilisée dans la gouver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Espace réservé du pied de page 2"/>
          <p:cNvSpPr/>
          <p:nvPr/>
        </p:nvSpPr>
        <p:spPr>
          <a:xfrm>
            <a:off x="3048120" y="62485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Atelier pays partenaires du CHM belge, </a:t>
            </a:r>
            <a:br>
              <a:rPr sz="1200"/>
            </a:b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11-14 mars 2013, Marrakech, Mar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1874880" y="609480"/>
            <a:ext cx="64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2d2db9"/>
                </a:solidFill>
                <a:latin typeface="Arial Rounded MT Bold"/>
                <a:ea typeface="Times New Roman"/>
              </a:rPr>
              <a:t>SO2-1 : Renforcement de l’expert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063800" y="1268280"/>
            <a:ext cx="8426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Renforcement  par des for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Formations des responsables du CHM n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Formations nationale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c3b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Une formation nati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c3b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Sessions de suivi des acquis des partici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c3b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Formations régionales / coopération Sud-Su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42720">
              <a:lnSpc>
                <a:spcPct val="100000"/>
              </a:lnSpc>
              <a:buClr>
                <a:srgbClr val="0c3b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Formations aux nouvelles technologies / mise à jour lors d’ateliers (1 jou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Espace réservé du pied de page 2"/>
          <p:cNvSpPr/>
          <p:nvPr/>
        </p:nvSpPr>
        <p:spPr>
          <a:xfrm>
            <a:off x="3048120" y="62485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Atelier pays partenaires du CHM belge, </a:t>
            </a:r>
            <a:br>
              <a:rPr sz="1200"/>
            </a:b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11-14 mars 2013, Marrakech, Mar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55480" y="609480"/>
            <a:ext cx="85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2d2db9"/>
                </a:solidFill>
                <a:latin typeface="Arial Rounded MT Bold"/>
                <a:ea typeface="Times New Roman"/>
              </a:rPr>
              <a:t>SO2-2 : L’échange de l’information est amélior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063800" y="1197000"/>
            <a:ext cx="777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Résultats des activités des autres 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Par appel à proj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Sujet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c3b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Basé sur priorités mentionnées dans NBSAP ou stratégie nationale C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c3b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Implications des partenaires (en et dehors des capitau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c3b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Améliorer sections du CHM n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c3b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Renforcement institutionnel (seulement pour le Burundi et sur demande de la RD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c3b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Coopération Sud-S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Espace réservé du pied de page 2"/>
          <p:cNvSpPr/>
          <p:nvPr/>
        </p:nvSpPr>
        <p:spPr>
          <a:xfrm>
            <a:off x="3048120" y="62485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Atelier pays partenaires du CHM belge, </a:t>
            </a:r>
            <a:br>
              <a:rPr sz="1200"/>
            </a:br>
            <a:r>
              <a:rPr b="1" lang="fr-BE" sz="1200" spc="-1" strike="noStrike">
                <a:solidFill>
                  <a:srgbClr val="00006a"/>
                </a:solidFill>
                <a:latin typeface="Tahoma"/>
              </a:rPr>
              <a:t>11-14 mars 2013, Marrakech, Mar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985680" y="609480"/>
            <a:ext cx="614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c3bb2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SO2-3 : L’information est utilisée </a:t>
            </a:r>
            <a:br>
              <a:rPr sz="2800"/>
            </a:br>
            <a:r>
              <a:rPr b="1" lang="fr-BE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	</a:t>
            </a:r>
            <a:r>
              <a:rPr b="1" lang="fr-BE" sz="28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      dans la gouver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023840" y="1773360"/>
            <a:ext cx="777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National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00000"/>
              </a:lnSpc>
              <a:buClr>
                <a:srgbClr val="0c3b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Réunions régulières des comités de gestion  pour le CHM (seulement si pas d’autres sources disponib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International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Ateliers avec les pays parten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Participation des représentants CHM dans  des conférences internat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c3b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c3bb2"/>
                </a:solidFill>
                <a:latin typeface="Arial Rounded MT Bold"/>
                <a:ea typeface="Times New Roman"/>
              </a:rPr>
              <a:t>Assister des organisations régionales pour organiser des ate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849240" y="-1103400"/>
            <a:ext cx="8220240" cy="7961400"/>
          </a:xfrm>
          <a:prstGeom prst="rect">
            <a:avLst/>
          </a:prstGeom>
          <a:ln w="0">
            <a:noFill/>
          </a:ln>
        </p:spPr>
      </p:pic>
      <p:sp>
        <p:nvSpPr>
          <p:cNvPr id="67" name="Espace réservé du pied de page 2"/>
          <p:cNvSpPr/>
          <p:nvPr/>
        </p:nvSpPr>
        <p:spPr>
          <a:xfrm>
            <a:off x="3048120" y="62485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Tahoma"/>
              </a:rPr>
              <a:t>Atelier pays partenaires du CHM belge, </a:t>
            </a:r>
            <a:br>
              <a:rPr sz="1200"/>
            </a:br>
            <a:r>
              <a:rPr b="1" lang="fr-BE" sz="1200" spc="-1" strike="noStrike">
                <a:solidFill>
                  <a:srgbClr val="ffffff"/>
                </a:solidFill>
                <a:latin typeface="Tahoma"/>
              </a:rPr>
              <a:t>11-14 mars 2013, Marrakech, Mar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1880" y="5490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800" spc="-1" strike="noStrike">
                <a:solidFill>
                  <a:srgbClr val="0c3bb2"/>
                </a:solidFill>
                <a:latin typeface="Arial Rounded MT Bold"/>
              </a:rPr>
              <a:t>Merci pour votre atten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0T14:40:20Z</dcterms:created>
  <dc:creator>Han de Koeijer</dc:creator>
  <dc:description/>
  <dc:language>en-US</dc:language>
  <cp:lastModifiedBy>hdekoeijer</cp:lastModifiedBy>
  <dcterms:modified xsi:type="dcterms:W3CDTF">2013-03-26T11:34:42Z</dcterms:modified>
  <cp:revision>158</cp:revision>
  <dc:subject/>
  <dc:title>PowerPoint Presentation</dc:title>
</cp:coreProperties>
</file>