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F896-F66A-4F41-A5A1-A4F6EA3E1E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biodiv.org/chm/default.asp?lg=2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12E2-FDD9-43FE-BE3A-104E11B918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A1E9-F883-471C-93AB-82452AB14D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02B-DAD4-4DF8-9E8C-F5E45D765F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 (CHM) sous la Convention sur la 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228-D6B6-49B0-B2AB-09855A1F4C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 (CHM) sous la Convention sur la 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2AF4-C791-4D72-8149-005C1C5B0A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entre d'échange (CHM) sous la Convention sur la diversité biologiqu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F28-FD2D-41DE-91B8-C1DD12E5FA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60F9-3EA6-49F8-89E5-5A69400F535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1D1-C192-45B4-8220-FA512EE7E9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058-E184-4F5D-A2A7-F569E7378B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18C3-7943-49FC-B1D8-40460F6F12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6DC-2D91-4C4F-B97A-CC1C6C6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B9A-6606-46A7-8C05-570973A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536-D158-4A1F-9CE3-8ADD25FA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BA7-669A-4B83-9499-DDFFC0E2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9D4-B2E8-47A9-8C08-CEB75413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85A-B0E1-487B-9F79-099EA0A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983-91DF-4C27-8219-A5109A78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0DF-33B1-4AF8-A5F1-2DB9EA1F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D8C-61D7-448D-A284-C7EF675B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CD9-3B75-47BF-A0BC-1C7D029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E58-1FE1-4BF4-A9B3-742DD582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146-A024-422F-9AB5-D33B7BB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5 mars 2007, Ra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ACFC-1BF0-4E06-9817-97AEE1729F49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pfn-111-transparent_bg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ogochm-petit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723040" y="18446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Programme DGD – IRScN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3333cc"/>
                </a:solidFill>
                <a:latin typeface="Arial Rounded MT Bold"/>
                <a:ea typeface="Times New Roman"/>
              </a:rPr>
              <a:t>2014-20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04920" y="357516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ar: Han de Koeijer et Marie –Lucie Susini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Institut royal des Sciences naturelles de Belgique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oint focal belge de la CDB et l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00cc99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louds-mad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125280"/>
            <a:ext cx="9906120" cy="6607440"/>
          </a:xfrm>
          <a:prstGeom prst="rect">
            <a:avLst/>
          </a:prstGeom>
          <a:ln w="0">
            <a:noFill/>
          </a:ln>
        </p:spPr>
      </p:pic>
      <p:sp>
        <p:nvSpPr>
          <p:cNvPr id="79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514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c3bb2"/>
                </a:solidFill>
                <a:latin typeface="Arial Rounded MT Bold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2565720" y="604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Contenu de la 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3"/>
          <p:cNvSpPr/>
          <p:nvPr/>
        </p:nvSpPr>
        <p:spPr>
          <a:xfrm>
            <a:off x="1066680" y="1812960"/>
            <a:ext cx="777744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Importantes décisions à prendre en compte dans le développement du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Introduction sur les phases de développement du programme 2014 – 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hèmes principaux du programme 2014-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Que reste-t-il encore à faire avant 2014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991080" y="609480"/>
            <a:ext cx="82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Importantes décisions pour le programm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63800" y="16765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s COP10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1: APA / Protocole de Nagoy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2 : Plan stratégique 2011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15 : CHM et coopération T. &amp; 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16 : Transfert de Technologie et co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18 : CE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cision X/39 : 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P 11: Confirmation des décisions COP10 et implémentation, implémentation, implé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0120" y="609480"/>
            <a:ext cx="82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Importantes décisions pour le programm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063800" y="119700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forme de la DG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us section 2.4 : Environnement et ressources</a:t>
            </a:r>
            <a:br>
              <a:rPr sz="2400"/>
            </a:b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natur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ttentes supplémentaires du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sultats de l’atelier de Cotonou, Bénin, avril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nalyse du programme 2008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part d’Anne Franklin comme coordinat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66240" y="609480"/>
            <a:ext cx="75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Phases de développement du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63800" y="119700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RScN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nalyse de l’importance des décisions COP10 et COP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« Business as usual ? » versus « changement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nalyse du programme 2008-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commandations atelier CHM de Cotonou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GD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nalyse des at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6240" y="609480"/>
            <a:ext cx="75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Phases de développement du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3800" y="119700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2 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gramme accepté le 06/12/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2013 = Année interméd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Mars  - Atelier de Marrakech avec pays parte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874960" y="6094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bjectifs princip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063800" y="119700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Thèmes transversaux : Biodiversité et services écosystémiques pour la réduction de la pauvre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 1 : Renforcement  des bases des connaissances scientifiques e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 2 : Renforcement  de l’échange et de l’utilisation de l’information entre autres, dans les processus de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 3 : Contribution sur la sensibilisation du 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874960" y="6094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bjectifs princip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063800" y="119700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4 : Intégration de la biodiversité et des services écosystémiques dans les secteurs politiques liés à la coopération au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5 : Renforcement des connaissances sur les mesures, le rapportage et la vérification des choix politiques et activ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OS6 : Sensibilisation et renforcement des capacités sur le Protocole de Nagoya en Belgique et dans les pays parte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401840" y="60480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Que reste-t-il encore à faire avant 2014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44680" y="1628640"/>
            <a:ext cx="892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vril : Discussions avec la DGD sur l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Juin : Finalisation du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ptembre – Novembre : L’ accord cadre et le programme 2014 – 2019 (avec le budget) sont signés et approuvés par le gouver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dekoeijer</cp:lastModifiedBy>
  <dcterms:modified xsi:type="dcterms:W3CDTF">2013-03-26T11:30:04Z</dcterms:modified>
  <cp:revision>160</cp:revision>
  <dc:subject/>
  <dc:title>PowerPoint Presentation</dc:title>
</cp:coreProperties>
</file>