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71C-F820-48A3-BE8E-F20A1398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C20-48C3-41C9-8D1B-97F3D46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FC7-F639-4485-917A-54022B91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E64-1FF3-4F58-84E8-2C8B24D7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610C-3779-4CEA-B1EB-F343F85F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832-BFE1-4423-A5E8-7E9C7B2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C8D8-7634-4AFF-B132-0D64895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187-2C29-44B6-940F-07288CD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EF3-424B-42E6-AF46-9DDB8F2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09C-65A3-49F6-9345-EDA3358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AB3-AEFF-43D1-96C9-14B8078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837-6790-429F-93B0-D347BDB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6C5B-3380-4F31-A6F1-0F01F0F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5389-0E3A-4787-B0F8-99E7AD4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1CA-1670-4AAE-86EB-DD9C8B1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4D01-923C-41AA-8EDE-0DCCF5A8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D23C-43AA-4847-8229-D338A5B9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E7F-4F00-4C9C-89C9-4E57E051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008-AEBE-4C2C-8E87-10345E4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4B0-CDDF-4397-B5EB-48A0634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FEE-255F-4C82-976A-1186FB4C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074-6064-4767-B865-6C3A1F76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361-6514-45EC-919A-5DA5877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E2A-46E7-4A39-AF4C-B5D478B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100-1857-43EB-8A08-02A3BB4D71C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63C9-2F5A-4B19-AA3C-C8BD36E6EA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56E-2713-4480-A79B-71DD79021116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8467-7F6B-4B9D-9A2E-093242814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88000" y="587700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Copperplate Gothic Bold"/>
              </a:rPr>
              <a:t>ICHOLA RIHANATH OLGA</a:t>
            </a:r>
            <a:br>
              <a:rPr sz="1400"/>
            </a:br>
            <a:r>
              <a:rPr b="1" lang="fr-FR" sz="1400" spc="-1" strike="noStrike">
                <a:solidFill>
                  <a:srgbClr val="3366cc"/>
                </a:solidFill>
                <a:latin typeface="Copperplate Gothic Bold"/>
              </a:rPr>
              <a:t>GESTIONNAIRE CHM BENIN</a:t>
            </a:r>
            <a:br>
              <a:rPr sz="1400"/>
            </a:b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icholarihane@yahoo.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Rockwell Extra Bold"/>
              </a:rPr>
              <a:t>ATELIER DE REFLEXION POUR L’IDENTIFICATION D’UNE STRATEGIE POUR LA PERIODE 2008-201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71640" y="1915920"/>
            <a:ext cx="73454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Développement  récent  du CHM Bénin au niveau n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Persp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urer le CHM au niveau 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ynamiser la collaboration avec les partenaires évent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ulgariser et mieux faire connaitre le CHM au niveau des dépar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hercher un  financement afin de mieux effectuer les activités relatives au CHM (organisation d’ateliers, collecte et capitalisation des donné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85A-3223-40DD-B79D-7C1ABED919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EBF7B-BB34-4CF5-A2AC-A77881B75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erci pour votre atten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718-0A9C-4F47-97DA-2888AB383E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1673C-C3E1-416C-B4F9-CCC6F6B05C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9680" y="231480"/>
            <a:ext cx="63406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Rockwell Extra Bold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561672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R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Réalis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Atouts pour le C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Difficul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Persp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784-0AAB-4B23-9AEF-18618A8D92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976FF-148F-4623-AECC-BF41A14B72E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4573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Rockwell Extra Bold"/>
              </a:rPr>
              <a:t>RAPPEL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1889280"/>
            <a:ext cx="734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Rockwell Extra Bold"/>
              </a:rPr>
              <a:t>Partenariat existant avec le Point Focal National Belge de la Convention sur la diversité biologiqu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ckwell Extra Bold"/>
              </a:rPr>
              <a:t>occasion pour présenter  nos remerciements pour cette coopé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Rockwell Extra Bold"/>
              </a:rPr>
              <a:t>Formation des gestionnaires (d’un collègue qui a été affecté à une autre direction; de moi-même  en 2004 à Bruxelles et deux autres collègues à Ouagadougou en janvier 200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829-094D-4A5F-AA0F-EABCD938BE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A7CB-B539-4736-BCFA-546B6619219A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188640"/>
            <a:ext cx="6173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Rockwell Extra Bold"/>
              </a:rPr>
              <a:t>REALIS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pperplate Gothic Bold"/>
              </a:rPr>
              <a:t>Formation et recyclage des points focaux nationaux sur l’environnement  sur la  création du site  WEB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pperplate Gothic Bold"/>
              </a:rPr>
              <a:t>Étude d’une synergie entre les conventions sur l’environnemen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pperplate Gothic Bold"/>
              </a:rPr>
              <a:t>Collaboration avec les gestionnaires de sites existants à savoir SISEI, site web du mepn, re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1C8-8FD5-46BC-A1B9-143FEA15E3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A0141-39C5-4AAE-B51D-18CE58257C5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Rockwell Extra Bold"/>
              </a:rPr>
              <a:t>REALIS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Extra Bold"/>
              </a:rPr>
              <a:t>Présentation d’un projet de sensibilisation du Lamantin de l’Afrique de l’Ouest qui a été rejeté pour complément d’inform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Extra Bold"/>
              </a:rPr>
              <a:t>Sensibilisation du public par rapport au C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Extra Bold"/>
              </a:rPr>
              <a:t>Mise à jour du site du Bénin en utilisant le PT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493-21EE-4C72-8629-9194EB76D5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D06CD-DF67-4C73-9E9B-C71A5F0DC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Rockwell Extra Bold"/>
              </a:rPr>
              <a:t>REALIS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age des collaborateurs du CHM sur l’utilisation du PT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804-209F-4470-8A38-4D216E5D4E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25097-25B3-4EA9-A06B-1031479C6A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836640"/>
            <a:ext cx="287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Rockwell Extra Bold"/>
              </a:rPr>
              <a:t>ATOU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Existence d’un centre provisoire pour le C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Existence de matériels informa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Connexion ADSL au ME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Existence d’un service informatique au niveau du ME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13E-9B2D-404C-9C1D-24B3154A1B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A75C9-8A11-4452-B68E-FA341134013C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7361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Rockwell Extra Bold"/>
              </a:rPr>
              <a:t>Difficul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53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Problème de délestage de courant électrique du au problème que connaît la sous rég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Insuffisance de personn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Insuffisance de matériels informa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Pas de moyens pour mener des activités de sensibilisation du public de grande enverg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4BA-3811-4194-B655-86EF986656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1A555-D0C3-4C3A-AF02-0AB1B24B600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Rockwell Extra Bold"/>
              </a:rPr>
              <a:t>Difficulté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ion du CHM Bénin  afin d’en faire  le site web de préférence pour les informations sur la diversité biologiq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009-D7EE-4605-BD8B-C895F4548A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63202-F879-45EA-B723-FCA8CC0A85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9:51:25Z</dcterms:created>
  <dc:creator>ICHOLA</dc:creator>
  <dc:description/>
  <dc:language>en-US</dc:language>
  <cp:lastModifiedBy>areveillon</cp:lastModifiedBy>
  <dcterms:modified xsi:type="dcterms:W3CDTF">2007-05-02T14:08:38Z</dcterms:modified>
  <cp:revision>6</cp:revision>
  <dc:subject/>
  <dc:title>ATELIER DE REFLEXION POUR L’IDENTIFICATION D’UNE STRATEGIE POUR LA PERIODE 2008-2012</dc:title>
</cp:coreProperties>
</file>