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25FC21-A6D7-43F2-952F-7B2AF7FEB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D8D4-1F44-4F35-93B8-36647EA3C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103860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D101-7983-492D-960A-483D9E2B0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4CA7-72D8-4891-9F2B-9C79554D2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C1A5-262C-4039-B7C4-BA95CC43C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16575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61C5-F170-4908-936E-033151ED5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76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103860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76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9168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8336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4BE2-1513-483A-A5AA-F7E56F3F9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79CF-8B78-4361-B45D-EA1C97DBE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920C-2AAC-4D8C-A6DD-751E9CAD4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16575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EA3B-0D06-40DA-B215-F335DF26F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5484-1E37-49BA-A4D7-FB1FC81C6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AC68-EBDA-4167-BDBF-97CE1175C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490B-7E49-45B0-8172-6A167342A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916360" y="762120"/>
            <a:ext cx="622764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Click to edit the title text format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437920" y="9140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484000" y="6400800"/>
            <a:ext cx="6659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00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3300"/>
                </a:solidFill>
                <a:latin typeface="Arial Narrow"/>
              </a:rPr>
              <a:t>Évolution du CHM au niveau international dans le contexte de la cibl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237360"/>
            <a:ext cx="22096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Bruxelles, Belgique</a:t>
            </a:r>
            <a:br>
              <a:rPr sz="1200"/>
            </a:b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2 mai 2007 – Diapo </a:t>
            </a:r>
            <a:fld id="{4F2420A6-D64D-4774-9F78-395D4DF2F584}" type="slidenum">
              <a:rPr b="0" i="1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21150000">
            <a:off x="108000" y="112320"/>
            <a:ext cx="2087640" cy="11541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00"/>
                </a:solidFill>
                <a:latin typeface="Arial Narrow"/>
              </a:rPr>
              <a:t>Évolution du CHM </a:t>
            </a:r>
            <a:br>
              <a:rPr sz="1800"/>
            </a:br>
            <a:r>
              <a:rPr b="1" i="1" lang="fr-FR" sz="1800" spc="-1" strike="noStrike">
                <a:solidFill>
                  <a:srgbClr val="003300"/>
                </a:solidFill>
                <a:latin typeface="Arial Narrow"/>
              </a:rPr>
              <a:t> &amp; vision pour son</a:t>
            </a:r>
            <a:br>
              <a:rPr sz="1800"/>
            </a:br>
            <a:r>
              <a:rPr b="1" i="1" lang="fr-FR" sz="1800" spc="-1" strike="noStrike">
                <a:solidFill>
                  <a:srgbClr val="003300"/>
                </a:solidFill>
                <a:latin typeface="Arial Narrow"/>
              </a:rPr>
              <a:t>renforcem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8000" y="198900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1. Introduc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2. Évolu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3. Analys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4. Vis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5. Conclus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981080"/>
            <a:ext cx="2057400" cy="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1522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ff99"/>
                </a:solidFill>
                <a:latin typeface="Arial"/>
              </a:rPr>
              <a:t>Contenu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5589000"/>
            <a:ext cx="20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Centre </a:t>
            </a:r>
            <a:br>
              <a:rPr sz="1200"/>
            </a:b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d'Échange (CHM)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691920" cy="12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nvention sur la Diversité Biologiqu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entre d'Échang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8000" y="5661000"/>
            <a:ext cx="731880" cy="1339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2276640"/>
            <a:ext cx="7993080" cy="27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Évolution du Centre d'Échange (CHM)</a:t>
            </a:r>
            <a:br>
              <a:rPr sz="2800"/>
            </a:b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 et vision pour son renforcement </a:t>
            </a:r>
            <a:br>
              <a:rPr sz="2800"/>
            </a:b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dans le contexte de la cible 2010</a:t>
            </a:r>
            <a:br>
              <a:rPr sz="2800"/>
            </a:br>
            <a:br>
              <a:rPr sz="1400"/>
            </a:br>
            <a:r>
              <a:rPr b="1" i="1" lang="fr-FR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003300"/>
                </a:solidFill>
                <a:latin typeface="Arial"/>
              </a:rPr>
              <a:t>2 mai 2007 - Bruxelles, Belgique </a:t>
            </a:r>
            <a:br>
              <a:rPr sz="2000"/>
            </a:br>
            <a:br>
              <a:rPr sz="2000"/>
            </a:br>
            <a:r>
              <a:rPr b="0" i="1" lang="fr-FR" sz="2000" spc="-1" strike="noStrike">
                <a:solidFill>
                  <a:srgbClr val="003300"/>
                </a:solidFill>
                <a:latin typeface="Arial"/>
              </a:rPr>
              <a:t>Olivier de Munck - SCBD</a:t>
            </a:r>
            <a:endParaRPr b="1" i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15480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réflexion pour l'identification d'une stratégie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pour le partenariat CHM sur la période 2008-2012 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2-3 Mai 2007                                   Bruxelles, Belgique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ission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44360" y="1557000"/>
            <a:ext cx="6048360" cy="331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ntribuer significativement à la mise en œuvr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 la Convention sur la diversité biologique, 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à ses aires théamtiques et axes transversaux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t spécialement à la cible 2010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ar la promotion et facilitatio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 la coopération technique and scientifique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tre les Parties, et les autres Gouvernements et acteurs.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C8E7-D536-417C-8A4E-51AF1B92ED2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3 Objectifs Stratégiqu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00360" y="980640"/>
            <a:ext cx="62992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CHM promeut et facilite la coopération technique &amp; scientif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CHM promeut et facilite l'échange d'informations entre les Parties et les autres Gouvernements et acteu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CHM est pleinement opérationnel avec la participation de toutes les Parties et un réseau étendu de partenaires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AC29-814C-47A7-91C4-E6451595096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ise en œuvre renforcée de la Conven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00360" y="907920"/>
            <a:ext cx="612144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puis COP 8, phase de mise en œuvre renforcée de la Convention, appuyée par le Secrétaire Exécutif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décisions importantes ont été pris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objectifs ont été défini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'action doit être la prior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ugmenter les actions d'éducation et de sensibilis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tégrer la composante biodiversité dans la sensibilisation mondiale sur le changement clima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hème du 22 mai 2007: biodiversité et changement clima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courager la volonté poli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nforcer les capacités d'a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u niveau du Secrétari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u niveau nationa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u niveau des autres partenai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-57600" y="24066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F1F3-475A-4635-B249-8F87FDB17E3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Analyse du rôle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43280" y="765000"/>
            <a:ext cx="612144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ases de l'analy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vues indépendantes du CHM (1999 &amp; 2002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ynthèse des 3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 Narrow"/>
              </a:rPr>
              <a:t>èm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rapports nationaux pour le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rticles 17 (échange d'information) et 18 (coopération technique et scientifiqu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périence du Secrétari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mmentaires extérieu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ntexte actuel du CH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n stratég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ible 2010 et phase de mise en œuvre renforcé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volution technolog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bondance de sources d'inform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sources limitée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tant au Secrétariat qu'au niveau national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3F98-195A-464A-BFF3-02F40C375A63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i="1" lang="fr-FR" sz="2800" spc="-1" strike="noStrike" baseline="30000">
                <a:solidFill>
                  <a:srgbClr val="003300"/>
                </a:solidFill>
                <a:latin typeface="Arial Narrow"/>
              </a:rPr>
              <a:t>ère</a:t>
            </a: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 Revue indépendante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56000" y="980640"/>
            <a:ext cx="64087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uvrant la Phase Pilote 1996-199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apport (Octobre 1999 - 50 pag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 Cullbridge Marketing &amp; Communication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t LURA Consultin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EP/CBD/COP/5/INF/2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commandations principa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larifier le rôle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sséminer plus d'inform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ndre les informations plus accessi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épondre aux besoins en infrastructu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éparer un plan stratégique pour assurer la durabilité à long term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B447-D55A-4BCA-9ACE-71F42F7339A3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i="1" lang="fr-FR" sz="2800" spc="-1" strike="noStrike" baseline="30000">
                <a:solidFill>
                  <a:srgbClr val="003300"/>
                </a:solidFill>
                <a:latin typeface="Arial Narrow"/>
              </a:rPr>
              <a:t>ème</a:t>
            </a: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 Revue indépendante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0920" y="981000"/>
            <a:ext cx="64818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tre Octobre 2002 et Juillet 2003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apport détaillé (July 2003 - 118 pag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 UNEP-WCM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EP/CBD/COP/7/INF/12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commandations principa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ccroître la sensibilis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r le réseautage avec des partenaires spécialisés en biodivers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méliorer la gestion et l'organisation des structures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méliorer les contenus de site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r des mécanismes d'interopérabil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aciliter la coopér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ssurer le financement à long term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AA3E-FAE1-48BE-A2F0-8120AAACFA78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ynthèse des 3</a:t>
            </a:r>
            <a:r>
              <a:rPr b="1" i="1" lang="fr-FR" sz="2800" spc="-1" strike="noStrike" baseline="30000">
                <a:solidFill>
                  <a:srgbClr val="003300"/>
                </a:solidFill>
                <a:latin typeface="Arial Narrow"/>
              </a:rPr>
              <a:t>èmes</a:t>
            </a: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 Rapports Nationaux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10920" y="981000"/>
            <a:ext cx="64818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éthodologi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ffectuée par le Secrétari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ur base des rapports reçus et traités par l'Analyseu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 préparation de WGRI-2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ésultats principau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eaucoup d'échanges d'informations et d'initiatives de coopér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ouvent les même acteurs (grandes ONG, agences de coopération multi et bilatérales, ONU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elques pays sont leaders en matière de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ien entre le CHM et les initiatives de coopération est flou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imitations intrinsèques des rapports nationaux comme mécanisme de suivi de la mise en œuv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nque global de "feedback" sur les décisions et programmes de travai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D814-7D3E-4675-A4FA-D64AD25C03A6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Autres analys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71280" y="980640"/>
            <a:ext cx="61930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périence du Secrétaria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ultiplicité de systèmes (requêtes similaires dans les différentes aires thématiqu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sources humaines limitées mais responsabilités étendues (infrastructure informatique et gestion quotidienne du site web en plus du programme CHM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écessité d'une approche centrée sur la gestion de la connaissance ("knowledge management"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mmentaires extérieurs à propos du Secrétaria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larification de la vision et du rôle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te web et fonctionnalités à amélior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bsence d'un système global d'inform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blème de production et de gestion de contenu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esoin de renforcer le réseau CHM et de le rendre plus viva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1D04-4387-4E2A-B545-462CF3096B34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Vision pour un rôle renforcé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27280" y="1125360"/>
            <a:ext cx="651672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Vision du renforc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te web du Secrétari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rtail central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M Nationau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opération et partenaria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pproche pragmat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cision de haut niveau (stratégie national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tructure institutionnelle approprié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sources humaines disponi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n de travai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-57600" y="29322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C5E8-8095-4830-A9B4-B1FC22E75AB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ite web du Secrétariat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43280" y="980640"/>
            <a:ext cx="612144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 pleine restructu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ww.cbd.int (lancement le 22 mai 2007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ew look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ccent sur la convivial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tructuration des menu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ravail en cours qui continuera après le 22 ma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esoin de ressources dédi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estionnaire à plein temp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fographis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raducteurs (français / espagnol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-57600" y="29322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9F87-A875-4749-BB9B-13ADC9EFE9DE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Objectif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58920" y="1341360"/>
            <a:ext cx="5762520" cy="36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sumer l'évolution du CH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Présenter une vision du CHM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ans le contexte de la cible 2010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Fournir des pistes de réflexion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pour le renforcement du CH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-57600" y="2117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4724280"/>
            <a:ext cx="630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DFA9-5CAD-4264-ACA0-950B6D6D9C9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Portail Central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84000" y="980640"/>
            <a:ext cx="66596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entre d'accès aux informations liées à la Convention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dentification et classification des sources d'inform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ystèmes en ligne facilitant la collaboration et la mise en œuvre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ystème de suivi des initiatives de mise en œuvre de la Convention utilisable par les Part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pproche cohérente de gestion de la connaissance ("knowledge management") pour éviter la multiplication de systèmes isolé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nforcer l'aspect "Clearing-House" en augmentant le nombre de contributeu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tenariats en vue d'établir des mécanismes d'interopérabilité pour automatiser les échanges d'inform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57600" y="29322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CA3D-E224-4DD7-930A-8B0B9546A141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HM Nationaux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27280" y="980640"/>
            <a:ext cx="633744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ôle multiple d'un CHM nationa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te-forme pour la sensibilis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entre de référence et de connaissan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formation sur le suivi de la mise en œuvre de la convention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commandation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mité interinstitutionnel de pilotag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tructure durable de gestion de l'inform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sources humaines appropriée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bien établir les termes de référenc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nforcement du Réseau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tilisation d'un domaine commun chm-cbd.n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utils moderne d'échanges d'informations (blogs, flux RS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utils de renforcement des capacités (toolkit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-57600" y="29322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50F2-8272-4E8D-B5E5-B4606AEC4697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opération et partenariat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27280" y="1052640"/>
            <a:ext cx="6516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nforcer la coopé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ffort conjoint de collaboration (Secrétariat + Parties + autr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vaincre des Parties que le CHM est utile et importa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courager le partage de ressources &amp; d'expérien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opération Sud-Sud / Nœuds régionaux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 refocaliser sur la coopération technique et scientif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dapter le renforcement des capacités aux besoins des Parti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s d'approche unique pour tous (pas de "one-size-fit-all"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fférents besoins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Différentes approch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3C4F-66B4-4915-87F7-665921119EB7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Renforcement des capacités national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1050840"/>
            <a:ext cx="670572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dapter le renforcement des capacités aux besoi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411280" y="1628640"/>
          <a:ext cx="6481800" cy="3811680"/>
        </p:xfrm>
        <a:graphic>
          <a:graphicData uri="http://schemas.openxmlformats.org/drawingml/2006/table">
            <a:tbl>
              <a:tblPr/>
              <a:tblGrid>
                <a:gridCol w="736560"/>
                <a:gridCol w="2062440"/>
                <a:gridCol w="3682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Niveau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Situa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 de PFN CH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vaincre le pays de désigner un PFN CHM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FN CHM sous-équipé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uver des solutions afin d'avoir une  infrastructure de base pour communiqu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 de site web CHM nationa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urnir la formation et les outils requis pour établir une présence sur le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national présent sur le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méliorer le contenu web pour disséminer de l'information supportant la cible 2010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national complet et opérationne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courager le partage d'expériences pour développer d'autres CHM nationaux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avancé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Établir des mécanismes d'interopérabilité avec des réseaux sur la biodiversité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0520C-18C8-4F13-8E5D-80DEC60F13DF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Rôle potentiel du partenariat belg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27280" y="1125000"/>
            <a:ext cx="61214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ppui aux CHM Nationaux Africai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ppui personnalis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ormation et support techn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largissement de la gamme de services (depuis la stratégie de mise en place à la gestion de contenu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ynamisation du réseau CH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estion du réseau Africai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commandations pour le maintien d'une cohérence globale tout en maintenant la diversité nationa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iaison avec SCBD et autres partenair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tilisations d'outils et standards commu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ment de synerg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ise en place de mécanisme de coopération Sud-Su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-57600" y="29322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CEA7-8CCD-4BBC-9845-378F891BCABF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nclus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43280" y="980640"/>
            <a:ext cx="612144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ref résumé de l'évolution du CH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Histor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tu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ible 2010 et mise en œuvre renforcé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Vision pour le renforcement du CH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HM doit jouer pleinement son rôle de facilitateur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dées et pistes de réflexions comme base de discuss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uverture à tous commentaires et proposi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'appui des Parties sera essentiel pour la mise en œuvre formelle (CHM-IAC, SBSTTA-12, WGRI-2 et COP-9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-57600" y="319896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A2E3-DA7B-463A-97FB-65C7530B551F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0920" y="2276280"/>
            <a:ext cx="7993080" cy="28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Évolution du Centre d'Échange (CHM)</a:t>
            </a:r>
            <a:br>
              <a:rPr sz="2800"/>
            </a:b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 au niveau international </a:t>
            </a:r>
            <a:br>
              <a:rPr sz="2800"/>
            </a:b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dans le contexte de la cible 2010</a:t>
            </a:r>
            <a:br>
              <a:rPr sz="2800"/>
            </a:br>
            <a:br>
              <a:rPr sz="1400"/>
            </a:br>
            <a:r>
              <a:rPr b="1" i="1" lang="fr-FR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003300"/>
                </a:solidFill>
                <a:latin typeface="Arial"/>
              </a:rPr>
              <a:t>2 mai 2007 - Bruxelles, Belgique </a:t>
            </a:r>
            <a:br>
              <a:rPr sz="2000"/>
            </a:br>
            <a:br>
              <a:rPr sz="1400"/>
            </a:br>
            <a:r>
              <a:rPr b="0" i="1" lang="fr-FR" sz="2000" spc="-1" strike="noStrike">
                <a:solidFill>
                  <a:srgbClr val="003300"/>
                </a:solidFill>
                <a:latin typeface="Arial"/>
              </a:rPr>
              <a:t>Olivier de Munck - SCBD</a:t>
            </a:r>
            <a:br>
              <a:rPr sz="2000"/>
            </a:br>
            <a:r>
              <a:rPr b="0" i="1" lang="fr-FR" sz="2000" spc="-1" strike="noStrike">
                <a:solidFill>
                  <a:srgbClr val="003300"/>
                </a:solidFill>
                <a:latin typeface="Arial"/>
              </a:rPr>
              <a:t> olivier.demunck@biodiv.org</a:t>
            </a:r>
            <a:endParaRPr b="1" i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15480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réflexion pour l'identification d'une stratégie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pour le partenariat CHM sur la période 2008-2012 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2-3 Mai 2007                                   Bruxelles, Belgique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ntenu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3456000" y="141120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1. Introdu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56000" y="217980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2. Évolu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56000" y="297180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3. Analy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56000" y="376380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4. Vis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455616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5. Conclus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-57600" y="2117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5AD3-C651-4E0B-A526-006E4BCF0AD2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tablissement du Centre d'Échange (CHM)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40000" y="1052280"/>
            <a:ext cx="68040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tabli part l'Art. 18.3  - Coopération technique &amp; scientif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Arial Narrow"/>
              </a:rPr>
              <a:t>La </a:t>
            </a:r>
            <a:r>
              <a:rPr b="1" i="1" lang="fr-FR" sz="1800" spc="-1" strike="noStrike">
                <a:solidFill>
                  <a:srgbClr val="000000"/>
                </a:solidFill>
                <a:latin typeface="Arial Narrow"/>
              </a:rPr>
              <a:t>COP, lors de sa  première réunion, déterminera </a:t>
            </a:r>
            <a:br>
              <a:rPr sz="1800"/>
            </a:br>
            <a:r>
              <a:rPr b="1" i="1" lang="fr-FR" sz="1800" spc="-1" strike="noStrike">
                <a:solidFill>
                  <a:srgbClr val="000000"/>
                </a:solidFill>
                <a:latin typeface="Arial Narrow"/>
              </a:rPr>
              <a:t>comment établir un centre d'échange pour promouvoir </a:t>
            </a:r>
            <a:br>
              <a:rPr sz="1800"/>
            </a:br>
            <a:r>
              <a:rPr b="1" i="1" lang="fr-FR" sz="1800" spc="-1" strike="noStrike">
                <a:solidFill>
                  <a:srgbClr val="000000"/>
                </a:solidFill>
                <a:latin typeface="Arial Narrow"/>
              </a:rPr>
              <a:t>et faciliter la coopération technique et scientif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cisions de la COP sur le CH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/3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tablissement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I/3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hase pilote &amp; PFN CHM (avant Fév. 1996!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II/4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rectives techniques, financières &amp; CHM-IA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V/2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rectives techniques, financière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t demande de rev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/14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n stratégique CHM &amp; Prog. de travail à long-term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I/18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rectives techniques &amp; demande de 2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Rev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II/23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rectives techniques &amp; Procédures CHM-IA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III/11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n stratégique 2005-2010 e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gramme de travai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1413000"/>
            <a:ext cx="5760720" cy="100800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F97A-24F9-4CBF-9FD0-F88EA878467D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Vision initiale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1280" y="980640"/>
            <a:ext cx="65534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acilitation de la coopération scientifique et technique en faveur des pays en développ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change d'expertise, d'études, de résultats de recherch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ransfert de technologi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ccès et partage des bénéfices émanant des ressources génétique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e d'opé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cept de "Clearing-House" inspiré des transactions boursières, mais appliqué aux inform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écanisme décentralisé permettant des contributions de la part de tous les partenai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ource globale d'informations liées à la Conven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-57600" y="24066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3DBB-32F5-4D45-BD65-2D55F96D21A7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volution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68000" y="1125360"/>
            <a:ext cx="687564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mplémentation guidée par les Décisions de la C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stitution d'un comité consultatif informel (CHM-IAC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laboration de plan stratégique et programme de travai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signation de points focaux nationaux pour le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ment de centres d'échanges nationau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 prat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ôle prépondérant du site web du Secrétariat comme système de dissémination d'informations et de bases de données en lign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études de cas, experts, décisions, rapports nationaux,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ment progressif de sites web nationau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ctivités habilitantes du Fonds pour l'Environnement Mondia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opération Nord-Sud (exemple du partenariat belg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-57600" y="24066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C01C-FDDA-42B4-9D0F-65F9F86EC07A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La Cible 2010 sur la biodiversité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71640" y="1125000"/>
            <a:ext cx="6121440" cy="273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txBody>
          <a:bodyPr lIns="92160" rIns="129600" tIns="46080" bIns="46080" anchor="t">
            <a:normAutofit fontScale="90000"/>
          </a:bodyPr>
          <a:p>
            <a:pPr marL="342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Atteindre d'ici 2010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une réduction significativ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u taux actuel de perte de biodiversité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aux niveaux global, régional et national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n tant que contribu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à la lutte contre la pauvreté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t en faveur de la vie sur terr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4292640"/>
            <a:ext cx="640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cision VI/26 sur le Plan Stratégique de la Conven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pprouvé par les chefs d'états au Sommet Mondial sur le Développement Durable à Johannesburg (Rio+10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formulation des articles de la Convention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 termes d'objectif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ible ambitieuse encourageant la mise en œuv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601F-E612-461D-BB22-5D472C3F97A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La Cible 2010 - Objectif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1280" y="836280"/>
            <a:ext cx="673272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a conservation de la diversité biologique des écosystèmes, habitats and biom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a conservation de la diversité des espè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a conservation de la diversité géné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'utilisation et la consommation durab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éduction des pressions dues à la perte d'habitat, à l'utilisation de la terre, à la consommation d'eau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trôle des menaces des espèces envahissant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lève des défis posés à la biodiversité par le changement climatique et la pollution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intenir la capacité des écosystèmes à fournir les biens et services de support à la vi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intenir la diversité socioculturelle des communautés indigènes et locale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ssurer le partage juste et équitable des bénéfices provenant de l'utilisation des ressources génétiq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84080" indent="-3358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mélioration par les Parties des capacités financières, humaines, scientifiques, techniques and technologiques pour mettre en œuvre la Conven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-57600" y="237024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5805360"/>
            <a:ext cx="6335640" cy="8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67AB-6888-419C-8E9F-8CEA79268B6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Plan Stratégique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16000" y="980640"/>
            <a:ext cx="622764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cision VII/23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roupe de travail sur la revue de la mise en œuvr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WGRI-1 septembre 2005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pprouvé par la Décision VIII/1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lan stratégique actualisé (2005-2010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s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bjectifs stratégiq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gramme de travai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7E59-2789-4844-8ACA-18A04571AC0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Olivier de Munck (SCBD)</dc:creator>
  <dc:description>CHM Side Event, 27 March 2006, Curitiba, Brazil</dc:description>
  <cp:keywords>UNEP SCBD Biodiversity CHM</cp:keywords>
  <dc:language>en-US</dc:language>
  <cp:lastModifiedBy>Olivier de Munck</cp:lastModifiedBy>
  <cp:lastPrinted>1999-06-04T16:09:15Z</cp:lastPrinted>
  <dcterms:modified xsi:type="dcterms:W3CDTF">2007-05-02T01:53:07Z</dcterms:modified>
  <cp:revision>1224</cp:revision>
  <dc:subject>CHM</dc:subject>
  <dc:title>Strategies for Developing National CHM</dc:title>
</cp:coreProperties>
</file>