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9748838" cy="6850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748800" cy="68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535720" y="0"/>
            <a:ext cx="4192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085920" y="533160"/>
            <a:ext cx="363204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64771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A999-9C9D-4F6E-AB20-EF4FD14AF90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04E0-F30E-43F4-A5B6-98111CFF293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F15A-72A4-4441-86B3-97E265EDD8B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 (CHM) sous la Convention sur la 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0666-7D16-487B-AD0E-474C82372CB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1709-DA2A-4244-B001-A3C5573CF49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7E94-B0AD-4A1C-83D9-566AA91AAE0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70B1-B6E7-4D5E-B8AD-594703A1EC7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4B94-E861-45C7-BA7B-43B1A860C32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ED43-2573-4E02-A825-A19A20AA766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B135-D9F1-4A69-B30F-3241B76AD2C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DC1-C976-4BE4-A3B9-27ED4E3A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8A9-DE98-49ED-AFBE-708B2347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89C0-F303-4A90-A9DC-6AD08F13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792-13D3-46CB-B13D-3956C1D9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E8CD-B54D-4DBB-92FD-760B2546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601-E696-4CCA-9F98-86548FF5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726-8792-4EFB-84CA-3FAE8C06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FAE-3C12-46BB-987C-0BE32527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C44-0804-40CF-83DD-837B90AA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979-76AB-47E7-97DD-5194953E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FFD-8F9F-4A65-B9E3-D2CD5A4F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22B-59FE-4411-AA21-6F5DDDB3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BE" sz="1200" spc="-1" strike="noStrike">
                <a:solidFill>
                  <a:srgbClr val="00006a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Formation sous-régiona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5 mars 2007, Rab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4CD2-7AC3-4F37-AAB4-EF8AEFC1EA4B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4" descr="pfn-111-transparent_bg"/>
          <p:cNvPicPr/>
          <p:nvPr/>
        </p:nvPicPr>
        <p:blipFill>
          <a:blip r:embed="rId2"/>
          <a:stretch/>
        </p:blipFill>
        <p:spPr>
          <a:xfrm>
            <a:off x="250920" y="6176880"/>
            <a:ext cx="565200" cy="565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5" descr="logochm-petit"/>
          <p:cNvPicPr/>
          <p:nvPr/>
        </p:nvPicPr>
        <p:blipFill>
          <a:blip r:embed="rId3"/>
          <a:stretch/>
        </p:blipFill>
        <p:spPr>
          <a:xfrm>
            <a:off x="9201240" y="6093000"/>
            <a:ext cx="498240" cy="61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Partnership meeting 201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a"/>
                </a:solidFill>
                <a:latin typeface="Tahoma"/>
              </a:rPr>
              <a:t>Buéa, Camer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749320" y="1285920"/>
            <a:ext cx="45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Belgium CHM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390760" y="3575160"/>
            <a:ext cx="512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By: Han de Koeijer and Marie –Lucie Susini; </a:t>
            </a:r>
            <a:br>
              <a:rPr sz="1800"/>
            </a:br>
            <a:r>
              <a:rPr b="1" i="1" lang="fr-BE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Royal Belgian Institute of Natural Sciences, </a:t>
            </a:r>
            <a:br>
              <a:rPr sz="1800"/>
            </a:br>
            <a:r>
              <a:rPr b="1" i="1" lang="fr-BE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Belgian Focal point for the CBD and the CHM, </a:t>
            </a:r>
            <a:br>
              <a:rPr sz="1800"/>
            </a:br>
            <a:r>
              <a:rPr b="1" i="1" lang="fr-BE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Rue Vautier, 1000 Brussels, Belg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Partnership meeting 201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a"/>
                </a:solidFill>
                <a:latin typeface="Tahoma"/>
              </a:rPr>
              <a:t>Buéa, Camer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2"/>
          <p:cNvSpPr/>
          <p:nvPr/>
        </p:nvSpPr>
        <p:spPr>
          <a:xfrm>
            <a:off x="4147560" y="60480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3"/>
          <p:cNvSpPr/>
          <p:nvPr/>
        </p:nvSpPr>
        <p:spPr>
          <a:xfrm>
            <a:off x="1066680" y="1812960"/>
            <a:ext cx="777744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d2db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   </a:t>
            </a:r>
            <a:r>
              <a:rPr b="1" lang="fr-BE" sz="24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Start of the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2003-2013: First 5-year pro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2014-2018: New 5-year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artner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Partnership meeting 201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a"/>
                </a:solidFill>
                <a:latin typeface="Tahoma"/>
              </a:rPr>
              <a:t>Buéa, Camer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651680" y="549360"/>
            <a:ext cx="66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Start of the partnership progra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063800" y="1700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1998 : demand from DR Congo to develop and host their CHM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1999 : Chad requested training to develop C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2000 – 2003: Demands from several countries for hosting and training C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apacity building was done through 1 year programmes with Be development 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Partnership meeting 201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a"/>
                </a:solidFill>
                <a:latin typeface="Tahoma"/>
              </a:rPr>
              <a:t>Buéa, Camer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3756240" y="60948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2003 - 20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025640" y="1844640"/>
            <a:ext cx="77770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2003 : first 5 year programme between RBINS and DG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apacity building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</a:rPr>
              <a:t>Global Taxonomy Initiative (G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Training in Belg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Rei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nstitutional strength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Partnership meeting 201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a"/>
                </a:solidFill>
                <a:latin typeface="Tahoma"/>
              </a:rPr>
              <a:t>Buéa, Camer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756240" y="60948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2003 - 20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025640" y="1341360"/>
            <a:ext cx="77770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2008 : Second 5 year programme between RBINS and DG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apacity building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</a:rPr>
              <a:t>Global Taxonomy Initiative (G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</a:rPr>
              <a:t>Monitoring of habi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Training in Belgium and in-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Reinforcement (proje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nstitutional strengthening (INECN, Burund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ublic awareness (proje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Partnership meeting 201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a"/>
                </a:solidFill>
                <a:latin typeface="Tahoma"/>
              </a:rPr>
              <a:t>Buéa, Camer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955680" y="62064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2014-20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025640" y="1413000"/>
            <a:ext cx="7777080" cy="58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pril 2014: 5 year programme between RBINS and DG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apacity building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</a:rPr>
              <a:t>Scientific experti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c3bb2"/>
                </a:solidFill>
                <a:latin typeface="Arial Rounded MT Bold"/>
              </a:rPr>
              <a:t>Global Taxonomy Initiative (G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c3bb2"/>
                </a:solidFill>
                <a:latin typeface="Arial Rounded MT Bold"/>
              </a:rPr>
              <a:t>Monitoring of habi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nformation exchange/f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Training in Belgium and in-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Reinforcement (proje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nstitutional strengthening (INECN, Burund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ubic aware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Baselin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wareness development (proje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Partnership meeting 201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a"/>
                </a:solidFill>
                <a:latin typeface="Tahoma"/>
              </a:rPr>
              <a:t>Buéa, Camer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955680" y="62064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2014-20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025640" y="1413000"/>
            <a:ext cx="777708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New element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Measurement, Reporting and verification (MR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Nagoya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wareness raising (Be main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Training in ABS-CH (through CHM objecti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…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Partnership meeting 201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a"/>
                </a:solidFill>
                <a:latin typeface="Tahoma"/>
              </a:rPr>
              <a:t>Buéa, Camer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997720" y="519120"/>
            <a:ext cx="33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artn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025640" y="1413000"/>
            <a:ext cx="7777080" cy="58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fficial countries for bilateral cooperation from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untries members of regional cooperation organis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ECO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East African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Great L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ther countries : through South-South cooperation assist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c3bb2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125280"/>
            <a:ext cx="9906120" cy="6607440"/>
          </a:xfrm>
          <a:prstGeom prst="rect">
            <a:avLst/>
          </a:prstGeom>
          <a:ln w="0">
            <a:noFill/>
          </a:ln>
        </p:spPr>
      </p:pic>
      <p:sp>
        <p:nvSpPr>
          <p:cNvPr id="75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Partnership meeting 201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a"/>
                </a:solidFill>
                <a:latin typeface="Tahoma"/>
              </a:rPr>
              <a:t>Buéa, Camer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2514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0c3bb2"/>
                </a:solidFill>
                <a:latin typeface="Arial Rounded MT Bold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4:40:20Z</dcterms:created>
  <dc:creator>Han de Koeijer</dc:creator>
  <dc:description/>
  <dc:language>en-US</dc:language>
  <cp:lastModifiedBy>Han De Koeijer</cp:lastModifiedBy>
  <dcterms:modified xsi:type="dcterms:W3CDTF">2014-05-04T22:30:57Z</dcterms:modified>
  <cp:revision>146</cp:revision>
  <dc:subject/>
  <dc:title>PowerPoint Presentation</dc:title>
</cp:coreProperties>
</file>