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D8E-9FB7-4386-8F81-8969BABB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9E2-1169-4C04-8E9A-DAE28F72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A7B-CDA7-4B23-9686-48946E46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C5D-B00A-41A1-A130-62DF886D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92B6-A841-43FC-8EA0-9F8C6A02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746-8A3B-4E24-93CE-F3043774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65E-F46A-4417-993A-0D796116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50E-62C5-4060-996C-1A298EFC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8E4-C002-483F-B918-392F5FCB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B689-5A07-4C3D-A438-79980530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484-BD53-4EF7-A913-A2FD7822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9D6-19FC-4004-A960-44F79CCC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E758-D0CD-445A-A920-B12DDDB5C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ESENTATION ON GHANA BIODIVERSITY CLEARING HOUSE MECHANISM (CHM)  AT TH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FRICA REGIONAL CHM TRAINING WORKSHOP, BUEA CAMEROUN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RIC AMANING OKO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ITUTIONAL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200400" y="2286000"/>
            <a:ext cx="2362320" cy="68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MES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581280" y="3581280"/>
            <a:ext cx="152424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NB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wn Arrow 13"/>
          <p:cNvSpPr/>
          <p:nvPr/>
        </p:nvSpPr>
        <p:spPr>
          <a:xfrm>
            <a:off x="4343400" y="2971800"/>
            <a:ext cx="76320" cy="6858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380880" y="4724280"/>
            <a:ext cx="8305920" cy="53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wn Arrow 15"/>
          <p:cNvSpPr/>
          <p:nvPr/>
        </p:nvSpPr>
        <p:spPr>
          <a:xfrm>
            <a:off x="4343400" y="4038480"/>
            <a:ext cx="122400" cy="685800"/>
          </a:xfrm>
          <a:prstGeom prst="downArrow">
            <a:avLst>
              <a:gd name="adj1" fmla="val 50000"/>
              <a:gd name="adj2" fmla="val 499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6"/>
          <p:cNvSpPr/>
          <p:nvPr/>
        </p:nvSpPr>
        <p:spPr>
          <a:xfrm>
            <a:off x="304920" y="6019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2209680" y="6019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FN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9"/>
          <p:cNvSpPr/>
          <p:nvPr/>
        </p:nvSpPr>
        <p:spPr>
          <a:xfrm flipH="1">
            <a:off x="3733200" y="6019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0"/>
          <p:cNvSpPr/>
          <p:nvPr/>
        </p:nvSpPr>
        <p:spPr>
          <a:xfrm>
            <a:off x="5257800" y="6019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678168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own Arrow 22"/>
          <p:cNvSpPr/>
          <p:nvPr/>
        </p:nvSpPr>
        <p:spPr>
          <a:xfrm>
            <a:off x="838080" y="5257800"/>
            <a:ext cx="46080" cy="762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own Arrow 23"/>
          <p:cNvSpPr/>
          <p:nvPr/>
        </p:nvSpPr>
        <p:spPr>
          <a:xfrm>
            <a:off x="2743200" y="5257800"/>
            <a:ext cx="46080" cy="762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wn Arrow 24"/>
          <p:cNvSpPr/>
          <p:nvPr/>
        </p:nvSpPr>
        <p:spPr>
          <a:xfrm>
            <a:off x="4343400" y="5334120"/>
            <a:ext cx="46080" cy="76176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wn Arrow 25"/>
          <p:cNvSpPr/>
          <p:nvPr/>
        </p:nvSpPr>
        <p:spPr>
          <a:xfrm>
            <a:off x="5638680" y="5257800"/>
            <a:ext cx="76320" cy="838080"/>
          </a:xfrm>
          <a:prstGeom prst="downArrow">
            <a:avLst>
              <a:gd name="adj1" fmla="val 50000"/>
              <a:gd name="adj2" fmla="val 499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own Arrow 26"/>
          <p:cNvSpPr/>
          <p:nvPr/>
        </p:nvSpPr>
        <p:spPr>
          <a:xfrm>
            <a:off x="7543800" y="5257800"/>
            <a:ext cx="76320" cy="838080"/>
          </a:xfrm>
          <a:prstGeom prst="downArrow">
            <a:avLst>
              <a:gd name="adj1" fmla="val 50000"/>
              <a:gd name="adj2" fmla="val 499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CURRENT AVAILABLE CAPACITY TO DEVELOP AND MAINTAIN THE NATIONAL C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INCLUDE THE FOLLOW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BD DESK IN THE FOCAL POINT MINIS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M-NFP WITH ADEQUATE UNDERSDANDING OF THE ISS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I.T UNIT WITH ONE PERSONEL HAVING SOME UNDERSTANDING OF THE CH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TRAINED CONTRIBUTORS AVAILABLE IN THE COUNT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OPERATION WITH THE BELGIAN CH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INFORMATION SERVICES PROVIDED BY THE  NATIONAL CHM PROV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99036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vention on Biological Divers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iod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rrestrial Eco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quatic Eco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 analysis of Ghana’s Bio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and policy Frame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urce docu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echnical and Scientific Coope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ational collaborato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ternational cooperati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ternational NGO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iversities/Research Institu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unding agenc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CHALLENGES AND HOW WE ARE COPING WITH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dequate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active national contribu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 of pho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Calibri"/>
              </a:rPr>
              <a:t>STRATEGIC 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ffectively provide information on Ghana’s biodiversity and update the information through the contribution of the authorized users who are trained, committed and activ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The Major Issues and Solu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Strength – Cooperation with the Belgian C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Irregular upd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Lack of pho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Inadequate st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000000"/>
                </a:solidFill>
                <a:latin typeface="Calibri"/>
              </a:rPr>
              <a:t>HOW TO DEVELOP THE NATIONAL CHM EFFECTIVELY IN ORDER TO SUPPORT THE IMPLEMENTATION OF GHANA’S NBSA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inistry needs to provide adequate budget for the CH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should be a staff dedicated to the C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the need to retrain and strengthen the network of the national contribu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M-NFP to ensure regular upd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HOW IS THE FUTURE OF THE NATIONAL CHM BEING CONSIDERED IN THE PROCESS OF REVISING YOUR NBSAP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Target: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learing House Mechanism (CHM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 effectively collected (CHM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seminated and utiliz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ities: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uct capacity needs assessment and buil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acity for institutional representatives on CH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velop MOU with government and priv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stitutions on access to biodiversity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 the network for upload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o the CH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Calibri"/>
              </a:rPr>
              <a:t>COOPERATION AND SUP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        : Sharing of information hos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instit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        : Sharing of exper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: Technical financial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hana’s suppor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 i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experien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08:00:32Z</dcterms:created>
  <dc:creator>mr-okoree</dc:creator>
  <dc:description/>
  <dc:language>en-US</dc:language>
  <cp:lastModifiedBy>mr-okoree</cp:lastModifiedBy>
  <dcterms:modified xsi:type="dcterms:W3CDTF">2014-05-05T14:17:45Z</dcterms:modified>
  <cp:revision>25</cp:revision>
  <dc:subject/>
  <dc:title>PRESENTATION ON GHANA BIODIVERSITY CLEARING HOUSE MECHANISM (CHM) AFRICA REGIONAL CHM TRAINING WORKSHOP, BUEA CAMEROUN  ERIC AMANING OKOREE</dc:title>
</cp:coreProperties>
</file>