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854-10B8-44D4-B6DD-6CCC65E4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E03-D9AD-4A60-8102-F32A322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7D2-45FB-4F0F-843D-3792CCA2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C50-77FE-43DB-AED5-93D7B1EA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514-E958-45EB-B9C3-6DE89C75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C3F-7E13-428D-ADB9-54EDD5C6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414-78C9-4AAE-A1EA-9BE188E8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0BC-0860-43E2-9EC6-40F23842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D3E-1D04-47FF-8624-902F3AE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765-275E-4D4A-853D-BD7C0AC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9E9-79F3-490F-A9D0-5EE92CF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819-426D-4614-8C75-7DCF691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688C-D157-4B7F-BF88-0D35A53C2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Mounjo\Documents\CHM-Niger\Justificatifs-préparatifs-form_dec_2012\Form-17_20-12\Foto-17-12_12\IMG_0382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042920" y="1600200"/>
            <a:ext cx="806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ise en œuvre du projet: Sensibilisation des décideurs politiques 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es acteurs de la biodiversité sur le CHM Nig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nseillers en Développement Rural du PM (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embres de la Commission Technique sur la DB (55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irecteurs Centraux des services en charge de la DB (60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rlementaires de la Commission Environnement et DD (20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rtenaires Techniques et Financiers (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tudiants de l’Université de Niamey (+ 2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nseignants chercheurs (+ 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 1" descr="CNEDD Nouveau"/>
          <p:cNvPicPr/>
          <p:nvPr/>
        </p:nvPicPr>
        <p:blipFill>
          <a:blip r:embed="rId1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C:\Users\Mounjo\Desktop\JIB-2012\Logo-Plan-strategique.png"/>
          <p:cNvPicPr/>
          <p:nvPr/>
        </p:nvPicPr>
        <p:blipFill>
          <a:blip r:embed="rId2"/>
          <a:stretch/>
        </p:blipFill>
        <p:spPr>
          <a:xfrm>
            <a:off x="12600" y="1481040"/>
            <a:ext cx="917640" cy="360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"/>
          <p:cNvPicPr/>
          <p:nvPr/>
        </p:nvPicPr>
        <p:blipFill>
          <a:blip r:embed="rId3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ne.chm-cbd.net/portal_layout/left_logo.gif"/>
          <p:cNvPicPr/>
          <p:nvPr/>
        </p:nvPicPr>
        <p:blipFill>
          <a:blip r:embed="rId4"/>
          <a:stretch/>
        </p:blipFill>
        <p:spPr>
          <a:xfrm>
            <a:off x="3625920" y="0"/>
            <a:ext cx="1446120" cy="10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Mounjo\Desktop\left_logo.gif"/>
          <p:cNvPicPr/>
          <p:nvPr/>
        </p:nvPicPr>
        <p:blipFill>
          <a:blip r:embed="rId5"/>
          <a:stretch/>
        </p:blipFill>
        <p:spPr>
          <a:xfrm>
            <a:off x="8385120" y="44280"/>
            <a:ext cx="723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92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Suivi post-formation: 1 session en fin mars et 1 en juin 2013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 1" descr="CNEDD Nouveau"/>
          <p:cNvPicPr/>
          <p:nvPr/>
        </p:nvPicPr>
        <p:blipFill>
          <a:blip r:embed="rId1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C:\Users\Mounjo\Desktop\JIB-2012\Logo-Plan-strategique.png"/>
          <p:cNvPicPr/>
          <p:nvPr/>
        </p:nvPicPr>
        <p:blipFill>
          <a:blip r:embed="rId2"/>
          <a:stretch/>
        </p:blipFill>
        <p:spPr>
          <a:xfrm>
            <a:off x="12600" y="1481040"/>
            <a:ext cx="917640" cy="360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ne.chm-cbd.net/portal_layout/left_logo.gif"/>
          <p:cNvPicPr/>
          <p:nvPr/>
        </p:nvPicPr>
        <p:blipFill>
          <a:blip r:embed="rId4"/>
          <a:stretch/>
        </p:blipFill>
        <p:spPr>
          <a:xfrm>
            <a:off x="3625920" y="0"/>
            <a:ext cx="1446120" cy="10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Mounjo\Desktop\left_logo.gif"/>
          <p:cNvPicPr/>
          <p:nvPr/>
        </p:nvPicPr>
        <p:blipFill>
          <a:blip r:embed="rId5"/>
          <a:stretch/>
        </p:blipFill>
        <p:spPr>
          <a:xfrm>
            <a:off x="8385120" y="44280"/>
            <a:ext cx="723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00:20:35Z</dcterms:created>
  <dc:creator>Mounjo</dc:creator>
  <dc:description/>
  <dc:language>en-US</dc:language>
  <cp:lastModifiedBy>Mounjo</cp:lastModifiedBy>
  <dcterms:modified xsi:type="dcterms:W3CDTF">2013-03-12T09:41:42Z</dcterms:modified>
  <cp:revision>4</cp:revision>
  <dc:subject/>
  <dc:title>suivi post-formation: 1 session en fin mars et 1 en juin 2013  </dc:title>
</cp:coreProperties>
</file>