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FA31-765F-4AC3-AC75-1FE1CB1B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F206-3B40-4140-BBBE-C00CCFB1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9B2B-3F28-4666-BEC3-33BF4919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615-7320-4D45-85D8-AE97C022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04E-650A-4E18-94CD-544E73F9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8834-A009-4C26-9C72-3C550C68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834E-B03B-464E-98E8-2A47185B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16E-2970-412C-8BF6-63985001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5CB-B08D-4219-B6D8-71624115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F39-27A4-4589-81F2-5A53B783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925A-FEB4-4AF5-87BF-B929229C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B0F8-6258-4E4D-880B-43228402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D3F6-32BB-49C2-B4E5-349840C54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Présentation du CHM dans CNEDD Info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Elaboration d’un newsletter de la CTDB/CHM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Présentation du CHM à la semaine de la science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Présentation du CHM à la JIB édition 2012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Présentation du CHM au stand Niger à Hyderabad COP 11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age 1" descr="CNEDD Nouveau"/>
          <p:cNvPicPr/>
          <p:nvPr/>
        </p:nvPicPr>
        <p:blipFill>
          <a:blip r:embed="rId1"/>
          <a:stretch/>
        </p:blipFill>
        <p:spPr>
          <a:xfrm>
            <a:off x="0" y="0"/>
            <a:ext cx="878040" cy="855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C:\Users\Mounjo\Desktop\JIB-2012\Logo-Plan-strategique.png"/>
          <p:cNvPicPr/>
          <p:nvPr/>
        </p:nvPicPr>
        <p:blipFill>
          <a:blip r:embed="rId2"/>
          <a:stretch/>
        </p:blipFill>
        <p:spPr>
          <a:xfrm>
            <a:off x="12600" y="1481040"/>
            <a:ext cx="917640" cy="360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"/>
          <p:cNvPicPr/>
          <p:nvPr/>
        </p:nvPicPr>
        <p:blipFill>
          <a:blip r:embed="rId3"/>
          <a:stretch/>
        </p:blipFill>
        <p:spPr>
          <a:xfrm>
            <a:off x="14400" y="5081760"/>
            <a:ext cx="971280" cy="1776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ne.chm-cbd.net/portal_layout/left_logo.gif"/>
          <p:cNvPicPr/>
          <p:nvPr/>
        </p:nvPicPr>
        <p:blipFill>
          <a:blip r:embed="rId4"/>
          <a:stretch/>
        </p:blipFill>
        <p:spPr>
          <a:xfrm>
            <a:off x="3625920" y="0"/>
            <a:ext cx="1446120" cy="1044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Users\Mounjo\Desktop\left_logo.gif"/>
          <p:cNvPicPr/>
          <p:nvPr/>
        </p:nvPicPr>
        <p:blipFill>
          <a:blip r:embed="rId5"/>
          <a:stretch/>
        </p:blipFill>
        <p:spPr>
          <a:xfrm>
            <a:off x="8385120" y="44280"/>
            <a:ext cx="7239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00:06:55Z</dcterms:created>
  <dc:creator>Mounjo</dc:creator>
  <dc:description/>
  <dc:language>en-US</dc:language>
  <cp:lastModifiedBy>Mounjo</cp:lastModifiedBy>
  <dcterms:modified xsi:type="dcterms:W3CDTF">2013-03-11T00:32:33Z</dcterms:modified>
  <cp:revision>2</cp:revision>
  <dc:subject/>
  <dc:title>Présentation du CHM dans CNEDD Info Elaboration d’un newsletter de la CTDB/CHM Présentation du CHM à la semaine de la science Présentation du CHM à la JIB édition 2012 Présentation du CHM au stand Niger à Hyderabad COP 11 </dc:title>
</cp:coreProperties>
</file>