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33A5-8336-47F4-94D2-E228A12C0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9196-7417-4FC3-B70E-007AFD540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8E25-8496-4DED-AE8D-B65C552B7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28D9-F5DE-4793-BB11-075F7D7EF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37FE-7650-4065-AF8A-3E49AC1D2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D52F-8CCE-4C21-A612-2EC493F95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75C1-55A6-45C0-8C65-8B6A0A0BB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EE42-0E78-46F7-B635-AFD003C9B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2122-8414-435F-AA36-E6EDCCD65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3D6A-13A3-469D-A638-F96AAAD9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7552-12CB-4027-8D0D-850536AF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2A55-CE19-411D-A0E1-CF68621F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2E3D-E466-4DF7-A205-D963F96F2F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gi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9232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Arial"/>
                <a:ea typeface="Arial"/>
              </a:rPr>
              <a:t>Fonds NBSAPs pour le suivi de leur mise en œuvre par le CHM</a:t>
            </a:r>
            <a:br>
              <a:rPr sz="2100"/>
            </a:br>
            <a:r>
              <a:rPr b="0" lang="fr-FR" sz="2100" spc="-1" strike="noStrike">
                <a:solidFill>
                  <a:srgbClr val="000000"/>
                </a:solidFill>
                <a:latin typeface="Arial"/>
                <a:ea typeface="Arial"/>
              </a:rPr>
              <a:t>Mobilisation des fonds PNUD Niger à travers les PTA 2013</a:t>
            </a:r>
            <a:br>
              <a:rPr sz="2100"/>
            </a:br>
            <a:r>
              <a:rPr b="0" lang="fr-FR" sz="2100" spc="-1" strike="noStrike">
                <a:solidFill>
                  <a:srgbClr val="000000"/>
                </a:solidFill>
                <a:latin typeface="Arial"/>
                <a:ea typeface="Arial"/>
              </a:rPr>
              <a:t>Inscription au budget national d’une ligne CHM</a:t>
            </a:r>
            <a:br>
              <a:rPr sz="2100"/>
            </a:br>
            <a:r>
              <a:rPr b="0" lang="fr-FR" sz="2100" spc="-1" strike="noStrike">
                <a:solidFill>
                  <a:srgbClr val="000000"/>
                </a:solidFill>
                <a:latin typeface="Arial"/>
                <a:ea typeface="Arial"/>
              </a:rPr>
              <a:t>Fonds SGP GEF mise en œuvre APA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Image 1" descr="CNEDD Nouveau"/>
          <p:cNvPicPr/>
          <p:nvPr/>
        </p:nvPicPr>
        <p:blipFill>
          <a:blip r:embed="rId1"/>
          <a:stretch/>
        </p:blipFill>
        <p:spPr>
          <a:xfrm>
            <a:off x="0" y="0"/>
            <a:ext cx="878040" cy="8557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C:\Users\Mounjo\Desktop\JIB-2012\Logo-Plan-strategique.png"/>
          <p:cNvPicPr/>
          <p:nvPr/>
        </p:nvPicPr>
        <p:blipFill>
          <a:blip r:embed="rId2"/>
          <a:stretch/>
        </p:blipFill>
        <p:spPr>
          <a:xfrm>
            <a:off x="12600" y="1481040"/>
            <a:ext cx="917640" cy="3600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6" descr=""/>
          <p:cNvPicPr/>
          <p:nvPr/>
        </p:nvPicPr>
        <p:blipFill>
          <a:blip r:embed="rId3"/>
          <a:stretch/>
        </p:blipFill>
        <p:spPr>
          <a:xfrm>
            <a:off x="14400" y="5081760"/>
            <a:ext cx="971280" cy="1776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http://ne.chm-cbd.net/portal_layout/left_logo.gif"/>
          <p:cNvPicPr/>
          <p:nvPr/>
        </p:nvPicPr>
        <p:blipFill>
          <a:blip r:embed="rId4"/>
          <a:stretch/>
        </p:blipFill>
        <p:spPr>
          <a:xfrm>
            <a:off x="3625920" y="0"/>
            <a:ext cx="1446120" cy="1044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C:\Users\Mounjo\Desktop\left_logo.gif"/>
          <p:cNvPicPr/>
          <p:nvPr/>
        </p:nvPicPr>
        <p:blipFill>
          <a:blip r:embed="rId5"/>
          <a:stretch/>
        </p:blipFill>
        <p:spPr>
          <a:xfrm>
            <a:off x="8385120" y="44280"/>
            <a:ext cx="72396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1T00:02:07Z</dcterms:created>
  <dc:creator>Mounjo</dc:creator>
  <dc:description/>
  <dc:language>en-US</dc:language>
  <cp:lastModifiedBy>Mounjo</cp:lastModifiedBy>
  <dcterms:modified xsi:type="dcterms:W3CDTF">2013-03-11T00:32:36Z</dcterms:modified>
  <cp:revision>2</cp:revision>
  <dc:subject/>
  <dc:title>Fonds NBSAPs pour le suivi de leur mise en œuvre par le CHM Mobilisation des fonds PNUD Niger à travers les PTA 2013 Inscription au budget national d’une ligne CHM Fonds SGP GEF mise en œuvre APA</dc:title>
</cp:coreProperties>
</file>