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F73B-CB11-4AFE-B4F5-925EFE71C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CAD5-E289-44EF-AD48-89D5DCA6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D894-DCCA-4018-AD86-581A32005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CF24-0767-4A4E-963F-B92554108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CFD6-2638-4413-A783-818CAE82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3FBB-8728-4453-AB3C-6B72A421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EB15-956A-477C-B300-3C91B22E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3E5F-06F3-42A5-B559-A515611F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9075-172A-4AE7-A4CB-F7B15E50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DBE3-08EB-4B47-9B58-D751525D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2FF2-AB12-4099-B8C6-AA3E3AC9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65E1-8AE6-4896-BCAB-71830F51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9ADA-901F-483D-AEFE-063F654B21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92320" y="184428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Acte administratif pour l’assistant au PFN CHM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Mise à disposition d’agents et de stagiaires 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Dotation d’un local pour le CHM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Forte implication du PF CHM dans l’élaboration des NBSAP et leur suiv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Image 1" descr="CNEDD Nouveau"/>
          <p:cNvPicPr/>
          <p:nvPr/>
        </p:nvPicPr>
        <p:blipFill>
          <a:blip r:embed="rId1"/>
          <a:stretch/>
        </p:blipFill>
        <p:spPr>
          <a:xfrm>
            <a:off x="0" y="0"/>
            <a:ext cx="878040" cy="855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C:\Users\Mounjo\Desktop\JIB-2012\Logo-Plan-strategique.png"/>
          <p:cNvPicPr/>
          <p:nvPr/>
        </p:nvPicPr>
        <p:blipFill>
          <a:blip r:embed="rId2"/>
          <a:stretch/>
        </p:blipFill>
        <p:spPr>
          <a:xfrm>
            <a:off x="12600" y="1481040"/>
            <a:ext cx="917640" cy="3600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6" descr=""/>
          <p:cNvPicPr/>
          <p:nvPr/>
        </p:nvPicPr>
        <p:blipFill>
          <a:blip r:embed="rId3"/>
          <a:stretch/>
        </p:blipFill>
        <p:spPr>
          <a:xfrm>
            <a:off x="14400" y="5081760"/>
            <a:ext cx="971280" cy="1776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ttp://ne.chm-cbd.net/portal_layout/left_logo.gif"/>
          <p:cNvPicPr/>
          <p:nvPr/>
        </p:nvPicPr>
        <p:blipFill>
          <a:blip r:embed="rId4"/>
          <a:stretch/>
        </p:blipFill>
        <p:spPr>
          <a:xfrm>
            <a:off x="3625920" y="0"/>
            <a:ext cx="1446120" cy="1044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C:\Users\Mounjo\Desktop\left_logo.gif"/>
          <p:cNvPicPr/>
          <p:nvPr/>
        </p:nvPicPr>
        <p:blipFill>
          <a:blip r:embed="rId5"/>
          <a:stretch/>
        </p:blipFill>
        <p:spPr>
          <a:xfrm>
            <a:off x="8385120" y="44280"/>
            <a:ext cx="7239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0T23:57:38Z</dcterms:created>
  <dc:creator>Mounjo</dc:creator>
  <dc:description/>
  <dc:language>en-US</dc:language>
  <cp:lastModifiedBy>Mounjo</cp:lastModifiedBy>
  <dcterms:modified xsi:type="dcterms:W3CDTF">2013-03-11T00:44:07Z</dcterms:modified>
  <cp:revision>3</cp:revision>
  <dc:subject/>
  <dc:title>Acte administratif pour l’assistant au PFN CHM Mise à disposition d’agents et de stagiaires  Dotation d’un local pour le CHM Forte implication du PF CHM dans l’élaboration des NBSAP et leur suivi</dc:title>
</cp:coreProperties>
</file>