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5A8E-12BA-46EC-8452-6EAB33107C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0C2F-1AC7-4A70-9FEA-8140BD4BE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50A8B7-B7E8-4028-8450-C6BAE5EF9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B75-2434-4C37-A750-FE93AAAD57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EC0C-68C0-4C76-BF22-055E13FF7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3F07B8-1154-4BD0-AD55-28010395D6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3C4-4DB4-49F0-BC48-C9F71C5C2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3FBA58-8FC5-4D44-A5D0-B3422527CF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B021-190B-465D-8D7C-03CD94927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70D3B6A-4D56-44D7-9C66-7903E68848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9DB-6CD2-42CE-B625-AC5095964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72436C-A3DD-413C-9C35-798E44046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11F-8C93-47C1-9B21-F00982897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95640" y="8879040"/>
            <a:ext cx="3048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5680"/>
                <a:tab algn="l" pos="287352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A97B86-BF53-47B1-8249-4E63CF80A7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36520" y="701640"/>
            <a:ext cx="4775400" cy="35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39600" y="4437000"/>
            <a:ext cx="51656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B45-6ABD-45D1-8943-A9AEED3B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713-063A-4DCC-8710-751046D4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BB6-D0D8-4F59-B51A-731B0C3C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476-0301-419C-91DC-549C64F7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79D-BD17-435A-BCA2-92C71AF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419-9B64-4C9D-98EC-20CDB53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7D9-9460-4C27-A180-CF91DB1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A20-F678-4155-A0DD-0BD3AF93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3FD-A485-4D94-8339-1A1304A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27A-7235-4B9E-BC34-DE03CB9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025-6057-4423-912C-1FAE81D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895-FABD-49D4-B671-98D892F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D88-1A8B-44E8-B2AF-EFF6C2131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iche_indicateur%201.do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Questionnaire%201_objectif_1_plan_strategique.doc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texte 4"/>
          <p:cNvSpPr/>
          <p:nvPr/>
        </p:nvSpPr>
        <p:spPr>
          <a:xfrm>
            <a:off x="71280" y="4321080"/>
            <a:ext cx="9072720" cy="2492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  <a:ea typeface="Arabic Typesetting"/>
              </a:rPr>
              <a:t>AKPONA  A. Hu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Berlin Sans FB"/>
                <a:ea typeface="Arabic Typesetting"/>
              </a:rPr>
              <a:t>Ingénieur Agronome Fores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Book Antiqua"/>
                <a:ea typeface="Arabic Typesetting"/>
              </a:rPr>
              <a:t>Chef Service Planification Suivi Evaluation Synthè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Book Antiqua"/>
                <a:ea typeface="Arabic Typesetting"/>
              </a:rPr>
              <a:t>et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e4bd"/>
                </a:solidFill>
                <a:latin typeface="Berlin Sans FB"/>
                <a:ea typeface="Arabic Typesetting"/>
              </a:rPr>
              <a:t>Gestionnaire du Centre d’Echange d’Informations (CH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e4bd"/>
                </a:solidFill>
                <a:latin typeface="Berlin Sans FB"/>
                <a:ea typeface="Arabic Typesetting"/>
              </a:rPr>
              <a:t>de la Convention sur la Diversité Bi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b0f0"/>
                </a:solidFill>
                <a:latin typeface="Berlin Sans FB"/>
                <a:ea typeface="Arabic Typesetting"/>
              </a:rPr>
              <a:t>akpona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8388360" y="0"/>
            <a:ext cx="755640" cy="1643040"/>
          </a:xfrm>
          <a:prstGeom prst="rect">
            <a:avLst/>
          </a:prstGeom>
          <a:ln w="0">
            <a:noFill/>
          </a:ln>
        </p:spPr>
      </p:pic>
      <p:grpSp>
        <p:nvGrpSpPr>
          <p:cNvPr id="50" name="Espace réservé du texte 4"/>
          <p:cNvGrpSpPr/>
          <p:nvPr/>
        </p:nvGrpSpPr>
        <p:grpSpPr>
          <a:xfrm>
            <a:off x="1427040" y="0"/>
            <a:ext cx="6931080" cy="1712880"/>
            <a:chOff x="1427040" y="0"/>
            <a:chExt cx="6931080" cy="1712880"/>
          </a:xfrm>
        </p:grpSpPr>
        <p:pic>
          <p:nvPicPr>
            <p:cNvPr id="51" name="Espace réservé du texte 4" descr=""/>
            <p:cNvPicPr/>
            <p:nvPr/>
          </p:nvPicPr>
          <p:blipFill>
            <a:blip r:embed="rId2"/>
            <a:stretch/>
          </p:blipFill>
          <p:spPr>
            <a:xfrm>
              <a:off x="1427040" y="0"/>
              <a:ext cx="6931080" cy="17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428840" y="0"/>
              <a:ext cx="6929280" cy="17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Britannic Bold"/>
                </a:rPr>
                <a:t>Ministère de l’Environnement de l’Habitat et de l’Urbanis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Britannic Bold"/>
                </a:rPr>
                <a:t>********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ambria"/>
                </a:rPr>
                <a:t>Direction Générale des Forêts et des Ressources Natur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6"/>
          <p:cNvSpPr/>
          <p:nvPr/>
        </p:nvSpPr>
        <p:spPr>
          <a:xfrm>
            <a:off x="0" y="1700280"/>
            <a:ext cx="9144000" cy="25923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600" spc="-1" strike="noStrike">
                <a:solidFill>
                  <a:srgbClr val="002060"/>
                </a:solidFill>
                <a:latin typeface="Bernard MT Condensed"/>
              </a:rPr>
              <a:t>Mesure de la contribution du Bénin à la mise en œuvre de l’objectif premier du plan stratégique 2010 – 2020 de la CDB: Quel progrè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LOGO MEHu"/>
          <p:cNvPicPr/>
          <p:nvPr/>
        </p:nvPicPr>
        <p:blipFill>
          <a:blip r:embed="rId3"/>
          <a:stretch/>
        </p:blipFill>
        <p:spPr>
          <a:xfrm>
            <a:off x="34920" y="0"/>
            <a:ext cx="1384200" cy="155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8172360" y="5157720"/>
            <a:ext cx="971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00720" cy="54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icateurs sélectionn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4"/>
          <p:cNvSpPr/>
          <p:nvPr/>
        </p:nvSpPr>
        <p:spPr>
          <a:xfrm>
            <a:off x="0" y="907920"/>
            <a:ext cx="4427640" cy="114480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1. Niveau des ressources  du budget national consacré à la biodiversit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à coins arrondis 56"/>
          <p:cNvSpPr/>
          <p:nvPr/>
        </p:nvSpPr>
        <p:spPr>
          <a:xfrm>
            <a:off x="0" y="2133720"/>
            <a:ext cx="4356000" cy="12686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2. Evolution de la perception de l’importance de la biodiversité par le publ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71280" y="4651200"/>
            <a:ext cx="4356360" cy="114480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4. Préférence des consommateurs pour les produits plus écologiqu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3427560"/>
            <a:ext cx="4356000" cy="114480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3.  Evolution de la consommation de produits nuisibles à l’environn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4643280" y="2706840"/>
            <a:ext cx="4249800" cy="11448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7. Evolution</a:t>
            </a:r>
            <a:r>
              <a:rPr b="1" lang="fr-CA" sz="2300" spc="-1" strike="noStrike">
                <a:solidFill>
                  <a:srgbClr val="000000"/>
                </a:solidFill>
                <a:latin typeface="Times New Roman"/>
              </a:rPr>
              <a:t> des initiatives et technologies écologiques et adaptables prom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necteur droit 28"/>
          <p:cNvSpPr/>
          <p:nvPr/>
        </p:nvSpPr>
        <p:spPr>
          <a:xfrm>
            <a:off x="4500720" y="692280"/>
            <a:ext cx="0" cy="6165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4643280" y="4008600"/>
            <a:ext cx="4257720" cy="149508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8. Evolution du nombre de touristes béninois au niveau des aires de conservation de biodiversit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31"/>
          <p:cNvSpPr/>
          <p:nvPr/>
        </p:nvSpPr>
        <p:spPr>
          <a:xfrm>
            <a:off x="4572000" y="5688000"/>
            <a:ext cx="4464000" cy="10540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376092"/>
                </a:solidFill>
                <a:latin typeface="Times New Roman"/>
              </a:rPr>
              <a:t>10. Evolution de l’implication des apprenants dans les sciences liées à la 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643280" y="630360"/>
            <a:ext cx="4249800" cy="18453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6. Nombre d’espèces et d’écosystèmes concernés par un plan national d'action par rapport au nombre d’espèces et d’écosystèmes menac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34920" y="5940360"/>
            <a:ext cx="4392720" cy="79452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</a:rPr>
              <a:t>5. Degré de connaissance du niveau de menace des espè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0" y="44280"/>
            <a:ext cx="8893080" cy="86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ref aperçu des fiches de description des indic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411280" y="2637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Niveau des ressources  du budget national consacré à la biodiver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0" y="44280"/>
            <a:ext cx="8893080" cy="86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ref aperçu de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92360" y="310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Evolution de la perception de l’importance de la biodiversité par le 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2627280" y="44280"/>
            <a:ext cx="62658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int des personnes enquê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phique 6" descr=""/>
          <p:cNvPicPr/>
          <p:nvPr/>
        </p:nvPicPr>
        <p:blipFill>
          <a:blip r:embed="rId1"/>
          <a:stretch/>
        </p:blipFill>
        <p:spPr>
          <a:xfrm>
            <a:off x="0" y="1195560"/>
            <a:ext cx="8931240" cy="5406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à coins arrondis 7"/>
          <p:cNvSpPr/>
          <p:nvPr/>
        </p:nvSpPr>
        <p:spPr>
          <a:xfrm>
            <a:off x="826920" y="692280"/>
            <a:ext cx="2629080" cy="6098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230 person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227640" y="692280"/>
            <a:ext cx="2592360" cy="5508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Au moins 3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èche droite 9"/>
          <p:cNvSpPr/>
          <p:nvPr/>
        </p:nvSpPr>
        <p:spPr>
          <a:xfrm>
            <a:off x="4427640" y="765000"/>
            <a:ext cx="936360" cy="484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179280" y="44280"/>
            <a:ext cx="6264360" cy="1081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Nombre de touristes béninois au niveau des aires de conservation de biodiversit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phique 3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83502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179280" y="44280"/>
            <a:ext cx="8713800" cy="936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iveau des ressources  du budget national consacré à la biodivers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phiqu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3416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179280" y="44280"/>
            <a:ext cx="8713800" cy="1152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volution de la consommation de produits nuisibles à l’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phique 3" descr=""/>
          <p:cNvPicPr/>
          <p:nvPr/>
        </p:nvPicPr>
        <p:blipFill>
          <a:blip r:embed="rId1"/>
          <a:stretch/>
        </p:blipFill>
        <p:spPr>
          <a:xfrm>
            <a:off x="324000" y="1414440"/>
            <a:ext cx="8496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179280" y="44280"/>
            <a:ext cx="8964720" cy="792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vez-vous déjà entendu parler du terme «biodiversité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phique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708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3"/>
          <p:cNvSpPr/>
          <p:nvPr/>
        </p:nvSpPr>
        <p:spPr>
          <a:xfrm>
            <a:off x="179280" y="44280"/>
            <a:ext cx="8713800" cy="86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iveau d’information sur la perte de la biodivers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phique 3" descr=""/>
          <p:cNvPicPr/>
          <p:nvPr/>
        </p:nvPicPr>
        <p:blipFill>
          <a:blip r:embed="rId1"/>
          <a:stretch/>
        </p:blipFill>
        <p:spPr>
          <a:xfrm>
            <a:off x="249120" y="1054080"/>
            <a:ext cx="842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179280" y="44280"/>
            <a:ext cx="8713800" cy="1081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erception de la gravité du déclin et de l'extinction possible d'espèces animales et floristiques, des habitats naturels et des écosystèmes au Bén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aphique 3" descr=""/>
          <p:cNvPicPr/>
          <p:nvPr/>
        </p:nvPicPr>
        <p:blipFill>
          <a:blip r:embed="rId1"/>
          <a:stretch/>
        </p:blipFill>
        <p:spPr>
          <a:xfrm>
            <a:off x="249120" y="1054080"/>
            <a:ext cx="85708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600360" y="44280"/>
            <a:ext cx="5435640" cy="550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LAN DE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288108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24000" y="4149360"/>
            <a:ext cx="3456000" cy="1079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 Difficultés et Persp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3779640" y="1484280"/>
            <a:ext cx="439092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 Résultats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èche vers le bas 8"/>
          <p:cNvSpPr/>
          <p:nvPr/>
        </p:nvSpPr>
        <p:spPr>
          <a:xfrm>
            <a:off x="1332000" y="184464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9"/>
          <p:cNvSpPr/>
          <p:nvPr/>
        </p:nvSpPr>
        <p:spPr>
          <a:xfrm>
            <a:off x="250920" y="2276640"/>
            <a:ext cx="302580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Contenu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à coins arrondis 10"/>
          <p:cNvSpPr/>
          <p:nvPr/>
        </p:nvSpPr>
        <p:spPr>
          <a:xfrm>
            <a:off x="250920" y="2924280"/>
            <a:ext cx="3025800" cy="1009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Stratégie de mise en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èche vers le bas 11"/>
          <p:cNvSpPr/>
          <p:nvPr/>
        </p:nvSpPr>
        <p:spPr>
          <a:xfrm>
            <a:off x="5580000" y="198900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12"/>
          <p:cNvSpPr/>
          <p:nvPr/>
        </p:nvSpPr>
        <p:spPr>
          <a:xfrm>
            <a:off x="4500720" y="2421000"/>
            <a:ext cx="3024000" cy="503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Forces, faibl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13"/>
          <p:cNvSpPr/>
          <p:nvPr/>
        </p:nvSpPr>
        <p:spPr>
          <a:xfrm>
            <a:off x="4500720" y="2997360"/>
            <a:ext cx="3024000" cy="502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14"/>
          <p:cNvSpPr/>
          <p:nvPr/>
        </p:nvSpPr>
        <p:spPr>
          <a:xfrm>
            <a:off x="4500720" y="3573360"/>
            <a:ext cx="3024000" cy="503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15"/>
          <p:cNvSpPr/>
          <p:nvPr/>
        </p:nvSpPr>
        <p:spPr>
          <a:xfrm>
            <a:off x="4500720" y="4149720"/>
            <a:ext cx="3024000" cy="503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16"/>
          <p:cNvSpPr/>
          <p:nvPr/>
        </p:nvSpPr>
        <p:spPr>
          <a:xfrm>
            <a:off x="4500720" y="4724280"/>
            <a:ext cx="3024000" cy="505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Tend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à coins arrondis 17"/>
          <p:cNvSpPr/>
          <p:nvPr/>
        </p:nvSpPr>
        <p:spPr>
          <a:xfrm>
            <a:off x="684360" y="5661000"/>
            <a:ext cx="302400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Forces, faibl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18"/>
          <p:cNvSpPr/>
          <p:nvPr/>
        </p:nvSpPr>
        <p:spPr>
          <a:xfrm>
            <a:off x="684360" y="6237360"/>
            <a:ext cx="3024000" cy="50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Garamond"/>
              </a:rPr>
              <a:t>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èche vers le bas 19"/>
          <p:cNvSpPr/>
          <p:nvPr/>
        </p:nvSpPr>
        <p:spPr>
          <a:xfrm>
            <a:off x="1711440" y="5229360"/>
            <a:ext cx="4842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179280" y="44280"/>
            <a:ext cx="8964720" cy="1008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ensez-vous que le déclin et l'extinction possible d'espèces animales, la flore et la faune, aura un impact sur vous personnellemen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phique 3" descr=""/>
          <p:cNvPicPr/>
          <p:nvPr/>
        </p:nvPicPr>
        <p:blipFill>
          <a:blip r:embed="rId1"/>
          <a:stretch/>
        </p:blipFill>
        <p:spPr>
          <a:xfrm>
            <a:off x="304920" y="1054080"/>
            <a:ext cx="85150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179280" y="44280"/>
            <a:ext cx="8713800" cy="86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Niveau de connaissance des facteurs de l’érosion de la biodiversit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phique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137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971640" y="2924280"/>
            <a:ext cx="741672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icultés et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3"/>
          <p:cNvSpPr/>
          <p:nvPr/>
        </p:nvSpPr>
        <p:spPr>
          <a:xfrm>
            <a:off x="179280" y="44280"/>
            <a:ext cx="87138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fficul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50920" y="1341360"/>
            <a:ext cx="83916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Difficultés d’accès aux informations dû à l’inexistence d’une base de données consensuelle pour apprécier les tendances en matière de sensibilisation sur la biodiversit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Inexistence d’une base de données sur tous les acteurs intervenant dans le domaine de la biodiversité au niveau na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179280" y="44280"/>
            <a:ext cx="8713800" cy="57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8000" y="765000"/>
            <a:ext cx="88916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Intégrer les résultats du projet dans le processus d’élaboration de la SPAN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Collecter les données pour les autres indicateurs rete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Créer une section appropriée sur le CHM pour le suivi des indicateurs dans le tem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Créer un cadre de collaboration avec tous les détenteurs d’informations pour que ces indicateurs entre dans leur système habituel de collecte de donné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Procéder à un recensement exhaustif des structures intervenant dans le domaine de la biodiversité  à l’échelle nationa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USER\Desktop\Photo CHM\Photo Christian et Kara 132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USER\Desktop\Photo CHM\Gmelina arborea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080" y="2214720"/>
            <a:ext cx="7929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400" spc="-1" strike="noStrike">
                <a:solidFill>
                  <a:srgbClr val="ccff33"/>
                </a:solidFill>
                <a:latin typeface="Castellar"/>
              </a:rPr>
              <a:t>MERCI  DE VOTRE ATTEN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C:\Users\USER\Desktop\Photo CHM\cheetah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4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8000" y="2924280"/>
            <a:ext cx="8891640" cy="550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89080" y="0"/>
            <a:ext cx="439092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ref aperçu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684360" y="844560"/>
            <a:ext cx="792000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sposer d’indicateurs dans le but de mieux suivre les progrès réalisés dans la mise en œuvre au Bénin de l’objectif premier du plan stratégique 2011 – 2020 de la CD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9" descr=""/>
          <p:cNvPicPr/>
          <p:nvPr/>
        </p:nvPicPr>
        <p:blipFill>
          <a:blip r:embed="rId1"/>
          <a:stretch/>
        </p:blipFill>
        <p:spPr>
          <a:xfrm>
            <a:off x="-85680" y="609480"/>
            <a:ext cx="944640" cy="2256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2"/>
          <p:cNvSpPr/>
          <p:nvPr/>
        </p:nvSpPr>
        <p:spPr>
          <a:xfrm>
            <a:off x="4788000" y="2997360"/>
            <a:ext cx="3851280" cy="1557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Etude de référence sur la perception de la biodiversité basé sur les résultats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250920" y="2997360"/>
            <a:ext cx="4392360" cy="1557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Etude sur des indicateurs potentiels pour l'objectif 1 du Plan Stratégique de la Convention sur la Biodiver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ccolade fermante 46"/>
          <p:cNvSpPr/>
          <p:nvPr/>
        </p:nvSpPr>
        <p:spPr>
          <a:xfrm rot="16200000">
            <a:off x="4643280" y="43920"/>
            <a:ext cx="289080" cy="5616720"/>
          </a:xfrm>
          <a:custGeom>
            <a:avLst/>
            <a:gdLst>
              <a:gd name="textAreaLeft" fmla="*/ 0 w 289080"/>
              <a:gd name="textAreaRight" fmla="*/ 104400 w 289080"/>
              <a:gd name="textAreaTop" fmla="*/ 7560 h 5616720"/>
              <a:gd name="textAreaBottom" fmla="*/ 56091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"/>
                  <a:pt x="10800" y="93"/>
                </a:cubicBezTo>
                <a:lnTo>
                  <a:pt x="10800" y="10707"/>
                </a:lnTo>
                <a:cubicBezTo>
                  <a:pt x="10800" y="10754"/>
                  <a:pt x="16200" y="10800"/>
                  <a:pt x="21600" y="10800"/>
                </a:cubicBezTo>
                <a:cubicBezTo>
                  <a:pt x="16200" y="10800"/>
                  <a:pt x="10800" y="10847"/>
                  <a:pt x="10800" y="10893"/>
                </a:cubicBezTo>
                <a:lnTo>
                  <a:pt x="10800" y="21507"/>
                </a:lnTo>
                <a:cubicBezTo>
                  <a:pt x="10800" y="2155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èche courbée vers la droite 48"/>
          <p:cNvSpPr/>
          <p:nvPr/>
        </p:nvSpPr>
        <p:spPr>
          <a:xfrm>
            <a:off x="0" y="4149720"/>
            <a:ext cx="395280" cy="1216080"/>
          </a:xfrm>
          <a:custGeom>
            <a:avLst/>
            <a:gdLst>
              <a:gd name="textAreaLeft" fmla="*/ 52920 w 395280"/>
              <a:gd name="textAreaRight" fmla="*/ 342360 w 395280"/>
              <a:gd name="textAreaTop" fmla="*/ 266760 h 1216080"/>
              <a:gd name="textAreaBottom" fmla="*/ 899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84" stAng="-5400000" swAng="-5400000"/>
                <a:lnTo>
                  <a:pt x="0" y="11239"/>
                </a:lnTo>
                <a:arcTo wR="21600" hR="9484" stAng="10800000" swAng="-3572453"/>
                <a:lnTo>
                  <a:pt x="16200" y="21299"/>
                </a:lnTo>
                <a:lnTo>
                  <a:pt x="21600" y="19845"/>
                </a:lnTo>
                <a:lnTo>
                  <a:pt x="16200" y="17788"/>
                </a:lnTo>
                <a:lnTo>
                  <a:pt x="16200" y="18666"/>
                </a:lnTo>
                <a:arcTo wR="21600" hR="9484" stAng="7227547" swAng="3432271"/>
                <a:lnTo>
                  <a:pt x="93" y="10361"/>
                </a:lnTo>
                <a:arcTo wR="21600" hR="9484" stAng="-10659818" swAng="5259818"/>
                <a:close/>
              </a:path>
              <a:path fill="darkenLess" w="21600" h="21600">
                <a:moveTo>
                  <a:pt x="21600" y="0"/>
                </a:moveTo>
                <a:arcTo wR="21600" hR="9484" stAng="-5400000" swAng="-5400000"/>
                <a:lnTo>
                  <a:pt x="0" y="9484"/>
                </a:lnTo>
                <a:arcTo wR="21600" hR="9484" stAng="10800000" swAng="-140182"/>
                <a:lnTo>
                  <a:pt x="93" y="10361"/>
                </a:lnTo>
                <a:arcTo wR="21600" hR="9484" stAng="-10659818" swAng="52598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lèche courbée vers la droite 49"/>
          <p:cNvSpPr/>
          <p:nvPr/>
        </p:nvSpPr>
        <p:spPr>
          <a:xfrm>
            <a:off x="0" y="4941720"/>
            <a:ext cx="395280" cy="1216080"/>
          </a:xfrm>
          <a:custGeom>
            <a:avLst/>
            <a:gdLst>
              <a:gd name="textAreaLeft" fmla="*/ 52920 w 395280"/>
              <a:gd name="textAreaRight" fmla="*/ 342360 w 395280"/>
              <a:gd name="textAreaTop" fmla="*/ 266760 h 1216080"/>
              <a:gd name="textAreaBottom" fmla="*/ 899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84" stAng="-5400000" swAng="-5400000"/>
                <a:lnTo>
                  <a:pt x="0" y="11239"/>
                </a:lnTo>
                <a:arcTo wR="21600" hR="9484" stAng="10800000" swAng="-3572453"/>
                <a:lnTo>
                  <a:pt x="16200" y="21299"/>
                </a:lnTo>
                <a:lnTo>
                  <a:pt x="21600" y="19845"/>
                </a:lnTo>
                <a:lnTo>
                  <a:pt x="16200" y="17788"/>
                </a:lnTo>
                <a:lnTo>
                  <a:pt x="16200" y="18666"/>
                </a:lnTo>
                <a:arcTo wR="21600" hR="9484" stAng="7227547" swAng="3432271"/>
                <a:lnTo>
                  <a:pt x="93" y="10361"/>
                </a:lnTo>
                <a:arcTo wR="21600" hR="9484" stAng="-10659818" swAng="5259818"/>
                <a:close/>
              </a:path>
              <a:path fill="darkenLess" w="21600" h="21600">
                <a:moveTo>
                  <a:pt x="21600" y="0"/>
                </a:moveTo>
                <a:arcTo wR="21600" hR="9484" stAng="-5400000" swAng="-5400000"/>
                <a:lnTo>
                  <a:pt x="0" y="9484"/>
                </a:lnTo>
                <a:arcTo wR="21600" hR="9484" stAng="10800000" swAng="-140182"/>
                <a:lnTo>
                  <a:pt x="93" y="10361"/>
                </a:lnTo>
                <a:arcTo wR="21600" hR="9484" stAng="-10659818" swAng="52598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èche courbée vers la droite 50"/>
          <p:cNvSpPr/>
          <p:nvPr/>
        </p:nvSpPr>
        <p:spPr>
          <a:xfrm>
            <a:off x="0" y="5641920"/>
            <a:ext cx="395280" cy="1216080"/>
          </a:xfrm>
          <a:custGeom>
            <a:avLst/>
            <a:gdLst>
              <a:gd name="textAreaLeft" fmla="*/ 52920 w 395280"/>
              <a:gd name="textAreaRight" fmla="*/ 342360 w 395280"/>
              <a:gd name="textAreaTop" fmla="*/ 266760 h 1216080"/>
              <a:gd name="textAreaBottom" fmla="*/ 899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84" stAng="-5400000" swAng="-5400000"/>
                <a:lnTo>
                  <a:pt x="0" y="11239"/>
                </a:lnTo>
                <a:arcTo wR="21600" hR="9484" stAng="10800000" swAng="-3572453"/>
                <a:lnTo>
                  <a:pt x="16200" y="21299"/>
                </a:lnTo>
                <a:lnTo>
                  <a:pt x="21600" y="19845"/>
                </a:lnTo>
                <a:lnTo>
                  <a:pt x="16200" y="17788"/>
                </a:lnTo>
                <a:lnTo>
                  <a:pt x="16200" y="18666"/>
                </a:lnTo>
                <a:arcTo wR="21600" hR="9484" stAng="7227547" swAng="3432271"/>
                <a:lnTo>
                  <a:pt x="93" y="10361"/>
                </a:lnTo>
                <a:arcTo wR="21600" hR="9484" stAng="-10659818" swAng="5259818"/>
                <a:close/>
              </a:path>
              <a:path fill="darkenLess" w="21600" h="21600">
                <a:moveTo>
                  <a:pt x="21600" y="0"/>
                </a:moveTo>
                <a:arcTo wR="21600" hR="9484" stAng="-5400000" swAng="-5400000"/>
                <a:lnTo>
                  <a:pt x="0" y="9484"/>
                </a:lnTo>
                <a:arcTo wR="21600" hR="9484" stAng="10800000" swAng="-140182"/>
                <a:lnTo>
                  <a:pt x="93" y="10361"/>
                </a:lnTo>
                <a:arcTo wR="21600" hR="9484" stAng="-10659818" swAng="52598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lèche courbée vers la gauche 51"/>
          <p:cNvSpPr/>
          <p:nvPr/>
        </p:nvSpPr>
        <p:spPr>
          <a:xfrm>
            <a:off x="8675640" y="4076640"/>
            <a:ext cx="433440" cy="1224000"/>
          </a:xfrm>
          <a:custGeom>
            <a:avLst/>
            <a:gdLst>
              <a:gd name="textAreaLeft" fmla="*/ 57960 w 433440"/>
              <a:gd name="textAreaRight" fmla="*/ 375480 w 433440"/>
              <a:gd name="textAreaTop" fmla="*/ 265320 h 1224000"/>
              <a:gd name="textAreaBottom" fmla="*/ 9046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3553669"/>
                <a:lnTo>
                  <a:pt x="5400" y="21303"/>
                </a:lnTo>
                <a:lnTo>
                  <a:pt x="0" y="19688"/>
                </a:lnTo>
                <a:lnTo>
                  <a:pt x="5400" y="17479"/>
                </a:lnTo>
                <a:lnTo>
                  <a:pt x="5400" y="18435"/>
                </a:lnTo>
                <a:arcTo wR="21600" hR="9366" stAng="3553669" swAng="-3400819"/>
                <a:lnTo>
                  <a:pt x="21487" y="10322"/>
                </a:lnTo>
                <a:arcTo wR="21600" hR="9366" stAng="-152850" swAng="-5247150"/>
                <a:close/>
              </a:path>
              <a:path fill="darkenLess" w="21600" h="21600">
                <a:moveTo>
                  <a:pt x="0" y="0"/>
                </a:moveTo>
                <a:arcTo wR="21600" hR="9366" stAng="-5400000" swAng="5400000"/>
                <a:lnTo>
                  <a:pt x="21600" y="11278"/>
                </a:lnTo>
                <a:arcTo wR="21600" hR="9366" stAng="0" swAng="-152850"/>
                <a:lnTo>
                  <a:pt x="21487" y="10322"/>
                </a:lnTo>
                <a:arcTo wR="21600" hR="9366" stAng="-152850" swAng="-52471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lèche courbée vers la gauche 52"/>
          <p:cNvSpPr/>
          <p:nvPr/>
        </p:nvSpPr>
        <p:spPr>
          <a:xfrm>
            <a:off x="8712360" y="4797360"/>
            <a:ext cx="431640" cy="1224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65320 h 1224000"/>
              <a:gd name="textAreaBottom" fmla="*/ 9046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1" stAng="-5400000" swAng="5400000"/>
                <a:lnTo>
                  <a:pt x="21600" y="11277"/>
                </a:lnTo>
                <a:arcTo wR="21600" hR="9371" stAng="0" swAng="3554475"/>
                <a:lnTo>
                  <a:pt x="5400" y="21302"/>
                </a:lnTo>
                <a:lnTo>
                  <a:pt x="0" y="19695"/>
                </a:lnTo>
                <a:lnTo>
                  <a:pt x="5400" y="17492"/>
                </a:lnTo>
                <a:lnTo>
                  <a:pt x="5400" y="18444"/>
                </a:lnTo>
                <a:arcTo wR="21600" hR="9371" stAng="3554475" swAng="-3402110"/>
                <a:lnTo>
                  <a:pt x="21488" y="10324"/>
                </a:lnTo>
                <a:arcTo wR="21600" hR="9371" stAng="-152365" swAng="-5247635"/>
                <a:close/>
              </a:path>
              <a:path fill="darkenLess" w="21600" h="21600">
                <a:moveTo>
                  <a:pt x="0" y="0"/>
                </a:moveTo>
                <a:arcTo wR="21600" hR="9371" stAng="-5400000" swAng="5400000"/>
                <a:lnTo>
                  <a:pt x="21600" y="11277"/>
                </a:lnTo>
                <a:arcTo wR="21600" hR="9371" stAng="0" swAng="-152365"/>
                <a:lnTo>
                  <a:pt x="21488" y="10324"/>
                </a:lnTo>
                <a:arcTo wR="21600" hR="9371" stAng="-152365" swAng="-524763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à coins arrondis 54"/>
          <p:cNvSpPr/>
          <p:nvPr/>
        </p:nvSpPr>
        <p:spPr>
          <a:xfrm>
            <a:off x="395280" y="4653000"/>
            <a:ext cx="4176720" cy="64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Times New Roman"/>
              </a:rPr>
              <a:t>Diagnostic  des indicateurs exi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55"/>
          <p:cNvSpPr/>
          <p:nvPr/>
        </p:nvSpPr>
        <p:spPr>
          <a:xfrm>
            <a:off x="395280" y="5373720"/>
            <a:ext cx="4176720" cy="64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376092"/>
                </a:solidFill>
                <a:latin typeface="Times New Roman"/>
              </a:rPr>
              <a:t>Définition indicateurs  potenti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à coins arrondis 56"/>
          <p:cNvSpPr/>
          <p:nvPr/>
        </p:nvSpPr>
        <p:spPr>
          <a:xfrm>
            <a:off x="395280" y="6093000"/>
            <a:ext cx="4176720" cy="6490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376092"/>
                </a:solidFill>
                <a:latin typeface="Times New Roman"/>
              </a:rPr>
              <a:t>Revue qualité des indicate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57"/>
          <p:cNvSpPr/>
          <p:nvPr/>
        </p:nvSpPr>
        <p:spPr>
          <a:xfrm>
            <a:off x="4859280" y="4724280"/>
            <a:ext cx="3889440" cy="792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376092"/>
                </a:solidFill>
                <a:latin typeface="Times New Roman"/>
              </a:rPr>
              <a:t>Opérationnalisation des indicateu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58"/>
          <p:cNvSpPr/>
          <p:nvPr/>
        </p:nvSpPr>
        <p:spPr>
          <a:xfrm>
            <a:off x="4859280" y="5805360"/>
            <a:ext cx="3889440" cy="792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376092"/>
                </a:solidFill>
                <a:latin typeface="Times New Roman"/>
              </a:rPr>
              <a:t>Enquête de référence  sur les indicateu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691200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ratégie de 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2"/>
          <p:cNvSpPr/>
          <p:nvPr/>
        </p:nvSpPr>
        <p:spPr>
          <a:xfrm>
            <a:off x="250920" y="3789360"/>
            <a:ext cx="4392360" cy="1557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Etude d’opérationnalisation des indicateurs retenus et d’élaboration des fiches de collect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250920" y="981000"/>
            <a:ext cx="4392360" cy="1557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Etude diagnostic et d’identification des indicateurs potentiels sur la base de l’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54"/>
          <p:cNvSpPr/>
          <p:nvPr/>
        </p:nvSpPr>
        <p:spPr>
          <a:xfrm>
            <a:off x="324000" y="2852640"/>
            <a:ext cx="4176720" cy="64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Times New Roman"/>
              </a:rPr>
              <a:t>Atelier de vali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à coins arrondis 56"/>
          <p:cNvSpPr/>
          <p:nvPr/>
        </p:nvSpPr>
        <p:spPr>
          <a:xfrm>
            <a:off x="250920" y="5661000"/>
            <a:ext cx="4176720" cy="64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376092"/>
                </a:solidFill>
                <a:latin typeface="Times New Roman"/>
              </a:rPr>
              <a:t>Atelier de 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5796000" y="4149720"/>
            <a:ext cx="2987640" cy="1557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Enquête de terrain pour la collecte de données sur quelques indicateurs re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724360" y="2924280"/>
            <a:ext cx="3059280" cy="8254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Analyse des données d’enquê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19"/>
          <p:cNvSpPr/>
          <p:nvPr/>
        </p:nvSpPr>
        <p:spPr>
          <a:xfrm>
            <a:off x="5724360" y="2060640"/>
            <a:ext cx="3095640" cy="64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376092"/>
                </a:solidFill>
                <a:latin typeface="Times New Roman"/>
              </a:rPr>
              <a:t>Atelier de 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688000" y="907920"/>
            <a:ext cx="3060720" cy="8254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Synthèse des valeurs de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èche vers le bas 21"/>
          <p:cNvSpPr/>
          <p:nvPr/>
        </p:nvSpPr>
        <p:spPr>
          <a:xfrm>
            <a:off x="2124000" y="2565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èche vers le bas 22"/>
          <p:cNvSpPr/>
          <p:nvPr/>
        </p:nvSpPr>
        <p:spPr>
          <a:xfrm>
            <a:off x="2143080" y="3500280"/>
            <a:ext cx="4842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èche vers le bas 23"/>
          <p:cNvSpPr/>
          <p:nvPr/>
        </p:nvSpPr>
        <p:spPr>
          <a:xfrm>
            <a:off x="2143080" y="537372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vers le haut 24"/>
          <p:cNvSpPr/>
          <p:nvPr/>
        </p:nvSpPr>
        <p:spPr>
          <a:xfrm>
            <a:off x="6948360" y="3789360"/>
            <a:ext cx="484200" cy="360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èche vers le haut 25"/>
          <p:cNvSpPr/>
          <p:nvPr/>
        </p:nvSpPr>
        <p:spPr>
          <a:xfrm>
            <a:off x="6896160" y="2708280"/>
            <a:ext cx="484200" cy="216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lèche vers le haut 26"/>
          <p:cNvSpPr/>
          <p:nvPr/>
        </p:nvSpPr>
        <p:spPr>
          <a:xfrm>
            <a:off x="6875640" y="1700280"/>
            <a:ext cx="485640" cy="360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necteur droit 28"/>
          <p:cNvSpPr/>
          <p:nvPr/>
        </p:nvSpPr>
        <p:spPr>
          <a:xfrm>
            <a:off x="5003640" y="692280"/>
            <a:ext cx="0" cy="6165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èche courbée vers la droite 29"/>
          <p:cNvSpPr/>
          <p:nvPr/>
        </p:nvSpPr>
        <p:spPr>
          <a:xfrm rot="15390000">
            <a:off x="5256000" y="5198400"/>
            <a:ext cx="654120" cy="2463840"/>
          </a:xfrm>
          <a:custGeom>
            <a:avLst/>
            <a:gdLst>
              <a:gd name="textAreaLeft" fmla="*/ 87480 w 654120"/>
              <a:gd name="textAreaRight" fmla="*/ 566640 w 654120"/>
              <a:gd name="textAreaTop" fmla="*/ 554400 h 2463840"/>
              <a:gd name="textAreaBottom" fmla="*/ 182736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25" stAng="-5400000" swAng="-5400000"/>
                <a:lnTo>
                  <a:pt x="0" y="11158"/>
                </a:lnTo>
                <a:arcTo wR="21600" hR="9725" stAng="10800000" swAng="-3609995"/>
                <a:lnTo>
                  <a:pt x="16200" y="21291"/>
                </a:lnTo>
                <a:lnTo>
                  <a:pt x="21600" y="20167"/>
                </a:lnTo>
                <a:lnTo>
                  <a:pt x="16200" y="18424"/>
                </a:lnTo>
                <a:lnTo>
                  <a:pt x="16200" y="19141"/>
                </a:lnTo>
                <a:arcTo wR="21600" hR="9725" stAng="7190005" swAng="3495692"/>
                <a:lnTo>
                  <a:pt x="59" y="10442"/>
                </a:lnTo>
                <a:arcTo wR="21600" hR="9725" stAng="-10685697" swAng="5285697"/>
                <a:close/>
              </a:path>
              <a:path fill="darkenLess" w="21600" h="21600">
                <a:moveTo>
                  <a:pt x="21600" y="0"/>
                </a:moveTo>
                <a:arcTo wR="21600" hR="9725" stAng="-5400000" swAng="-5400000"/>
                <a:lnTo>
                  <a:pt x="0" y="9725"/>
                </a:lnTo>
                <a:arcTo wR="21600" hR="9725" stAng="10800000" swAng="-114303"/>
                <a:lnTo>
                  <a:pt x="59" y="10442"/>
                </a:lnTo>
                <a:arcTo wR="21600" hR="9725" stAng="-10685697" swAng="52856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971640" y="2924280"/>
            <a:ext cx="741672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48036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des forces et faibl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250920" y="1239840"/>
            <a:ext cx="8642160" cy="46623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Existence de textes législatifs et réglementaires, documents de politiques stratégiques sectoriel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Ministère à part entière (non délégué) 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Structures déconcentrées du Ministère couvrent tout le territoire national 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* Existence d’une Agence de l’Environnement, d’ONGs, de médias de proximit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27"/>
          <p:cNvSpPr/>
          <p:nvPr/>
        </p:nvSpPr>
        <p:spPr>
          <a:xfrm>
            <a:off x="250920" y="736560"/>
            <a:ext cx="1936800" cy="432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376092"/>
                </a:solidFill>
                <a:latin typeface="Times New Roman"/>
              </a:rPr>
              <a:t>FO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48036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des forces et faibl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0" y="981000"/>
            <a:ext cx="9144000" cy="617472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Insuffisance générale de la conscience environnementale 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Méconnaissance, faible connaissance, inappropriation des textes législatif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Insuffisance de sensibilisation dans les médias audio-visuels nationaux et locaux 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Faible implication du secteur économique aux problématiques de protection de la nature 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Ministère de l’environnement est parfois considéré comme un maillon faible de l’appareil gouvernemental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Faible circulation de l’information entre le ministère et l’extérieu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Cellules environnementales des ministères, peu perform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Mise en œuvre de l’éducation à l’environnement quasi absente dans les écoles 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Insuffisance de moyens au centre de documentation (niveau central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Faible taux d’alphabétisatio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Absence de service en charge de la communication et de l’information au niveau des communes 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Faible synergie entre interventions des acteurs (ONG, associations locales, etc.) 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</a:rPr>
              <a:t>* Connexions à Internet sont rares, souvent ab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à coins arrondis 31"/>
          <p:cNvSpPr/>
          <p:nvPr/>
        </p:nvSpPr>
        <p:spPr>
          <a:xfrm>
            <a:off x="0" y="549360"/>
            <a:ext cx="2592360" cy="503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376092"/>
                </a:solidFill>
                <a:latin typeface="Times New Roman"/>
              </a:rPr>
              <a:t>FAIBL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489744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ientations stratég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250920" y="3789360"/>
            <a:ext cx="4105080" cy="26542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’ici à l’an 2020 au plus tard, le public a une conscience poussée des enjeux de la diversité biologique et la gère durablement pour soutenir le développement socio-économique du Béni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250920" y="981000"/>
            <a:ext cx="4105080" cy="228852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tribuer au développement durable du Bénin et à la réduction de la pauvreté à travers un comportement éco citoyen respectueux de la biodivers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56"/>
          <p:cNvSpPr/>
          <p:nvPr/>
        </p:nvSpPr>
        <p:spPr>
          <a:xfrm>
            <a:off x="250920" y="3284640"/>
            <a:ext cx="280836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376092"/>
                </a:solidFill>
                <a:latin typeface="Times New Roman"/>
              </a:rPr>
              <a:t>Objectif glob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4643280" y="5516640"/>
            <a:ext cx="4249800" cy="10994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Accroissement des performances du ministère en matière de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643280" y="4336920"/>
            <a:ext cx="4249800" cy="109944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Développement de la sensibilisation au niveau de toutes les communautés à la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à coins arrondis 19"/>
          <p:cNvSpPr/>
          <p:nvPr/>
        </p:nvSpPr>
        <p:spPr>
          <a:xfrm>
            <a:off x="250920" y="476280"/>
            <a:ext cx="309708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376092"/>
                </a:solidFill>
                <a:latin typeface="Times New Roman"/>
              </a:rPr>
              <a:t>Orientation maje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643280" y="907920"/>
            <a:ext cx="4249800" cy="1434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Entreprendre des actions particulières avec les décideurs (Ministères clé, Institution, collectivités décentralisé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èche vers le bas 23"/>
          <p:cNvSpPr/>
          <p:nvPr/>
        </p:nvSpPr>
        <p:spPr>
          <a:xfrm>
            <a:off x="3851280" y="3284640"/>
            <a:ext cx="720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necteur droit 28"/>
          <p:cNvSpPr/>
          <p:nvPr/>
        </p:nvSpPr>
        <p:spPr>
          <a:xfrm>
            <a:off x="4500720" y="692280"/>
            <a:ext cx="0" cy="6165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4643280" y="2421000"/>
            <a:ext cx="4257720" cy="1769760"/>
          </a:xfrm>
          <a:prstGeom prst="rect">
            <a:avLst/>
          </a:prstGeom>
          <a:solidFill>
            <a:srgbClr val="fdead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Amélioration de la communication avec les parties prenantes dans le management de la protection de la nature (société civile, secteur économique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èche courbée vers la droite 30"/>
          <p:cNvSpPr/>
          <p:nvPr/>
        </p:nvSpPr>
        <p:spPr>
          <a:xfrm rot="16430400">
            <a:off x="3854160" y="5646600"/>
            <a:ext cx="263520" cy="2165400"/>
          </a:xfrm>
          <a:custGeom>
            <a:avLst/>
            <a:gdLst>
              <a:gd name="textAreaLeft" fmla="*/ 35280 w 263520"/>
              <a:gd name="textAreaRight" fmla="*/ 228240 w 263520"/>
              <a:gd name="textAreaTop" fmla="*/ 516600 h 2165400"/>
              <a:gd name="textAreaBottom" fmla="*/ 1616040 h 21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307" stAng="-5400000" swAng="-5400000"/>
                <a:lnTo>
                  <a:pt x="0" y="10965"/>
                </a:lnTo>
                <a:arcTo wR="21600" hR="10307" stAng="10800000" swAng="-3694936"/>
                <a:lnTo>
                  <a:pt x="16200" y="21273"/>
                </a:lnTo>
                <a:lnTo>
                  <a:pt x="21600" y="20943"/>
                </a:lnTo>
                <a:lnTo>
                  <a:pt x="16200" y="19959"/>
                </a:lnTo>
                <a:lnTo>
                  <a:pt x="16200" y="20287"/>
                </a:lnTo>
                <a:arcTo wR="21600" hR="10307" stAng="7105064" swAng="3642552"/>
                <a:lnTo>
                  <a:pt x="11" y="10636"/>
                </a:lnTo>
                <a:arcTo wR="21600" hR="10307" stAng="-10747615" swAng="5347615"/>
                <a:close/>
              </a:path>
              <a:path fill="darkenLess" w="21600" h="21600">
                <a:moveTo>
                  <a:pt x="21600" y="0"/>
                </a:moveTo>
                <a:arcTo wR="21600" hR="10307" stAng="-5400000" swAng="-5400000"/>
                <a:lnTo>
                  <a:pt x="0" y="10307"/>
                </a:lnTo>
                <a:arcTo wR="21600" hR="10307" stAng="10800000" swAng="-52385"/>
                <a:lnTo>
                  <a:pt x="11" y="10636"/>
                </a:lnTo>
                <a:arcTo wR="21600" hR="10307" stAng="-10747615" swAng="53476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à coins arrondis 31"/>
          <p:cNvSpPr/>
          <p:nvPr/>
        </p:nvSpPr>
        <p:spPr>
          <a:xfrm>
            <a:off x="6012000" y="476280"/>
            <a:ext cx="309708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376092"/>
                </a:solidFill>
                <a:latin typeface="Times New Roman"/>
              </a:rPr>
              <a:t>Axes d’interv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9:23:27Z</dcterms:created>
  <dc:creator>AKPONA Hugues</dc:creator>
  <dc:description/>
  <dc:language>en-US</dc:language>
  <cp:lastModifiedBy>Han De Koeijer</cp:lastModifiedBy>
  <dcterms:modified xsi:type="dcterms:W3CDTF">2013-03-12T15:44:08Z</dcterms:modified>
  <cp:revision>214</cp:revision>
  <dc:subject/>
  <dc:title>Diapositive 1</dc:title>
</cp:coreProperties>
</file>