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C1B-0550-4C75-9396-EBE26D52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FAD-97F6-4917-8633-3A04D96B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7D1-432F-4187-80C7-2766E789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9B2-1744-48FD-AF58-5C842EE8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8E7-3C82-43DE-9221-B3356D78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D17-1DC6-4C8E-A08F-EFE33FB5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170-914E-42D3-B793-09A6775C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14A-5854-4528-A3CD-4C938EE4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6E8-AABE-4648-B75A-1DCF90B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254-6108-426A-8DA4-F6D1968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0CB-2D3C-4C64-BF5E-120AB9B8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AF6-5989-451E-9476-78B8CF6D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AC3C-B9E8-47BC-9692-50CF52A7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617688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40840" y="6086520"/>
            <a:ext cx="49824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u C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uvoir et faciliter la coopération scientifique et technique, dans et entre les pay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r un mécanisme global permettant l’échange d’informations sur la biodiversité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r un réseau technologique et surtout hu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forcement de capacités pour les CHM nation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aux nouvelles technologies pour le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ail en réseau pour atteindre les objectifs de la CDB et du C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fondissement des connaissances déjà acqu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n</cp:lastModifiedBy>
  <dcterms:modified xsi:type="dcterms:W3CDTF">2006-11-06T05:44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