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48F0-52D5-45DC-BD86-AA34D02C9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6168-188B-4A04-AD33-F41D56A1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AC7A-0173-4971-BA45-EF7B014E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C38C-2603-4AED-9EE2-33AA14954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CE3-2BB1-43EB-BB19-AEDB0A8D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E66-D364-4E86-8CA2-A17BFA8F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6F2-370A-4C7B-B012-470BF0FE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E91-3B7A-4C4E-AB2C-6BE2E636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9DE-DCA4-4AD6-825E-45913283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06C3-7DE0-4318-AD7F-28BA77E9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B569-456E-41C1-A350-76FF2BEF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7CD8-A03F-449A-A865-CF8F3398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85B5-0562-4F40-8A39-4156C882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4C30-926D-4BF5-A9E0-8DFD2616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A6BE-536F-40CB-882B-ECDE2186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96BE-971C-4BB3-B6A3-1D1C86CE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2B0-EB17-409A-9D0A-AEA0E3C3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7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1939-9275-4FE3-8938-B4C5888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6ED6-ADBD-46C9-9C4B-A20054B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2324-A377-4E22-A41A-52DDDB75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7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09CE-3D0C-4EE9-BA5E-26034B34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24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00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1E2-E34E-4E0F-9F55-AF19E412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7B04-2C88-4095-B2EC-BC5E09E3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7EE6-CDB8-4BC6-877A-3E12C4F6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C4C7-B432-49B4-B218-20292E8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CFB2-2C22-4F83-B6AC-4F121BD2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BFBE-EE08-4734-BDAA-3AE16446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F8D-8E58-4346-85FC-FA933F0D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62BA-F7A2-47E1-B913-4599282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F116-22E0-41B0-8501-D87FC5EE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979C-F873-434B-8E08-B270B31E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06B7-63ED-40CB-8859-6158D52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711A-2DDD-45B3-90D0-71ECA04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5527-685D-4BF2-BD6D-5E618E94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5D170-CADB-41E9-A1D0-D3910773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C9D-2890-4072-A385-CF900755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544-7EDB-4E5E-A1A1-6984A2F2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CC2-810C-4155-905D-9F9F4B76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5BF-61B2-484B-9C8D-B71F564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908-C99B-46DB-97A0-EFC544E1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4E4-5D85-46A6-B1BA-D0F9CA0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6858000" y="990720"/>
            <a:ext cx="1828800" cy="182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157C-A4C4-4FA7-8233-142B1FF71CC8}" type="slidenum">
              <a:rPr b="1" lang="en-US" sz="1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3"/>
          <p:cNvSpPr/>
          <p:nvPr/>
        </p:nvSpPr>
        <p:spPr>
          <a:xfrm>
            <a:off x="762120" y="685800"/>
            <a:ext cx="0" cy="40384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215E-21C6-4D92-8411-A7AA4306A0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6858000" y="990720"/>
            <a:ext cx="1828800" cy="182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762120" y="685800"/>
            <a:ext cx="0" cy="40384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8534520" y="6095880"/>
            <a:ext cx="609480" cy="76212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762120"/>
              <a:gd name="textAreaBottom" fmla="*/ 732600 h 762120"/>
            </a:gdLst>
            <a:ahLst/>
            <a:rect l="textAreaLeft" t="textAreaTop" r="textAreaRight" b="textAreaBottom"/>
            <a:pathLst>
              <a:path w="21600" h="27006">
                <a:moveTo>
                  <a:pt x="3600" y="0"/>
                </a:moveTo>
                <a:arcTo wR="3600" hR="3600" stAng="16200000" swAng="-5400000"/>
                <a:lnTo>
                  <a:pt x="0" y="23406"/>
                </a:lnTo>
                <a:arcTo wR="3600" hR="3600" stAng="10800000" swAng="-5400000"/>
                <a:lnTo>
                  <a:pt x="18000" y="270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1625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54F-04D9-4273-A6B6-D2AB5E2B2A72}" type="slidenum">
              <a:rPr b="1" lang="en-US" sz="2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276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e"/>
                </a:solidFill>
                <a:latin typeface="Arial Narrow"/>
                <a:ea typeface="Arial Unicode MS"/>
              </a:rPr>
              <a:t>STATUS OF CHM IN TANZANIA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e"/>
                </a:solidFill>
                <a:latin typeface="Arial Narrow"/>
                <a:ea typeface="Arial Unicode MS"/>
              </a:rPr>
              <a:t>Presented at the Regional CHM Workshop, Dar Es Salaam, 9-11, Feb 2015</a:t>
            </a:r>
            <a:endParaRPr b="0" lang="en-US" sz="22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838080" y="838080"/>
            <a:ext cx="784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e"/>
                </a:solidFill>
                <a:latin typeface="Arial Narrow"/>
                <a:ea typeface="Arial Unicode MS"/>
              </a:rPr>
              <a:t>THE UNITED REPUBLIC OF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e"/>
                </a:solidFill>
                <a:latin typeface="Arial Narrow"/>
                <a:ea typeface="Arial Unicode MS"/>
              </a:rPr>
              <a:t>VICE PRESIDENT’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1629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1FD-79DD-47CE-A8B8-9150615C25FA}" type="slidenum">
              <a:rPr b="1" lang="en-US" sz="2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3000" indent="-4230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ff"/>
                </a:solidFill>
                <a:latin typeface="Arial Narrow"/>
              </a:rPr>
              <a:t>Party to CBD 1996. 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-4230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Party to Cartagena 2003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-4230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In the Process of Ratifying 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lvl="1" marL="786960" indent="-42300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 Narrow"/>
              </a:rPr>
              <a:t>Nagoya Protocol (ABS)</a:t>
            </a:r>
            <a:endParaRPr b="0" lang="en-US" sz="2600" spc="-1" strike="noStrike">
              <a:solidFill>
                <a:srgbClr val="cc3300"/>
              </a:solidFill>
              <a:latin typeface="Arial Narrow"/>
            </a:endParaRPr>
          </a:p>
          <a:p>
            <a:pPr lvl="1" marL="786960" indent="-42300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3300"/>
                </a:solidFill>
                <a:latin typeface="Arial Narrow"/>
              </a:rPr>
              <a:t>Nagoya – Kuala Lumpur Protocol (Liabilit and Redress)</a:t>
            </a:r>
            <a:endParaRPr b="0" lang="en-US" sz="2600" spc="-1" strike="noStrike">
              <a:solidFill>
                <a:srgbClr val="cc3300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-4230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NBSAP in 2001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-4230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Reviewing  NBSAP in Progress 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-4230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Completed the 5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 Narrow"/>
              </a:rPr>
              <a:t>th</a:t>
            </a: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 national Report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-42300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CHM under construction </a:t>
            </a:r>
            <a:r>
              <a:rPr b="0" lang="en-GB" sz="2000" spc="-1" strike="noStrike">
                <a:solidFill>
                  <a:srgbClr val="0000ff"/>
                </a:solidFill>
                <a:latin typeface="Arial Narrow"/>
              </a:rPr>
              <a:t>(http://www.biodiv.be/tanzania)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42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1629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025E-BF44-40C7-9B76-481CEC4817A4}" type="slidenum">
              <a:rPr b="1" lang="en-US" sz="2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oidiversity information status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5920" indent="-38592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ff"/>
                </a:solidFill>
                <a:latin typeface="Arial Narrow"/>
              </a:rPr>
              <a:t>Establishment of National CHM (National CHM under construction)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-38592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ff"/>
                </a:solidFill>
                <a:latin typeface="Arial Narrow"/>
              </a:rPr>
              <a:t>BCH established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-38592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ff"/>
                </a:solidFill>
                <a:latin typeface="Arial Narrow"/>
              </a:rPr>
              <a:t>ABS  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-38592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ff"/>
                </a:solidFill>
                <a:latin typeface="Arial Narrow"/>
              </a:rPr>
              <a:t>Biodiversity related websites in place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85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CBD related websites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1629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CAEB-ECBB-45F8-9778-88492D1AB0C3}" type="slidenum">
              <a:rPr b="1" lang="en-US" sz="2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71629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5838-64A7-4193-9599-EBCB328D45BE}" type="slidenum">
              <a:rPr b="1" lang="en-US" sz="2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286000" y="2274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ational CHM under constr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iodiversity related website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CH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 algn="just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nitiatives to stablish National CHM (National CHM under constru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 Narrow"/>
              </a:rPr>
              <a:t>Progress since last workshop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44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Joined the CHM partnership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Training in Belgium 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National CHM established (Under construction 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Hosting the regional workshop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 Narrow"/>
              </a:rPr>
              <a:t>National CHM Stakeholders Workshop f</a:t>
            </a: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1629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2851-ED38-4A34-988F-3DDBC7F2D9D7}" type="slidenum">
              <a:rPr b="1" lang="en-US" sz="2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16292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11E-D818-4EAA-8FED-49BF6D273B81}" type="slidenum">
              <a:rPr b="1" lang="en-US" sz="2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xpectation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62388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ff"/>
              </a:solidFill>
              <a:latin typeface="Arial Narrow"/>
            </a:endParaRPr>
          </a:p>
          <a:p>
            <a:pPr marL="623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62388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600" spc="-1" strike="noStrike">
              <a:solidFill>
                <a:srgbClr val="0000ff"/>
              </a:solidFill>
              <a:latin typeface="Arial Narrow"/>
            </a:endParaRPr>
          </a:p>
          <a:p>
            <a:pPr marL="623880" indent="-623880" algn="just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62388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ZA" sz="4000" spc="-1" strike="noStrike">
                <a:solidFill>
                  <a:srgbClr val="0000ff"/>
                </a:solidFill>
                <a:latin typeface="Arial Narrow"/>
              </a:rPr>
              <a:t>Share experience necessary for maintenance of effective National CHM</a:t>
            </a:r>
            <a:endParaRPr b="0" lang="en-US" sz="4000" spc="-1" strike="noStrike">
              <a:solidFill>
                <a:srgbClr val="0000ff"/>
              </a:solidFill>
              <a:latin typeface="Arial Narrow"/>
            </a:endParaRPr>
          </a:p>
          <a:p>
            <a:pPr marL="623880" indent="-623880" algn="just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62388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ZA" sz="4000" spc="-1" strike="noStrike">
                <a:solidFill>
                  <a:srgbClr val="0000ff"/>
                </a:solidFill>
                <a:latin typeface="Arial Narrow"/>
              </a:rPr>
              <a:t>experience for applications for the other partnership programme</a:t>
            </a:r>
            <a:endParaRPr b="0" lang="en-US" sz="4000" spc="-1" strike="noStrike">
              <a:solidFill>
                <a:srgbClr val="0000ff"/>
              </a:solidFill>
              <a:latin typeface="Arial Narrow"/>
            </a:endParaRPr>
          </a:p>
          <a:p>
            <a:pPr marL="6238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62388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4000" spc="-1" strike="noStrike">
              <a:solidFill>
                <a:srgbClr val="00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2590560"/>
            <a:ext cx="556272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ank you for your attention</a:t>
            </a:r>
            <a:endParaRPr b="1" lang="en-US" sz="3600" spc="-1" strike="noStrike">
              <a:solidFill>
                <a:srgbClr val="cc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09:52:26Z</dcterms:created>
  <dc:creator>ENVIRONMENT</dc:creator>
  <dc:description/>
  <dc:language>en-US</dc:language>
  <cp:lastModifiedBy>User</cp:lastModifiedBy>
  <dcterms:modified xsi:type="dcterms:W3CDTF">2015-03-09T06:01:31Z</dcterms:modified>
  <cp:revision>342</cp:revision>
  <dc:subject/>
  <dc:title>FD</dc:title>
</cp:coreProperties>
</file>