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3B77-DC08-411D-8364-0DD1BFE7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D473-ADEB-44BA-BEE3-B858DA87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5508-4BB4-4FDD-A350-8F2AF35C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29EE-B5A2-4828-9CE3-609B7E44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D56A-F8EE-42D9-89A9-23F6492E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763D-E76C-4FEA-A4CD-DD7E99DB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6113-2275-4EC8-A30E-85BDA769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67D-678E-400C-8D83-C7864415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280-6177-4118-8542-6E5D7CD2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1A07-A26A-4291-8375-0E0DD80F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D52C-3D48-4BF2-AC21-3385A21B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3232-FD19-4647-B410-9CE48C71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D50D-8FEE-4ABD-B72C-A405ED85B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ESENTATION ON THE STATUS OF GHANA BIODIVERSITY CLEARING HOUSE MECHANISM (CHM)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ESENTATION AT THE </a:t>
            </a:r>
            <a:br>
              <a:rPr sz="2200"/>
            </a:b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 CHM ANGLOPHONE PARTNERS WORKSHOP- TANZANIA</a:t>
            </a:r>
            <a:br>
              <a:rPr sz="2200"/>
            </a:b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12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RCH, 2015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RRENT SIT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88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ITUTIONAL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200400" y="2286000"/>
            <a:ext cx="2666880" cy="685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ESTI/NF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581280" y="3581280"/>
            <a:ext cx="152424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NB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own Arrow 13"/>
          <p:cNvSpPr/>
          <p:nvPr/>
        </p:nvSpPr>
        <p:spPr>
          <a:xfrm>
            <a:off x="4343400" y="2971800"/>
            <a:ext cx="76320" cy="6858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380880" y="4724280"/>
            <a:ext cx="8305920" cy="533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wn Arrow 15"/>
          <p:cNvSpPr/>
          <p:nvPr/>
        </p:nvSpPr>
        <p:spPr>
          <a:xfrm>
            <a:off x="4343400" y="4038480"/>
            <a:ext cx="122400" cy="685800"/>
          </a:xfrm>
          <a:prstGeom prst="downArrow">
            <a:avLst>
              <a:gd name="adj1" fmla="val 50000"/>
              <a:gd name="adj2" fmla="val 499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6"/>
          <p:cNvSpPr/>
          <p:nvPr/>
        </p:nvSpPr>
        <p:spPr>
          <a:xfrm>
            <a:off x="304920" y="6019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8"/>
          <p:cNvSpPr/>
          <p:nvPr/>
        </p:nvSpPr>
        <p:spPr>
          <a:xfrm>
            <a:off x="2209680" y="6019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FN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9"/>
          <p:cNvSpPr/>
          <p:nvPr/>
        </p:nvSpPr>
        <p:spPr>
          <a:xfrm flipH="1">
            <a:off x="3733200" y="6019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0"/>
          <p:cNvSpPr/>
          <p:nvPr/>
        </p:nvSpPr>
        <p:spPr>
          <a:xfrm>
            <a:off x="5257800" y="6019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6781680" y="6019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own Arrow 22"/>
          <p:cNvSpPr/>
          <p:nvPr/>
        </p:nvSpPr>
        <p:spPr>
          <a:xfrm>
            <a:off x="838080" y="5257800"/>
            <a:ext cx="46080" cy="762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own Arrow 23"/>
          <p:cNvSpPr/>
          <p:nvPr/>
        </p:nvSpPr>
        <p:spPr>
          <a:xfrm>
            <a:off x="2743200" y="5257800"/>
            <a:ext cx="46080" cy="762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own Arrow 24"/>
          <p:cNvSpPr/>
          <p:nvPr/>
        </p:nvSpPr>
        <p:spPr>
          <a:xfrm>
            <a:off x="4343400" y="5334120"/>
            <a:ext cx="46080" cy="76176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wn Arrow 25"/>
          <p:cNvSpPr/>
          <p:nvPr/>
        </p:nvSpPr>
        <p:spPr>
          <a:xfrm>
            <a:off x="5638680" y="5257800"/>
            <a:ext cx="76320" cy="838080"/>
          </a:xfrm>
          <a:prstGeom prst="downArrow">
            <a:avLst>
              <a:gd name="adj1" fmla="val 50000"/>
              <a:gd name="adj2" fmla="val 499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own Arrow 26"/>
          <p:cNvSpPr/>
          <p:nvPr/>
        </p:nvSpPr>
        <p:spPr>
          <a:xfrm>
            <a:off x="7543800" y="5257800"/>
            <a:ext cx="76320" cy="838080"/>
          </a:xfrm>
          <a:prstGeom prst="downArrow">
            <a:avLst>
              <a:gd name="adj1" fmla="val 50000"/>
              <a:gd name="adj2" fmla="val 499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CURRENT AVAILABLE CAPACITY TO DEVELOP AND MAINTAIN THE NATIONAL C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INCLUDE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M-NFP about to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.T unit with one personnel having some understanding of the C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ed contributors available in the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alibri"/>
              </a:rPr>
              <a:t>CHALLENGES AND HOW WE ARE COPING WITH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more staff have been add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active national contribu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tos yet to be upload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500" spc="-1" strike="noStrike">
                <a:solidFill>
                  <a:srgbClr val="000000"/>
                </a:solidFill>
                <a:latin typeface="Calibri"/>
              </a:rPr>
              <a:t>HOW TO DEVELOP THE NATIONAL CHM EFFECTIVELY IN ORDER TO SUPPORT THE IMPLEMENTATION OF GHANA’S NBSA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inistry needs to provide adequate budget for the CH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 dedication on the part of the CHM staf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the need to retrain and strengthen the network of the national contribu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00000"/>
                </a:solidFill>
                <a:latin typeface="Calibri"/>
              </a:rPr>
              <a:t>WHAT WE INTEND DOING TO ENHANCE THE CHM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ve and motivate contributors to be acti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a communication strategy for the CHM in Gha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 the capacity of staff and contribu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5T08:00:32Z</dcterms:created>
  <dc:creator>mr-okoree</dc:creator>
  <dc:description/>
  <dc:language>en-US</dc:language>
  <cp:lastModifiedBy>mr-okoree</cp:lastModifiedBy>
  <dcterms:modified xsi:type="dcterms:W3CDTF">2015-03-10T15:55:43Z</dcterms:modified>
  <cp:revision>43</cp:revision>
  <dc:subject/>
  <dc:title>PRESENTATION ON GHANA BIODIVERSITY CLEARING HOUSE MECHANISM (CHM) AFRICA REGIONAL CHM TRAINING WORKSHOP, BUEA CAMEROUN  ERIC AMANING OKOREE</dc:title>
</cp:coreProperties>
</file>