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948488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6600" y="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660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67036B3-3FA9-413B-85F8-EFE32A87C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554DB956-120F-4573-8D58-09E77F6A63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9008146-D609-4B95-AA1B-FE0A261FB2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843CA99-8DBF-4133-815B-040977587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909F1DF1-0CD4-462E-819B-961A74F6E3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0EBA2801-1D64-4A72-92C5-8B3E615495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936960" y="8820000"/>
            <a:ext cx="300996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tabLst>
                <a:tab algn="l" pos="0"/>
                <a:tab algn="l" pos="927000"/>
                <a:tab algn="l" pos="1854360"/>
                <a:tab algn="l" pos="2781360"/>
                <a:tab algn="l" pos="3708360"/>
                <a:tab algn="l" pos="4635360"/>
                <a:tab algn="l" pos="5562720"/>
                <a:tab algn="l" pos="6489720"/>
                <a:tab algn="l" pos="7416720"/>
                <a:tab algn="l" pos="8344080"/>
                <a:tab algn="l" pos="9271080"/>
                <a:tab algn="l" pos="10198080"/>
              </a:tabLst>
            </a:pPr>
            <a:fld id="{292CB88F-0322-42EE-9C91-032A7B36CC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236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25200" y="4410000"/>
            <a:ext cx="5095800" cy="41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E4A3-6BC2-4377-B04B-47D8A007D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1E38-E9F0-480C-9EF2-C95DB381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F449-1433-47E2-AEAD-6FBF1B35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EAF3-6886-4BF7-BE0D-82A9F465F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8D9E-4E4A-4005-A835-250D3CE64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681D8-6B87-454E-A397-E370289B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458AE-7475-4599-9251-DCD307F40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C4D5-C7C6-4EC0-938A-4EB1982AE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17ED6-44B1-44C8-8AE6-802C14B88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DFB6-019B-4BB4-946A-D2D405D0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705A6-C6AC-490E-AFC9-C83907D2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878C-2C8A-4A4D-BDCF-A6D52BE24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7922-6504-45A5-9DE4-EA7D9744C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0EC0-43A1-48A8-99A7-67F098EC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12CFB-AC68-4BAF-81F3-70938236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0817-D342-4856-81BB-C6E1B9090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4824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53560" y="130464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042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4824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53560" y="3861720"/>
            <a:ext cx="24811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E4554-F81A-4E87-9A79-9DFADEE444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B095-AC0E-427C-AF42-FD9746EAB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6FE7-2106-41FD-9E23-B56EA88EE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5DD7-1360-4205-9717-43717D6B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2560" y="225000"/>
            <a:ext cx="7705800" cy="400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0968-293B-4E89-84D8-0F1BCA212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4A70-6AF7-4430-82D7-563A6E7B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1040" y="386172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373F-49E2-4F93-B783-19FCC7E19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4256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1040" y="1304640"/>
            <a:ext cx="37602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42560" y="3861720"/>
            <a:ext cx="77058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AF257-7643-4D73-AF0B-52141CE2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42560" y="6308640"/>
            <a:ext cx="18385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53880" y="6308640"/>
            <a:ext cx="363708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Année universitaire 2012-2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43600" y="6308640"/>
            <a:ext cx="1905120" cy="34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64D64-A2EF-4F5D-A0AD-62ACF94497C2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042560" y="1304640"/>
            <a:ext cx="77058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Century Schoolboo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1225440" y="62006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303720" y="6200640"/>
            <a:ext cx="3636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Année universitaire 2012-201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92720" y="62006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D7AC4-89A6-4567-ADE3-783A93856B22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520" y="1828800"/>
            <a:ext cx="5952960" cy="23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romotion de la coopération sous régionale pour la mise en oeuvre du CHM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581280" y="4184280"/>
            <a:ext cx="518184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Présentation : Sidi DIALLO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entury Schoolbook"/>
              </a:rPr>
              <a:t>Suppléant point Focal  CHM Mali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91" name="Image 1" descr=""/>
          <p:cNvPicPr/>
          <p:nvPr/>
        </p:nvPicPr>
        <p:blipFill>
          <a:blip r:embed="rId1"/>
          <a:stretch/>
        </p:blipFill>
        <p:spPr>
          <a:xfrm>
            <a:off x="7877160" y="0"/>
            <a:ext cx="1266840" cy="1289160"/>
          </a:xfrm>
          <a:prstGeom prst="rect">
            <a:avLst/>
          </a:prstGeom>
          <a:ln w="0">
            <a:noFill/>
          </a:ln>
        </p:spPr>
      </p:pic>
    </p:spTree>
  </p:cSld>
  <p:transition spd="slow">
    <p:pull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1042560" y="1304640"/>
            <a:ext cx="7705800" cy="509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entury Schoolbook"/>
              </a:rPr>
              <a:t>Plan de l’exposé</a:t>
            </a:r>
            <a:endParaRPr b="0" lang="en-US" sz="4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Historique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Difficulté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entury School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Perspectives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3" name="Espace réservé du pied de page 3"/>
          <p:cNvSpPr/>
          <p:nvPr/>
        </p:nvSpPr>
        <p:spPr>
          <a:xfrm>
            <a:off x="3054240" y="6308640"/>
            <a:ext cx="3637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Promotion de la coopération sous régionale pour la mise en oeuvre du C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Espace réservé du numéro de diapositive 4"/>
          <p:cNvSpPr/>
          <p:nvPr/>
        </p:nvSpPr>
        <p:spPr>
          <a:xfrm>
            <a:off x="6843600" y="6308640"/>
            <a:ext cx="1905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CF7D5-CF4C-420E-8831-B49126CD4258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533520" y="243828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6705720" y="266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56756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Schoolbook"/>
              </a:rPr>
              <a:t>Nomination du point focal Mali  2006. Depuis le Mali a beneficié de: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Schoolbook"/>
              </a:rPr>
              <a:t>Plusieurs formations sur l’outil de Gestion de Sit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Schoolbook"/>
              </a:rPr>
              <a:t>Financement en 2009 de l’atelier  sensibilisation du grand public sur la diversité biologique intitule « sauvons les zones humides du mali »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Schoolbook"/>
              </a:rPr>
              <a:t>Financement pour équiper le Point Focal CHM en 2014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Espace réservé du pied de page 6"/>
          <p:cNvSpPr/>
          <p:nvPr/>
        </p:nvSpPr>
        <p:spPr>
          <a:xfrm>
            <a:off x="3054240" y="6308640"/>
            <a:ext cx="3637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Promotion de la coopération sous régionale pour la mise en oeuvre du C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Espace réservé du numéro de diapositive 7"/>
          <p:cNvSpPr/>
          <p:nvPr/>
        </p:nvSpPr>
        <p:spPr>
          <a:xfrm>
            <a:off x="6843600" y="6308640"/>
            <a:ext cx="1905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D7130-AEE3-412F-AE0C-0B47106A7835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3"/>
          <p:cNvSpPr/>
          <p:nvPr/>
        </p:nvSpPr>
        <p:spPr>
          <a:xfrm>
            <a:off x="533520" y="2438280"/>
            <a:ext cx="44956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705720" y="266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Difficultés de mise en oeuvre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980720"/>
            <a:ext cx="7567560" cy="33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Schoolbook"/>
              </a:rPr>
              <a:t>Organisation interne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Schoolbook"/>
              </a:rPr>
              <a:t>Aucune désignation officielle du  Gestionnaire CHM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Schoolbook"/>
              </a:rPr>
              <a:t>Pas de suivi au niveau institutionnel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5" name="Espace réservé du pied de page 6"/>
          <p:cNvSpPr/>
          <p:nvPr/>
        </p:nvSpPr>
        <p:spPr>
          <a:xfrm>
            <a:off x="3054240" y="6308640"/>
            <a:ext cx="3637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Promotion de la coopération sous régionale pour la mise en oeuvre du C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Espace réservé du numéro de diapositive 7"/>
          <p:cNvSpPr/>
          <p:nvPr/>
        </p:nvSpPr>
        <p:spPr>
          <a:xfrm>
            <a:off x="6843600" y="6308640"/>
            <a:ext cx="1905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D264-CE65-424A-93A5-C3398E4B9433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6705720" y="266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42560" y="225000"/>
            <a:ext cx="7705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entury Schoolbook"/>
              </a:rPr>
              <a:t>Perspectives</a:t>
            </a:r>
            <a:endParaRPr b="0" lang="en-US" sz="32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762200"/>
            <a:ext cx="876312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Schoolbook"/>
              </a:rPr>
              <a:t>Nomination imminente d’un nouveau point focal CHM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Schoolbook"/>
              </a:rPr>
              <a:t>Demande de partenariat officiel au point focal CHM Belge (déjà notifié)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entury Schoolbook"/>
              </a:rPr>
              <a:t>Remise à niveau du Gestionnaire CHM Mali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0" name="Espace réservé du pied de page 5"/>
          <p:cNvSpPr/>
          <p:nvPr/>
        </p:nvSpPr>
        <p:spPr>
          <a:xfrm>
            <a:off x="3054240" y="6308640"/>
            <a:ext cx="3637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Promotion de la coopération sous régionale pour la mise en oeuvre du C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Espace réservé du numéro de diapositive 6"/>
          <p:cNvSpPr/>
          <p:nvPr/>
        </p:nvSpPr>
        <p:spPr>
          <a:xfrm>
            <a:off x="6843600" y="6308640"/>
            <a:ext cx="1905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9F414-F3AE-42BA-8150-211601DB2CBB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5"/>
          <p:cNvSpPr/>
          <p:nvPr/>
        </p:nvSpPr>
        <p:spPr>
          <a:xfrm>
            <a:off x="6705720" y="2666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380880" y="1305000"/>
            <a:ext cx="8763120" cy="494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9600" spc="-1" strike="noStrike">
                <a:solidFill>
                  <a:srgbClr val="000000"/>
                </a:solidFill>
                <a:latin typeface="Angsana New"/>
                <a:ea typeface="Angsana New"/>
              </a:rPr>
              <a:t>Merci de votre attention!</a:t>
            </a:r>
            <a:endParaRPr b="0" lang="en-US" sz="96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4" name="Espace réservé du pied de page 5"/>
          <p:cNvSpPr/>
          <p:nvPr/>
        </p:nvSpPr>
        <p:spPr>
          <a:xfrm>
            <a:off x="3054240" y="6308640"/>
            <a:ext cx="363708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Promotion de la coopération sous régionale pour la mise en oeuvre du C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Espace réservé du numéro de diapositive 6"/>
          <p:cNvSpPr/>
          <p:nvPr/>
        </p:nvSpPr>
        <p:spPr>
          <a:xfrm>
            <a:off x="6843600" y="6308640"/>
            <a:ext cx="190512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4FB5-060D-41A7-AEAB-7DAF02A249CE}" type="slidenum">
              <a:rPr b="0" lang="en-US" sz="1000" spc="-1" strike="noStrike">
                <a:solidFill>
                  <a:srgbClr val="000000"/>
                </a:solidFill>
                <a:latin typeface="Century Schoolbook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ull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3T06:04:06Z</dcterms:created>
  <dc:creator>Erik</dc:creator>
  <dc:description/>
  <dc:language>en-US</dc:language>
  <cp:lastModifiedBy>Sidi</cp:lastModifiedBy>
  <dcterms:modified xsi:type="dcterms:W3CDTF">2014-11-25T08:11:36Z</dcterms:modified>
  <cp:revision>218</cp:revision>
  <dc:subject/>
  <dc:title>Name of Your Country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83711033</vt:lpwstr>
  </property>
</Properties>
</file>